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8.xml" ContentType="application/vnd.openxmlformats-officedocument.drawingml.diagramData+xml"/>
  <Override PartName="/ppt/diagrams/colors7.xml" ContentType="application/vnd.openxmlformats-officedocument.drawingml.diagramColors+xml"/>
  <Override PartName="/ppt/diagrams/data7.xml" ContentType="application/vnd.openxmlformats-officedocument.drawingml.diagramData+xml"/>
  <Override PartName="/ppt/diagrams/quickStyle7.xml" ContentType="application/vnd.openxmlformats-officedocument.drawingml.diagramStyle+xml"/>
  <Override PartName="/ppt/diagrams/colors6.xml" ContentType="application/vnd.openxmlformats-officedocument.drawingml.diagramColors+xml"/>
  <Override PartName="/ppt/diagrams/layout6.xml" ContentType="application/vnd.openxmlformats-officedocument.drawingml.diagramLayout+xml"/>
  <Override PartName="/ppt/diagrams/data6.xml" ContentType="application/vnd.openxmlformats-officedocument.drawingml.diagramData+xml"/>
  <Override PartName="/ppt/diagrams/quickStyle6.xml" ContentType="application/vnd.openxmlformats-officedocument.drawingml.diagramStyle+xml"/>
  <Override PartName="/ppt/diagrams/colors5.xml" ContentType="application/vnd.openxmlformats-officedocument.drawingml.diagramColors+xml"/>
  <Override PartName="/ppt/diagrams/layout5.xml" ContentType="application/vnd.openxmlformats-officedocument.drawingml.diagramLayout+xml"/>
  <Override PartName="/ppt/diagrams/data5.xml" ContentType="application/vnd.openxmlformats-officedocument.drawingml.diagramData+xml"/>
  <Override PartName="/ppt/diagrams/quickStyle4.xml" ContentType="application/vnd.openxmlformats-officedocument.drawingml.diagramStyle+xml"/>
  <Override PartName="/ppt/diagrams/colors3.xml" ContentType="application/vnd.openxmlformats-officedocument.drawingml.diagramColors+xml"/>
  <Override PartName="/ppt/diagrams/layout8.xml" ContentType="application/vnd.openxmlformats-officedocument.drawingml.diagramLayout+xml"/>
  <Override PartName="/ppt/diagrams/data2.xml" ContentType="application/vnd.openxmlformats-officedocument.drawingml.diagramData+xml"/>
  <Override PartName="/ppt/diagrams/layout9.xml" ContentType="application/vnd.openxmlformats-officedocument.drawingml.diagramLayout+xml"/>
  <Override PartName="/ppt/diagrams/data3.xml" ContentType="application/vnd.openxmlformats-officedocument.drawingml.diagramData+xml"/>
  <Override PartName="/ppt/diagrams/quickStyle9.xml" ContentType="application/vnd.openxmlformats-officedocument.drawingml.diagramStyle+xml"/>
  <Override PartName="/ppt/diagrams/colors8.xml" ContentType="application/vnd.openxmlformats-officedocument.drawingml.diagramColors+xml"/>
  <Override PartName="/ppt/diagrams/colors9.xml" ContentType="application/vnd.openxmlformats-officedocument.drawingml.diagramColors+xml"/>
  <Override PartName="/ppt/diagrams/layout2.xml" ContentType="application/vnd.openxmlformats-officedocument.drawingml.diagramLayout+xml"/>
  <Override PartName="/ppt/diagrams/data4.xml" ContentType="application/vnd.openxmlformats-officedocument.drawingml.diagramData+xml"/>
  <Override PartName="/ppt/diagrams/data10.xml" ContentType="application/vnd.openxmlformats-officedocument.drawingml.diagramData+xml"/>
  <Override PartName="/ppt/diagrams/quickStyle10.xml" ContentType="application/vnd.openxmlformats-officedocument.drawingml.diagramStyle+xml"/>
  <Override PartName="/ppt/diagrams/quickStyle1.xml" ContentType="application/vnd.openxmlformats-officedocument.drawingml.diagramStyle+xml"/>
  <Override PartName="/ppt/diagrams/quickStyle8.xml" ContentType="application/vnd.openxmlformats-officedocument.drawingml.diagramStyle+xml"/>
  <Override PartName="/ppt/diagrams/layout10.xml" ContentType="application/vnd.openxmlformats-officedocument.drawingml.diagramLayout+xml"/>
  <Override PartName="/ppt/diagrams/quickStyle2.xml" ContentType="application/vnd.openxmlformats-officedocument.drawingml.diagramStyle+xml"/>
  <Override PartName="/ppt/diagrams/colors1.xml" ContentType="application/vnd.openxmlformats-officedocument.drawingml.diagramColors+xml"/>
  <Override PartName="/ppt/diagrams/quickStyle3.xml" ContentType="application/vnd.openxmlformats-officedocument.drawingml.diagramStyle+xml"/>
  <Override PartName="/ppt/diagrams/colors2.xml" ContentType="application/vnd.openxmlformats-officedocument.drawingml.diagramColors+xml"/>
  <Override PartName="/ppt/diagrams/layout3.xml" ContentType="application/vnd.openxmlformats-officedocument.drawingml.diagramLayout+xml"/>
  <Override PartName="/ppt/diagrams/layout1.xml" ContentType="application/vnd.openxmlformats-officedocument.drawingml.diagramLayout+xml"/>
  <Override PartName="/ppt/diagrams/data9.xml" ContentType="application/vnd.openxmlformats-officedocument.drawingml.diagramData+xml"/>
  <Override PartName="/ppt/diagrams/data1.xml" ContentType="application/vnd.openxmlformats-officedocument.drawingml.diagramData+xml"/>
  <Override PartName="/ppt/diagrams/layout7.xml" ContentType="application/vnd.openxmlformats-officedocument.drawingml.diagramLayout+xml"/>
  <Override PartName="/ppt/diagrams/layout4.xml" ContentType="application/vnd.openxmlformats-officedocument.drawingml.diagramLayout+xml"/>
  <Override PartName="/ppt/diagrams/colors4.xml" ContentType="application/vnd.openxmlformats-officedocument.drawingml.diagramColors+xml"/>
  <Override PartName="/ppt/diagrams/colors10.xml" ContentType="application/vnd.openxmlformats-officedocument.drawingml.diagramColors+xml"/>
  <Override PartName="/ppt/diagrams/quickStyle5.xml" ContentType="application/vnd.openxmlformats-officedocument.drawingml.diagramStyl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10.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8.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9.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6C82F69C-1AB3-4849-8BF0-60998877CC0C}"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es-ES"/>
        </a:p>
      </dgm:t>
    </dgm:pt>
    <dgm:pt modelId="{83C99878-C064-4EB2-9AAF-B9E4C484FB38}">
      <dgm:prSet phldrT="[Texto]" custT="1"/>
      <dgm:spPr/>
      <dgm:t>
        <a:bodyPr/>
        <a:lstStyle/>
        <a:p>
          <a:r>
            <a:rPr lang="es-ES" sz="1600" dirty="0" smtClean="0"/>
            <a:t>Director general </a:t>
          </a:r>
        </a:p>
        <a:p>
          <a:r>
            <a:rPr lang="es-ES" sz="1600" dirty="0" smtClean="0"/>
            <a:t>( Manuel Montes </a:t>
          </a:r>
          <a:r>
            <a:rPr lang="es-ES" sz="1600" dirty="0" err="1" smtClean="0"/>
            <a:t>Marin</a:t>
          </a:r>
          <a:r>
            <a:rPr lang="es-ES" sz="1600" dirty="0" smtClean="0"/>
            <a:t>)</a:t>
          </a:r>
          <a:endParaRPr lang="es-ES" sz="1600" dirty="0"/>
        </a:p>
      </dgm:t>
    </dgm:pt>
    <dgm:pt modelId="{2F639ED6-2B64-4AE8-B9FA-B0DE1F74C048}" type="parTrans" cxnId="{DAB5ED72-2F4A-4443-8761-032133381BB6}">
      <dgm:prSet/>
      <dgm:spPr/>
      <dgm:t>
        <a:bodyPr/>
        <a:lstStyle/>
        <a:p>
          <a:endParaRPr lang="es-ES"/>
        </a:p>
      </dgm:t>
    </dgm:pt>
    <dgm:pt modelId="{220DD4B4-D8A8-46CA-81A5-B1BB23A3384B}" type="sibTrans" cxnId="{DAB5ED72-2F4A-4443-8761-032133381BB6}">
      <dgm:prSet/>
      <dgm:spPr/>
      <dgm:t>
        <a:bodyPr/>
        <a:lstStyle/>
        <a:p>
          <a:endParaRPr lang="es-ES"/>
        </a:p>
      </dgm:t>
    </dgm:pt>
    <dgm:pt modelId="{759439FF-EBF0-420C-A4E1-BCEBB9F0C616}">
      <dgm:prSet phldrT="[Texto]" custT="1"/>
      <dgm:spPr/>
      <dgm:t>
        <a:bodyPr/>
        <a:lstStyle/>
        <a:p>
          <a:r>
            <a:rPr lang="es-ES" sz="1600" dirty="0" smtClean="0"/>
            <a:t>Responsable de contabilidad</a:t>
          </a:r>
        </a:p>
        <a:p>
          <a:r>
            <a:rPr lang="es-ES" sz="1600" dirty="0" smtClean="0"/>
            <a:t>(José Zamora)</a:t>
          </a:r>
          <a:endParaRPr lang="es-ES" sz="1600" dirty="0"/>
        </a:p>
      </dgm:t>
    </dgm:pt>
    <dgm:pt modelId="{8C2D3647-D8C8-45DE-AB67-189AD5B0C77D}" type="parTrans" cxnId="{E86D69DC-AFC0-4BE8-BC7D-C08AFEFF8699}">
      <dgm:prSet/>
      <dgm:spPr/>
      <dgm:t>
        <a:bodyPr/>
        <a:lstStyle/>
        <a:p>
          <a:endParaRPr lang="es-ES" dirty="0"/>
        </a:p>
      </dgm:t>
    </dgm:pt>
    <dgm:pt modelId="{C742E7AD-D4FB-4E08-9255-0908D50781B1}" type="sibTrans" cxnId="{E86D69DC-AFC0-4BE8-BC7D-C08AFEFF8699}">
      <dgm:prSet/>
      <dgm:spPr/>
      <dgm:t>
        <a:bodyPr/>
        <a:lstStyle/>
        <a:p>
          <a:endParaRPr lang="es-ES"/>
        </a:p>
      </dgm:t>
    </dgm:pt>
    <dgm:pt modelId="{39456647-C787-4CC7-B777-102C8260AAAC}">
      <dgm:prSet phldrT="[Texto]" custT="1"/>
      <dgm:spPr/>
      <dgm:t>
        <a:bodyPr/>
        <a:lstStyle/>
        <a:p>
          <a:r>
            <a:rPr lang="es-ES" sz="1600" dirty="0" smtClean="0"/>
            <a:t>Responsable</a:t>
          </a:r>
        </a:p>
        <a:p>
          <a:r>
            <a:rPr lang="es-ES" sz="1600" dirty="0" smtClean="0"/>
            <a:t> de</a:t>
          </a:r>
        </a:p>
        <a:p>
          <a:r>
            <a:rPr lang="es-ES" sz="1600" dirty="0" smtClean="0"/>
            <a:t> compras</a:t>
          </a:r>
          <a:endParaRPr lang="es-ES" sz="1600" dirty="0"/>
        </a:p>
      </dgm:t>
    </dgm:pt>
    <dgm:pt modelId="{B78DF6CB-E841-42C7-B2D1-D69DF493C66E}" type="parTrans" cxnId="{8BC83D44-D0B5-4953-9E8F-A18DAAB0492C}">
      <dgm:prSet/>
      <dgm:spPr/>
      <dgm:t>
        <a:bodyPr/>
        <a:lstStyle/>
        <a:p>
          <a:endParaRPr lang="es-ES" dirty="0"/>
        </a:p>
      </dgm:t>
    </dgm:pt>
    <dgm:pt modelId="{EDBE8DE3-B246-4194-9DDE-B7F9104CE1FE}" type="sibTrans" cxnId="{8BC83D44-D0B5-4953-9E8F-A18DAAB0492C}">
      <dgm:prSet/>
      <dgm:spPr/>
      <dgm:t>
        <a:bodyPr/>
        <a:lstStyle/>
        <a:p>
          <a:endParaRPr lang="es-ES"/>
        </a:p>
      </dgm:t>
    </dgm:pt>
    <dgm:pt modelId="{343420BD-6A73-4E21-B971-65D8B99EDB5E}">
      <dgm:prSet custT="1"/>
      <dgm:spPr/>
      <dgm:t>
        <a:bodyPr/>
        <a:lstStyle/>
        <a:p>
          <a:r>
            <a:rPr lang="es-ES" sz="1600" dirty="0" smtClean="0"/>
            <a:t>Responsable </a:t>
          </a:r>
        </a:p>
        <a:p>
          <a:r>
            <a:rPr lang="es-ES" sz="1600" dirty="0" smtClean="0"/>
            <a:t>de </a:t>
          </a:r>
        </a:p>
        <a:p>
          <a:r>
            <a:rPr lang="es-ES" sz="1600" dirty="0" smtClean="0"/>
            <a:t>producción</a:t>
          </a:r>
        </a:p>
        <a:p>
          <a:r>
            <a:rPr lang="es-ES" sz="1600" dirty="0" smtClean="0"/>
            <a:t>( José Miguel Jiménez)</a:t>
          </a:r>
          <a:endParaRPr lang="es-ES" sz="1600" dirty="0"/>
        </a:p>
      </dgm:t>
    </dgm:pt>
    <dgm:pt modelId="{D99C26BB-5993-4833-AC05-01CD83DAD6BC}" type="parTrans" cxnId="{F2E6FABC-5F1B-499D-942E-31739BD1C515}">
      <dgm:prSet/>
      <dgm:spPr/>
      <dgm:t>
        <a:bodyPr/>
        <a:lstStyle/>
        <a:p>
          <a:endParaRPr lang="es-ES" dirty="0"/>
        </a:p>
      </dgm:t>
    </dgm:pt>
    <dgm:pt modelId="{CECCB7E4-3573-48C7-A00C-9473A68F19DA}" type="sibTrans" cxnId="{F2E6FABC-5F1B-499D-942E-31739BD1C515}">
      <dgm:prSet/>
      <dgm:spPr/>
      <dgm:t>
        <a:bodyPr/>
        <a:lstStyle/>
        <a:p>
          <a:endParaRPr lang="es-ES"/>
        </a:p>
      </dgm:t>
    </dgm:pt>
    <dgm:pt modelId="{C56C41AF-A9A3-4479-8C7D-8E1BD4AE74A8}">
      <dgm:prSet custT="1"/>
      <dgm:spPr/>
      <dgm:t>
        <a:bodyPr/>
        <a:lstStyle/>
        <a:p>
          <a:r>
            <a:rPr lang="es-ES" sz="1600" dirty="0" smtClean="0"/>
            <a:t>Responsable de</a:t>
          </a:r>
        </a:p>
        <a:p>
          <a:r>
            <a:rPr lang="es-ES" sz="1600" dirty="0" smtClean="0"/>
            <a:t> I + D</a:t>
          </a:r>
        </a:p>
        <a:p>
          <a:r>
            <a:rPr lang="es-ES" sz="1600" dirty="0" smtClean="0"/>
            <a:t>(José Antonio Torres)</a:t>
          </a:r>
        </a:p>
        <a:p>
          <a:endParaRPr lang="es-ES" sz="1400" dirty="0"/>
        </a:p>
      </dgm:t>
    </dgm:pt>
    <dgm:pt modelId="{25237163-8D64-4EC6-9180-3E672971DE14}" type="parTrans" cxnId="{AB7BE7E1-4E77-4CBB-97EB-96536AAEE64F}">
      <dgm:prSet/>
      <dgm:spPr/>
      <dgm:t>
        <a:bodyPr/>
        <a:lstStyle/>
        <a:p>
          <a:endParaRPr lang="es-ES" dirty="0"/>
        </a:p>
      </dgm:t>
    </dgm:pt>
    <dgm:pt modelId="{CEC42052-8A8D-42E0-957E-43A3ED63B17E}" type="sibTrans" cxnId="{AB7BE7E1-4E77-4CBB-97EB-96536AAEE64F}">
      <dgm:prSet/>
      <dgm:spPr/>
      <dgm:t>
        <a:bodyPr/>
        <a:lstStyle/>
        <a:p>
          <a:endParaRPr lang="es-ES"/>
        </a:p>
      </dgm:t>
    </dgm:pt>
    <dgm:pt modelId="{511A8DD4-AF9C-4D41-8195-9328C46214B5}">
      <dgm:prSet custT="1"/>
      <dgm:spPr/>
      <dgm:t>
        <a:bodyPr/>
        <a:lstStyle/>
        <a:p>
          <a:r>
            <a:rPr lang="es-ES" sz="1600" dirty="0" smtClean="0"/>
            <a:t>Responsable de facturación </a:t>
          </a:r>
        </a:p>
        <a:p>
          <a:r>
            <a:rPr lang="es-ES" sz="1600" dirty="0" smtClean="0"/>
            <a:t>(Rafael Muñoz)</a:t>
          </a:r>
        </a:p>
        <a:p>
          <a:endParaRPr lang="es-ES" sz="1400" dirty="0"/>
        </a:p>
      </dgm:t>
    </dgm:pt>
    <dgm:pt modelId="{EC57A905-A52D-4E0D-9B98-1D47359C1455}" type="parTrans" cxnId="{2BDF6406-9A75-4865-AC4A-2DA2BEBF9E99}">
      <dgm:prSet/>
      <dgm:spPr/>
      <dgm:t>
        <a:bodyPr/>
        <a:lstStyle/>
        <a:p>
          <a:endParaRPr lang="es-ES" dirty="0"/>
        </a:p>
      </dgm:t>
    </dgm:pt>
    <dgm:pt modelId="{659DD31F-165B-488B-8BA5-69169212AEC9}" type="sibTrans" cxnId="{2BDF6406-9A75-4865-AC4A-2DA2BEBF9E99}">
      <dgm:prSet/>
      <dgm:spPr/>
      <dgm:t>
        <a:bodyPr/>
        <a:lstStyle/>
        <a:p>
          <a:endParaRPr lang="es-ES"/>
        </a:p>
      </dgm:t>
    </dgm:pt>
    <dgm:pt modelId="{1DC8072A-DD6B-404D-BBFA-2D59E97A10B0}">
      <dgm:prSet custT="1"/>
      <dgm:spPr/>
      <dgm:t>
        <a:bodyPr/>
        <a:lstStyle/>
        <a:p>
          <a:r>
            <a:rPr lang="es-ES" sz="1600" dirty="0" smtClean="0"/>
            <a:t>Responsable de </a:t>
          </a:r>
        </a:p>
        <a:p>
          <a:r>
            <a:rPr lang="es-ES" sz="1600" dirty="0" smtClean="0"/>
            <a:t>ventas</a:t>
          </a:r>
        </a:p>
        <a:p>
          <a:r>
            <a:rPr lang="es-ES" sz="1600" dirty="0" smtClean="0"/>
            <a:t> (Antonio Pérez </a:t>
          </a:r>
          <a:r>
            <a:rPr lang="es-ES" sz="1400" dirty="0" smtClean="0"/>
            <a:t>)</a:t>
          </a:r>
          <a:endParaRPr lang="es-ES" sz="1400" dirty="0"/>
        </a:p>
      </dgm:t>
    </dgm:pt>
    <dgm:pt modelId="{5F8565F6-78ED-4978-BACC-967FACBF76F8}" type="sibTrans" cxnId="{EF5B6993-9FC2-4CE5-A4C6-8970FBA9C624}">
      <dgm:prSet/>
      <dgm:spPr/>
      <dgm:t>
        <a:bodyPr/>
        <a:lstStyle/>
        <a:p>
          <a:endParaRPr lang="es-ES"/>
        </a:p>
      </dgm:t>
    </dgm:pt>
    <dgm:pt modelId="{D9F80095-0010-44B6-9463-90D9ED651792}" type="parTrans" cxnId="{EF5B6993-9FC2-4CE5-A4C6-8970FBA9C624}">
      <dgm:prSet/>
      <dgm:spPr/>
      <dgm:t>
        <a:bodyPr/>
        <a:lstStyle/>
        <a:p>
          <a:endParaRPr lang="es-ES" dirty="0"/>
        </a:p>
      </dgm:t>
    </dgm:pt>
    <dgm:pt modelId="{7A7CF762-3B9E-4C7F-91C4-392D5ABDC78A}">
      <dgm:prSet custT="1"/>
      <dgm:spPr/>
      <dgm:t>
        <a:bodyPr/>
        <a:lstStyle/>
        <a:p>
          <a:r>
            <a:rPr lang="es-ES" sz="1400" dirty="0" smtClean="0"/>
            <a:t>Administrativos : 2</a:t>
          </a:r>
          <a:endParaRPr lang="es-ES" sz="1400" dirty="0"/>
        </a:p>
      </dgm:t>
    </dgm:pt>
    <dgm:pt modelId="{FF8212FE-151B-49DD-83C2-0EF841F77BB3}" type="parTrans" cxnId="{C3864246-C69B-45AF-9569-648D2143D078}">
      <dgm:prSet/>
      <dgm:spPr/>
      <dgm:t>
        <a:bodyPr/>
        <a:lstStyle/>
        <a:p>
          <a:endParaRPr lang="es-ES" dirty="0"/>
        </a:p>
      </dgm:t>
    </dgm:pt>
    <dgm:pt modelId="{766BCB23-35BA-4BA6-966F-0C69F10534B0}" type="sibTrans" cxnId="{C3864246-C69B-45AF-9569-648D2143D078}">
      <dgm:prSet/>
      <dgm:spPr/>
      <dgm:t>
        <a:bodyPr/>
        <a:lstStyle/>
        <a:p>
          <a:endParaRPr lang="es-ES"/>
        </a:p>
      </dgm:t>
    </dgm:pt>
    <dgm:pt modelId="{6481D033-E418-4F4A-B154-812941D06EB3}">
      <dgm:prSet custT="1"/>
      <dgm:spPr/>
      <dgm:t>
        <a:bodyPr/>
        <a:lstStyle/>
        <a:p>
          <a:r>
            <a:rPr lang="es-ES" sz="1400" dirty="0" smtClean="0"/>
            <a:t>Encargado de  calidad</a:t>
          </a:r>
          <a:endParaRPr lang="es-ES" sz="1400" dirty="0"/>
        </a:p>
      </dgm:t>
    </dgm:pt>
    <dgm:pt modelId="{698332EF-31FA-447B-AF2F-EC1BD1CD73C9}" type="parTrans" cxnId="{2ECA05B2-0A0E-48B9-BDD5-C7B440FABD14}">
      <dgm:prSet/>
      <dgm:spPr/>
      <dgm:t>
        <a:bodyPr/>
        <a:lstStyle/>
        <a:p>
          <a:endParaRPr lang="es-ES"/>
        </a:p>
      </dgm:t>
    </dgm:pt>
    <dgm:pt modelId="{E033E23B-0B27-4C9F-81B2-A4AFEEC84DDF}" type="sibTrans" cxnId="{2ECA05B2-0A0E-48B9-BDD5-C7B440FABD14}">
      <dgm:prSet/>
      <dgm:spPr/>
      <dgm:t>
        <a:bodyPr/>
        <a:lstStyle/>
        <a:p>
          <a:endParaRPr lang="es-ES"/>
        </a:p>
      </dgm:t>
    </dgm:pt>
    <dgm:pt modelId="{5F23083C-C664-4917-B1CE-1538D3479847}">
      <dgm:prSet custT="1"/>
      <dgm:spPr/>
      <dgm:t>
        <a:bodyPr/>
        <a:lstStyle/>
        <a:p>
          <a:r>
            <a:rPr lang="es-ES" sz="1400" dirty="0" smtClean="0"/>
            <a:t>Encargado  de mantenimiento</a:t>
          </a:r>
          <a:endParaRPr lang="es-ES" sz="1400" dirty="0"/>
        </a:p>
      </dgm:t>
    </dgm:pt>
    <dgm:pt modelId="{6826D52D-3178-4D16-9262-F81CDD8F2EB5}" type="sibTrans" cxnId="{1D22A35C-343D-4948-B8CB-7F68BEDAE654}">
      <dgm:prSet/>
      <dgm:spPr/>
      <dgm:t>
        <a:bodyPr/>
        <a:lstStyle/>
        <a:p>
          <a:endParaRPr lang="es-ES"/>
        </a:p>
      </dgm:t>
    </dgm:pt>
    <dgm:pt modelId="{BA75D2F1-B9F6-4FE1-AE8B-5FECC23F7C6C}" type="parTrans" cxnId="{1D22A35C-343D-4948-B8CB-7F68BEDAE654}">
      <dgm:prSet/>
      <dgm:spPr/>
      <dgm:t>
        <a:bodyPr/>
        <a:lstStyle/>
        <a:p>
          <a:endParaRPr lang="es-ES" dirty="0"/>
        </a:p>
      </dgm:t>
    </dgm:pt>
    <dgm:pt modelId="{2DA9138A-CFA3-47A5-B54D-541B166A97D7}" type="pres">
      <dgm:prSet presAssocID="{6C82F69C-1AB3-4849-8BF0-60998877CC0C}" presName="hierChild1" presStyleCnt="0">
        <dgm:presLayoutVars>
          <dgm:orgChart val="1"/>
          <dgm:chPref val="1"/>
          <dgm:dir/>
          <dgm:animOne val="branch"/>
          <dgm:animLvl val="lvl"/>
          <dgm:resizeHandles/>
        </dgm:presLayoutVars>
      </dgm:prSet>
      <dgm:spPr/>
      <dgm:t>
        <a:bodyPr/>
        <a:lstStyle/>
        <a:p>
          <a:endParaRPr lang="es-ES"/>
        </a:p>
      </dgm:t>
    </dgm:pt>
    <dgm:pt modelId="{6DFBD5B8-E3E2-4B15-AA97-4561DB60B645}" type="pres">
      <dgm:prSet presAssocID="{83C99878-C064-4EB2-9AAF-B9E4C484FB38}" presName="hierRoot1" presStyleCnt="0">
        <dgm:presLayoutVars>
          <dgm:hierBranch val="init"/>
        </dgm:presLayoutVars>
      </dgm:prSet>
      <dgm:spPr/>
    </dgm:pt>
    <dgm:pt modelId="{276CB74D-AFF3-4279-A41F-2A184101BEE5}" type="pres">
      <dgm:prSet presAssocID="{83C99878-C064-4EB2-9AAF-B9E4C484FB38}" presName="rootComposite1" presStyleCnt="0"/>
      <dgm:spPr/>
    </dgm:pt>
    <dgm:pt modelId="{C8F7A721-8E8F-4BAA-967E-507E54FE9D32}" type="pres">
      <dgm:prSet presAssocID="{83C99878-C064-4EB2-9AAF-B9E4C484FB38}" presName="rootText1" presStyleLbl="node0" presStyleIdx="0" presStyleCnt="2" custScaleX="169577" custScaleY="139943" custLinFactY="-35707" custLinFactNeighborX="-3289" custLinFactNeighborY="-100000">
        <dgm:presLayoutVars>
          <dgm:chPref val="3"/>
        </dgm:presLayoutVars>
      </dgm:prSet>
      <dgm:spPr/>
      <dgm:t>
        <a:bodyPr/>
        <a:lstStyle/>
        <a:p>
          <a:endParaRPr lang="es-ES"/>
        </a:p>
      </dgm:t>
    </dgm:pt>
    <dgm:pt modelId="{9EB9BEEB-A5C0-4517-A69C-DB10E924B327}" type="pres">
      <dgm:prSet presAssocID="{83C99878-C064-4EB2-9AAF-B9E4C484FB38}" presName="rootConnector1" presStyleLbl="node1" presStyleIdx="0" presStyleCnt="0"/>
      <dgm:spPr/>
      <dgm:t>
        <a:bodyPr/>
        <a:lstStyle/>
        <a:p>
          <a:endParaRPr lang="es-ES"/>
        </a:p>
      </dgm:t>
    </dgm:pt>
    <dgm:pt modelId="{E7E37305-4F5B-4A64-AE81-F0C821722FD8}" type="pres">
      <dgm:prSet presAssocID="{83C99878-C064-4EB2-9AAF-B9E4C484FB38}" presName="hierChild2" presStyleCnt="0"/>
      <dgm:spPr/>
    </dgm:pt>
    <dgm:pt modelId="{6527FE07-8D36-4385-911C-022B674C5AF6}" type="pres">
      <dgm:prSet presAssocID="{8C2D3647-D8C8-45DE-AB67-189AD5B0C77D}" presName="Name37" presStyleLbl="parChTrans1D2" presStyleIdx="0" presStyleCnt="6"/>
      <dgm:spPr/>
      <dgm:t>
        <a:bodyPr/>
        <a:lstStyle/>
        <a:p>
          <a:endParaRPr lang="es-ES"/>
        </a:p>
      </dgm:t>
    </dgm:pt>
    <dgm:pt modelId="{FD56C62C-CF30-44FD-A989-C5CEDD87B3D9}" type="pres">
      <dgm:prSet presAssocID="{759439FF-EBF0-420C-A4E1-BCEBB9F0C616}" presName="hierRoot2" presStyleCnt="0">
        <dgm:presLayoutVars>
          <dgm:hierBranch val="init"/>
        </dgm:presLayoutVars>
      </dgm:prSet>
      <dgm:spPr/>
    </dgm:pt>
    <dgm:pt modelId="{B3859000-E746-43AE-B5E3-7DDC1EA90F02}" type="pres">
      <dgm:prSet presAssocID="{759439FF-EBF0-420C-A4E1-BCEBB9F0C616}" presName="rootComposite" presStyleCnt="0"/>
      <dgm:spPr/>
    </dgm:pt>
    <dgm:pt modelId="{AD9B45FF-BDFD-48AD-9E8F-CBED958E8B7E}" type="pres">
      <dgm:prSet presAssocID="{759439FF-EBF0-420C-A4E1-BCEBB9F0C616}" presName="rootText" presStyleLbl="node2" presStyleIdx="0" presStyleCnt="6" custScaleX="103854" custScaleY="299285" custLinFactY="-10506" custLinFactNeighborX="4586" custLinFactNeighborY="-100000">
        <dgm:presLayoutVars>
          <dgm:chPref val="3"/>
        </dgm:presLayoutVars>
      </dgm:prSet>
      <dgm:spPr/>
      <dgm:t>
        <a:bodyPr/>
        <a:lstStyle/>
        <a:p>
          <a:endParaRPr lang="es-ES"/>
        </a:p>
      </dgm:t>
    </dgm:pt>
    <dgm:pt modelId="{AF12999F-E646-48D8-9A93-411537A1DC8E}" type="pres">
      <dgm:prSet presAssocID="{759439FF-EBF0-420C-A4E1-BCEBB9F0C616}" presName="rootConnector" presStyleLbl="node2" presStyleIdx="0" presStyleCnt="6"/>
      <dgm:spPr/>
      <dgm:t>
        <a:bodyPr/>
        <a:lstStyle/>
        <a:p>
          <a:endParaRPr lang="es-ES"/>
        </a:p>
      </dgm:t>
    </dgm:pt>
    <dgm:pt modelId="{74734C8D-9D22-43D4-AF58-B5ED328006FA}" type="pres">
      <dgm:prSet presAssocID="{759439FF-EBF0-420C-A4E1-BCEBB9F0C616}" presName="hierChild4" presStyleCnt="0"/>
      <dgm:spPr/>
    </dgm:pt>
    <dgm:pt modelId="{EFC60B6B-8ED5-47BF-A91D-4B8B76F49DC1}" type="pres">
      <dgm:prSet presAssocID="{FF8212FE-151B-49DD-83C2-0EF841F77BB3}" presName="Name37" presStyleLbl="parChTrans1D3" presStyleIdx="0" presStyleCnt="2"/>
      <dgm:spPr/>
      <dgm:t>
        <a:bodyPr/>
        <a:lstStyle/>
        <a:p>
          <a:endParaRPr lang="es-ES"/>
        </a:p>
      </dgm:t>
    </dgm:pt>
    <dgm:pt modelId="{327C94A1-7EF4-4D8D-A082-1CC6524AB352}" type="pres">
      <dgm:prSet presAssocID="{7A7CF762-3B9E-4C7F-91C4-392D5ABDC78A}" presName="hierRoot2" presStyleCnt="0">
        <dgm:presLayoutVars>
          <dgm:hierBranch val="init"/>
        </dgm:presLayoutVars>
      </dgm:prSet>
      <dgm:spPr/>
    </dgm:pt>
    <dgm:pt modelId="{7F3F1EC2-378D-4F0B-988B-10698A3CB1E7}" type="pres">
      <dgm:prSet presAssocID="{7A7CF762-3B9E-4C7F-91C4-392D5ABDC78A}" presName="rootComposite" presStyleCnt="0"/>
      <dgm:spPr/>
    </dgm:pt>
    <dgm:pt modelId="{1082112D-3840-452A-BD2C-25E6AF192E0D}" type="pres">
      <dgm:prSet presAssocID="{7A7CF762-3B9E-4C7F-91C4-392D5ABDC78A}" presName="rootText" presStyleLbl="node3" presStyleIdx="0" presStyleCnt="2" custScaleX="134281" custScaleY="107583" custLinFactNeighborX="-3286" custLinFactNeighborY="-64455">
        <dgm:presLayoutVars>
          <dgm:chPref val="3"/>
        </dgm:presLayoutVars>
      </dgm:prSet>
      <dgm:spPr/>
      <dgm:t>
        <a:bodyPr/>
        <a:lstStyle/>
        <a:p>
          <a:endParaRPr lang="es-ES"/>
        </a:p>
      </dgm:t>
    </dgm:pt>
    <dgm:pt modelId="{09510166-73E0-4C52-A5BD-B9648EF0F48C}" type="pres">
      <dgm:prSet presAssocID="{7A7CF762-3B9E-4C7F-91C4-392D5ABDC78A}" presName="rootConnector" presStyleLbl="node3" presStyleIdx="0" presStyleCnt="2"/>
      <dgm:spPr/>
      <dgm:t>
        <a:bodyPr/>
        <a:lstStyle/>
        <a:p>
          <a:endParaRPr lang="es-ES"/>
        </a:p>
      </dgm:t>
    </dgm:pt>
    <dgm:pt modelId="{0331B678-64C1-4FB0-84FC-E69E05C133F5}" type="pres">
      <dgm:prSet presAssocID="{7A7CF762-3B9E-4C7F-91C4-392D5ABDC78A}" presName="hierChild4" presStyleCnt="0"/>
      <dgm:spPr/>
    </dgm:pt>
    <dgm:pt modelId="{7B6A6D03-D041-4952-9004-3D0E6E70C767}" type="pres">
      <dgm:prSet presAssocID="{7A7CF762-3B9E-4C7F-91C4-392D5ABDC78A}" presName="hierChild5" presStyleCnt="0"/>
      <dgm:spPr/>
    </dgm:pt>
    <dgm:pt modelId="{C8E670F7-D73C-452B-8D6B-F6F25B89859C}" type="pres">
      <dgm:prSet presAssocID="{759439FF-EBF0-420C-A4E1-BCEBB9F0C616}" presName="hierChild5" presStyleCnt="0"/>
      <dgm:spPr/>
    </dgm:pt>
    <dgm:pt modelId="{4F78190D-4B6F-434E-B548-882E134AD31A}" type="pres">
      <dgm:prSet presAssocID="{B78DF6CB-E841-42C7-B2D1-D69DF493C66E}" presName="Name37" presStyleLbl="parChTrans1D2" presStyleIdx="1" presStyleCnt="6"/>
      <dgm:spPr/>
      <dgm:t>
        <a:bodyPr/>
        <a:lstStyle/>
        <a:p>
          <a:endParaRPr lang="es-ES"/>
        </a:p>
      </dgm:t>
    </dgm:pt>
    <dgm:pt modelId="{C532D6E4-6CD2-4512-9161-119B095DBECF}" type="pres">
      <dgm:prSet presAssocID="{39456647-C787-4CC7-B777-102C8260AAAC}" presName="hierRoot2" presStyleCnt="0">
        <dgm:presLayoutVars>
          <dgm:hierBranch val="init"/>
        </dgm:presLayoutVars>
      </dgm:prSet>
      <dgm:spPr/>
    </dgm:pt>
    <dgm:pt modelId="{78E318C4-1193-4385-AC5C-CAD4EB639794}" type="pres">
      <dgm:prSet presAssocID="{39456647-C787-4CC7-B777-102C8260AAAC}" presName="rootComposite" presStyleCnt="0"/>
      <dgm:spPr/>
    </dgm:pt>
    <dgm:pt modelId="{C56D6B39-5268-4725-B54E-E213900784BF}" type="pres">
      <dgm:prSet presAssocID="{39456647-C787-4CC7-B777-102C8260AAAC}" presName="rootText" presStyleLbl="node2" presStyleIdx="1" presStyleCnt="6" custScaleX="113045" custScaleY="299285" custLinFactY="-10506" custLinFactNeighborX="-521" custLinFactNeighborY="-100000">
        <dgm:presLayoutVars>
          <dgm:chPref val="3"/>
        </dgm:presLayoutVars>
      </dgm:prSet>
      <dgm:spPr/>
      <dgm:t>
        <a:bodyPr/>
        <a:lstStyle/>
        <a:p>
          <a:endParaRPr lang="es-ES"/>
        </a:p>
      </dgm:t>
    </dgm:pt>
    <dgm:pt modelId="{A70384A4-9066-416B-9375-15D1CDDA3FD2}" type="pres">
      <dgm:prSet presAssocID="{39456647-C787-4CC7-B777-102C8260AAAC}" presName="rootConnector" presStyleLbl="node2" presStyleIdx="1" presStyleCnt="6"/>
      <dgm:spPr/>
      <dgm:t>
        <a:bodyPr/>
        <a:lstStyle/>
        <a:p>
          <a:endParaRPr lang="es-ES"/>
        </a:p>
      </dgm:t>
    </dgm:pt>
    <dgm:pt modelId="{1396AEA6-0704-49DD-B704-E24C1AF0FF7A}" type="pres">
      <dgm:prSet presAssocID="{39456647-C787-4CC7-B777-102C8260AAAC}" presName="hierChild4" presStyleCnt="0"/>
      <dgm:spPr/>
    </dgm:pt>
    <dgm:pt modelId="{98BF03A3-75F6-4198-90C5-F3C897870066}" type="pres">
      <dgm:prSet presAssocID="{39456647-C787-4CC7-B777-102C8260AAAC}" presName="hierChild5" presStyleCnt="0"/>
      <dgm:spPr/>
    </dgm:pt>
    <dgm:pt modelId="{2B11D96A-552D-459B-9888-2B22610ED1EF}" type="pres">
      <dgm:prSet presAssocID="{D99C26BB-5993-4833-AC05-01CD83DAD6BC}" presName="Name37" presStyleLbl="parChTrans1D2" presStyleIdx="2" presStyleCnt="6"/>
      <dgm:spPr/>
      <dgm:t>
        <a:bodyPr/>
        <a:lstStyle/>
        <a:p>
          <a:endParaRPr lang="es-ES"/>
        </a:p>
      </dgm:t>
    </dgm:pt>
    <dgm:pt modelId="{6C00C43D-2358-43DD-95DB-5F7A540D037C}" type="pres">
      <dgm:prSet presAssocID="{343420BD-6A73-4E21-B971-65D8B99EDB5E}" presName="hierRoot2" presStyleCnt="0">
        <dgm:presLayoutVars>
          <dgm:hierBranch val="init"/>
        </dgm:presLayoutVars>
      </dgm:prSet>
      <dgm:spPr/>
    </dgm:pt>
    <dgm:pt modelId="{BF23BB7B-8B0E-4A20-A1D0-DD90455B6224}" type="pres">
      <dgm:prSet presAssocID="{343420BD-6A73-4E21-B971-65D8B99EDB5E}" presName="rootComposite" presStyleCnt="0"/>
      <dgm:spPr/>
    </dgm:pt>
    <dgm:pt modelId="{D43DE835-F26D-4462-9A23-B3EF1F89100E}" type="pres">
      <dgm:prSet presAssocID="{343420BD-6A73-4E21-B971-65D8B99EDB5E}" presName="rootText" presStyleLbl="node2" presStyleIdx="2" presStyleCnt="6" custScaleY="291518" custLinFactY="-10506" custLinFactNeighborX="-5628" custLinFactNeighborY="-100000">
        <dgm:presLayoutVars>
          <dgm:chPref val="3"/>
        </dgm:presLayoutVars>
      </dgm:prSet>
      <dgm:spPr/>
      <dgm:t>
        <a:bodyPr/>
        <a:lstStyle/>
        <a:p>
          <a:endParaRPr lang="es-ES"/>
        </a:p>
      </dgm:t>
    </dgm:pt>
    <dgm:pt modelId="{9B4C637D-CC8D-4DB8-A331-A8AE6BD8404D}" type="pres">
      <dgm:prSet presAssocID="{343420BD-6A73-4E21-B971-65D8B99EDB5E}" presName="rootConnector" presStyleLbl="node2" presStyleIdx="2" presStyleCnt="6"/>
      <dgm:spPr/>
      <dgm:t>
        <a:bodyPr/>
        <a:lstStyle/>
        <a:p>
          <a:endParaRPr lang="es-ES"/>
        </a:p>
      </dgm:t>
    </dgm:pt>
    <dgm:pt modelId="{75871BAC-F6A7-42B3-A686-49A69CF4573A}" type="pres">
      <dgm:prSet presAssocID="{343420BD-6A73-4E21-B971-65D8B99EDB5E}" presName="hierChild4" presStyleCnt="0"/>
      <dgm:spPr/>
    </dgm:pt>
    <dgm:pt modelId="{38624272-6CAB-425F-8DD0-70F83EF37B7A}" type="pres">
      <dgm:prSet presAssocID="{343420BD-6A73-4E21-B971-65D8B99EDB5E}" presName="hierChild5" presStyleCnt="0"/>
      <dgm:spPr/>
    </dgm:pt>
    <dgm:pt modelId="{D1949284-9E52-4D04-9BAC-D17604B3F692}" type="pres">
      <dgm:prSet presAssocID="{D9F80095-0010-44B6-9463-90D9ED651792}" presName="Name37" presStyleLbl="parChTrans1D2" presStyleIdx="3" presStyleCnt="6"/>
      <dgm:spPr/>
      <dgm:t>
        <a:bodyPr/>
        <a:lstStyle/>
        <a:p>
          <a:endParaRPr lang="es-ES"/>
        </a:p>
      </dgm:t>
    </dgm:pt>
    <dgm:pt modelId="{BEB3E98E-F9FA-4767-B750-BA0D17AE60B9}" type="pres">
      <dgm:prSet presAssocID="{1DC8072A-DD6B-404D-BBFA-2D59E97A10B0}" presName="hierRoot2" presStyleCnt="0">
        <dgm:presLayoutVars>
          <dgm:hierBranch val="init"/>
        </dgm:presLayoutVars>
      </dgm:prSet>
      <dgm:spPr/>
    </dgm:pt>
    <dgm:pt modelId="{760771EC-7CF4-4CBE-A964-80A8402F616B}" type="pres">
      <dgm:prSet presAssocID="{1DC8072A-DD6B-404D-BBFA-2D59E97A10B0}" presName="rootComposite" presStyleCnt="0"/>
      <dgm:spPr/>
    </dgm:pt>
    <dgm:pt modelId="{CA070BF4-AC31-4CCC-940C-158FB8077ABD}" type="pres">
      <dgm:prSet presAssocID="{1DC8072A-DD6B-404D-BBFA-2D59E97A10B0}" presName="rootText" presStyleLbl="node2" presStyleIdx="3" presStyleCnt="6" custScaleY="299285" custLinFactY="-13754" custLinFactNeighborX="-4900" custLinFactNeighborY="-100000">
        <dgm:presLayoutVars>
          <dgm:chPref val="3"/>
        </dgm:presLayoutVars>
      </dgm:prSet>
      <dgm:spPr/>
      <dgm:t>
        <a:bodyPr/>
        <a:lstStyle/>
        <a:p>
          <a:endParaRPr lang="es-ES"/>
        </a:p>
      </dgm:t>
    </dgm:pt>
    <dgm:pt modelId="{9283CFFC-5260-4781-AC58-8696E582E0A0}" type="pres">
      <dgm:prSet presAssocID="{1DC8072A-DD6B-404D-BBFA-2D59E97A10B0}" presName="rootConnector" presStyleLbl="node2" presStyleIdx="3" presStyleCnt="6"/>
      <dgm:spPr/>
      <dgm:t>
        <a:bodyPr/>
        <a:lstStyle/>
        <a:p>
          <a:endParaRPr lang="es-ES"/>
        </a:p>
      </dgm:t>
    </dgm:pt>
    <dgm:pt modelId="{FD42A5B7-AB7D-4F9D-946B-DA2D22644553}" type="pres">
      <dgm:prSet presAssocID="{1DC8072A-DD6B-404D-BBFA-2D59E97A10B0}" presName="hierChild4" presStyleCnt="0"/>
      <dgm:spPr/>
    </dgm:pt>
    <dgm:pt modelId="{222D28C1-DEBD-4D70-8C51-DF7E929F5EDA}" type="pres">
      <dgm:prSet presAssocID="{1DC8072A-DD6B-404D-BBFA-2D59E97A10B0}" presName="hierChild5" presStyleCnt="0"/>
      <dgm:spPr/>
    </dgm:pt>
    <dgm:pt modelId="{E1CAA3F6-498F-4E82-B214-0B96FF9C0C2F}" type="pres">
      <dgm:prSet presAssocID="{EC57A905-A52D-4E0D-9B98-1D47359C1455}" presName="Name37" presStyleLbl="parChTrans1D2" presStyleIdx="4" presStyleCnt="6"/>
      <dgm:spPr/>
      <dgm:t>
        <a:bodyPr/>
        <a:lstStyle/>
        <a:p>
          <a:endParaRPr lang="es-ES"/>
        </a:p>
      </dgm:t>
    </dgm:pt>
    <dgm:pt modelId="{50344405-8061-41D0-99FA-D041BF169A04}" type="pres">
      <dgm:prSet presAssocID="{511A8DD4-AF9C-4D41-8195-9328C46214B5}" presName="hierRoot2" presStyleCnt="0">
        <dgm:presLayoutVars>
          <dgm:hierBranch val="init"/>
        </dgm:presLayoutVars>
      </dgm:prSet>
      <dgm:spPr/>
    </dgm:pt>
    <dgm:pt modelId="{D594AD56-96E1-43F2-83EE-634CAD23B886}" type="pres">
      <dgm:prSet presAssocID="{511A8DD4-AF9C-4D41-8195-9328C46214B5}" presName="rootComposite" presStyleCnt="0"/>
      <dgm:spPr/>
    </dgm:pt>
    <dgm:pt modelId="{543B73D6-3F41-41E2-AA30-5C82DBBC8D62}" type="pres">
      <dgm:prSet presAssocID="{511A8DD4-AF9C-4D41-8195-9328C46214B5}" presName="rootText" presStyleLbl="node2" presStyleIdx="4" presStyleCnt="6" custScaleY="291518" custLinFactY="-10506" custLinFactNeighborX="-6099" custLinFactNeighborY="-100000">
        <dgm:presLayoutVars>
          <dgm:chPref val="3"/>
        </dgm:presLayoutVars>
      </dgm:prSet>
      <dgm:spPr/>
      <dgm:t>
        <a:bodyPr/>
        <a:lstStyle/>
        <a:p>
          <a:endParaRPr lang="es-ES"/>
        </a:p>
      </dgm:t>
    </dgm:pt>
    <dgm:pt modelId="{830CB744-07DE-46F1-89DF-F03C1291DA5C}" type="pres">
      <dgm:prSet presAssocID="{511A8DD4-AF9C-4D41-8195-9328C46214B5}" presName="rootConnector" presStyleLbl="node2" presStyleIdx="4" presStyleCnt="6"/>
      <dgm:spPr/>
      <dgm:t>
        <a:bodyPr/>
        <a:lstStyle/>
        <a:p>
          <a:endParaRPr lang="es-ES"/>
        </a:p>
      </dgm:t>
    </dgm:pt>
    <dgm:pt modelId="{BCC7A583-F4CE-468F-80CB-667DB601AB75}" type="pres">
      <dgm:prSet presAssocID="{511A8DD4-AF9C-4D41-8195-9328C46214B5}" presName="hierChild4" presStyleCnt="0"/>
      <dgm:spPr/>
    </dgm:pt>
    <dgm:pt modelId="{E2770F0D-CA62-40C0-8A1C-BB0B2EB0D2D2}" type="pres">
      <dgm:prSet presAssocID="{511A8DD4-AF9C-4D41-8195-9328C46214B5}" presName="hierChild5" presStyleCnt="0"/>
      <dgm:spPr/>
    </dgm:pt>
    <dgm:pt modelId="{46D19164-47C1-4FFF-8EDA-B00D5F8B770E}" type="pres">
      <dgm:prSet presAssocID="{25237163-8D64-4EC6-9180-3E672971DE14}" presName="Name37" presStyleLbl="parChTrans1D2" presStyleIdx="5" presStyleCnt="6"/>
      <dgm:spPr/>
      <dgm:t>
        <a:bodyPr/>
        <a:lstStyle/>
        <a:p>
          <a:endParaRPr lang="es-ES"/>
        </a:p>
      </dgm:t>
    </dgm:pt>
    <dgm:pt modelId="{EB3766D7-7236-4E9B-8C0C-B9127018C120}" type="pres">
      <dgm:prSet presAssocID="{C56C41AF-A9A3-4479-8C7D-8E1BD4AE74A8}" presName="hierRoot2" presStyleCnt="0">
        <dgm:presLayoutVars>
          <dgm:hierBranch val="init"/>
        </dgm:presLayoutVars>
      </dgm:prSet>
      <dgm:spPr/>
    </dgm:pt>
    <dgm:pt modelId="{914CB39F-136D-4F05-B3E4-856D6C66C375}" type="pres">
      <dgm:prSet presAssocID="{C56C41AF-A9A3-4479-8C7D-8E1BD4AE74A8}" presName="rootComposite" presStyleCnt="0"/>
      <dgm:spPr/>
    </dgm:pt>
    <dgm:pt modelId="{5CAB2671-2A85-4242-805A-4BA48AB4A9AB}" type="pres">
      <dgm:prSet presAssocID="{C56C41AF-A9A3-4479-8C7D-8E1BD4AE74A8}" presName="rootText" presStyleLbl="node2" presStyleIdx="5" presStyleCnt="6" custScaleX="100136" custScaleY="287937" custLinFactY="-10506" custLinFactNeighborX="-11205" custLinFactNeighborY="-100000">
        <dgm:presLayoutVars>
          <dgm:chPref val="3"/>
        </dgm:presLayoutVars>
      </dgm:prSet>
      <dgm:spPr/>
      <dgm:t>
        <a:bodyPr/>
        <a:lstStyle/>
        <a:p>
          <a:endParaRPr lang="es-ES"/>
        </a:p>
      </dgm:t>
    </dgm:pt>
    <dgm:pt modelId="{ED1EE8FC-E17E-465F-B674-DE05889FA69A}" type="pres">
      <dgm:prSet presAssocID="{C56C41AF-A9A3-4479-8C7D-8E1BD4AE74A8}" presName="rootConnector" presStyleLbl="node2" presStyleIdx="5" presStyleCnt="6"/>
      <dgm:spPr/>
      <dgm:t>
        <a:bodyPr/>
        <a:lstStyle/>
        <a:p>
          <a:endParaRPr lang="es-ES"/>
        </a:p>
      </dgm:t>
    </dgm:pt>
    <dgm:pt modelId="{E19073C4-4CB8-4EC3-8B79-08DDA8C62DA7}" type="pres">
      <dgm:prSet presAssocID="{C56C41AF-A9A3-4479-8C7D-8E1BD4AE74A8}" presName="hierChild4" presStyleCnt="0"/>
      <dgm:spPr/>
    </dgm:pt>
    <dgm:pt modelId="{B42E51D0-A711-48A5-B346-45E836DB252F}" type="pres">
      <dgm:prSet presAssocID="{BA75D2F1-B9F6-4FE1-AE8B-5FECC23F7C6C}" presName="Name37" presStyleLbl="parChTrans1D3" presStyleIdx="1" presStyleCnt="2"/>
      <dgm:spPr/>
      <dgm:t>
        <a:bodyPr/>
        <a:lstStyle/>
        <a:p>
          <a:endParaRPr lang="es-ES"/>
        </a:p>
      </dgm:t>
    </dgm:pt>
    <dgm:pt modelId="{5716C5E5-E6EB-4448-8D00-658DC567A916}" type="pres">
      <dgm:prSet presAssocID="{5F23083C-C664-4917-B1CE-1538D3479847}" presName="hierRoot2" presStyleCnt="0">
        <dgm:presLayoutVars>
          <dgm:hierBranch val="init"/>
        </dgm:presLayoutVars>
      </dgm:prSet>
      <dgm:spPr/>
    </dgm:pt>
    <dgm:pt modelId="{8013F4EF-7AF0-4F50-97A1-118772A720DE}" type="pres">
      <dgm:prSet presAssocID="{5F23083C-C664-4917-B1CE-1538D3479847}" presName="rootComposite" presStyleCnt="0"/>
      <dgm:spPr/>
    </dgm:pt>
    <dgm:pt modelId="{75DE4621-3B04-435F-9E58-7975CCB9D581}" type="pres">
      <dgm:prSet presAssocID="{5F23083C-C664-4917-B1CE-1538D3479847}" presName="rootText" presStyleLbl="node3" presStyleIdx="1" presStyleCnt="2" custScaleX="125364" custLinFactNeighborX="171" custLinFactNeighborY="-48203">
        <dgm:presLayoutVars>
          <dgm:chPref val="3"/>
        </dgm:presLayoutVars>
      </dgm:prSet>
      <dgm:spPr/>
      <dgm:t>
        <a:bodyPr/>
        <a:lstStyle/>
        <a:p>
          <a:endParaRPr lang="es-ES"/>
        </a:p>
      </dgm:t>
    </dgm:pt>
    <dgm:pt modelId="{BEBC9984-0497-4C5C-BBB6-C9A0C12D0E19}" type="pres">
      <dgm:prSet presAssocID="{5F23083C-C664-4917-B1CE-1538D3479847}" presName="rootConnector" presStyleLbl="node3" presStyleIdx="1" presStyleCnt="2"/>
      <dgm:spPr/>
      <dgm:t>
        <a:bodyPr/>
        <a:lstStyle/>
        <a:p>
          <a:endParaRPr lang="es-ES"/>
        </a:p>
      </dgm:t>
    </dgm:pt>
    <dgm:pt modelId="{CA2F3308-3B6D-49E0-A6CA-BEC5DB3D8E7C}" type="pres">
      <dgm:prSet presAssocID="{5F23083C-C664-4917-B1CE-1538D3479847}" presName="hierChild4" presStyleCnt="0"/>
      <dgm:spPr/>
    </dgm:pt>
    <dgm:pt modelId="{EEBD76BF-BFA6-4EDE-BCA0-66D62CE1325F}" type="pres">
      <dgm:prSet presAssocID="{5F23083C-C664-4917-B1CE-1538D3479847}" presName="hierChild5" presStyleCnt="0"/>
      <dgm:spPr/>
    </dgm:pt>
    <dgm:pt modelId="{591E017F-13FF-46C4-90F2-022AB72208CC}" type="pres">
      <dgm:prSet presAssocID="{C56C41AF-A9A3-4479-8C7D-8E1BD4AE74A8}" presName="hierChild5" presStyleCnt="0"/>
      <dgm:spPr/>
    </dgm:pt>
    <dgm:pt modelId="{4AE57951-67F8-43F2-94E3-A5DFFB59D1C9}" type="pres">
      <dgm:prSet presAssocID="{83C99878-C064-4EB2-9AAF-B9E4C484FB38}" presName="hierChild3" presStyleCnt="0"/>
      <dgm:spPr/>
    </dgm:pt>
    <dgm:pt modelId="{DF26CD41-C83C-4812-9EBA-16686C48B1DF}" type="pres">
      <dgm:prSet presAssocID="{6481D033-E418-4F4A-B154-812941D06EB3}" presName="hierRoot1" presStyleCnt="0">
        <dgm:presLayoutVars>
          <dgm:hierBranch val="init"/>
        </dgm:presLayoutVars>
      </dgm:prSet>
      <dgm:spPr/>
    </dgm:pt>
    <dgm:pt modelId="{84987AF1-37A8-40BD-B195-94E512D2FF5F}" type="pres">
      <dgm:prSet presAssocID="{6481D033-E418-4F4A-B154-812941D06EB3}" presName="rootComposite1" presStyleCnt="0"/>
      <dgm:spPr/>
    </dgm:pt>
    <dgm:pt modelId="{C5F62FB2-EC43-49EA-9988-C97BE340F751}" type="pres">
      <dgm:prSet presAssocID="{6481D033-E418-4F4A-B154-812941D06EB3}" presName="rootText1" presStyleLbl="node0" presStyleIdx="1" presStyleCnt="2" custLinFactY="200000" custLinFactNeighborX="54283" custLinFactNeighborY="268747">
        <dgm:presLayoutVars>
          <dgm:chPref val="3"/>
        </dgm:presLayoutVars>
      </dgm:prSet>
      <dgm:spPr/>
      <dgm:t>
        <a:bodyPr/>
        <a:lstStyle/>
        <a:p>
          <a:endParaRPr lang="es-ES"/>
        </a:p>
      </dgm:t>
    </dgm:pt>
    <dgm:pt modelId="{F33AADBE-99F6-4A89-A16C-338D2A24C923}" type="pres">
      <dgm:prSet presAssocID="{6481D033-E418-4F4A-B154-812941D06EB3}" presName="rootConnector1" presStyleLbl="node1" presStyleIdx="0" presStyleCnt="0"/>
      <dgm:spPr/>
      <dgm:t>
        <a:bodyPr/>
        <a:lstStyle/>
        <a:p>
          <a:endParaRPr lang="es-ES"/>
        </a:p>
      </dgm:t>
    </dgm:pt>
    <dgm:pt modelId="{0B69EDD6-3B91-44A6-99B8-3C5FD1160FE2}" type="pres">
      <dgm:prSet presAssocID="{6481D033-E418-4F4A-B154-812941D06EB3}" presName="hierChild2" presStyleCnt="0"/>
      <dgm:spPr/>
    </dgm:pt>
    <dgm:pt modelId="{B2CDC785-0D52-4960-9FE5-AC34AA68712D}" type="pres">
      <dgm:prSet presAssocID="{6481D033-E418-4F4A-B154-812941D06EB3}" presName="hierChild3" presStyleCnt="0"/>
      <dgm:spPr/>
    </dgm:pt>
  </dgm:ptLst>
  <dgm:cxnLst>
    <dgm:cxn modelId="{9D63D0B3-381D-4F74-836E-EFD8122024A5}" type="presOf" srcId="{FF8212FE-151B-49DD-83C2-0EF841F77BB3}" destId="{EFC60B6B-8ED5-47BF-A91D-4B8B76F49DC1}" srcOrd="0" destOrd="0" presId="urn:microsoft.com/office/officeart/2005/8/layout/orgChart1"/>
    <dgm:cxn modelId="{A420B90C-59A8-4113-9EEA-7EB272288739}" type="presOf" srcId="{BA75D2F1-B9F6-4FE1-AE8B-5FECC23F7C6C}" destId="{B42E51D0-A711-48A5-B346-45E836DB252F}" srcOrd="0" destOrd="0" presId="urn:microsoft.com/office/officeart/2005/8/layout/orgChart1"/>
    <dgm:cxn modelId="{1D22A35C-343D-4948-B8CB-7F68BEDAE654}" srcId="{C56C41AF-A9A3-4479-8C7D-8E1BD4AE74A8}" destId="{5F23083C-C664-4917-B1CE-1538D3479847}" srcOrd="0" destOrd="0" parTransId="{BA75D2F1-B9F6-4FE1-AE8B-5FECC23F7C6C}" sibTransId="{6826D52D-3178-4D16-9262-F81CDD8F2EB5}"/>
    <dgm:cxn modelId="{CFC74B8E-AED4-4A14-8533-E789930162C4}" type="presOf" srcId="{511A8DD4-AF9C-4D41-8195-9328C46214B5}" destId="{543B73D6-3F41-41E2-AA30-5C82DBBC8D62}" srcOrd="0" destOrd="0" presId="urn:microsoft.com/office/officeart/2005/8/layout/orgChart1"/>
    <dgm:cxn modelId="{520880AA-6554-4458-A9CD-4B25F8ED0C91}" type="presOf" srcId="{39456647-C787-4CC7-B777-102C8260AAAC}" destId="{C56D6B39-5268-4725-B54E-E213900784BF}" srcOrd="0" destOrd="0" presId="urn:microsoft.com/office/officeart/2005/8/layout/orgChart1"/>
    <dgm:cxn modelId="{50D39FEF-2E58-4878-A325-55A47453797A}" type="presOf" srcId="{343420BD-6A73-4E21-B971-65D8B99EDB5E}" destId="{D43DE835-F26D-4462-9A23-B3EF1F89100E}" srcOrd="0" destOrd="0" presId="urn:microsoft.com/office/officeart/2005/8/layout/orgChart1"/>
    <dgm:cxn modelId="{3F685E79-66B8-4C48-A87B-00B278A12796}" type="presOf" srcId="{511A8DD4-AF9C-4D41-8195-9328C46214B5}" destId="{830CB744-07DE-46F1-89DF-F03C1291DA5C}" srcOrd="1" destOrd="0" presId="urn:microsoft.com/office/officeart/2005/8/layout/orgChart1"/>
    <dgm:cxn modelId="{585BAE9F-7503-4346-BB99-015684DF7022}" type="presOf" srcId="{7A7CF762-3B9E-4C7F-91C4-392D5ABDC78A}" destId="{1082112D-3840-452A-BD2C-25E6AF192E0D}" srcOrd="0" destOrd="0" presId="urn:microsoft.com/office/officeart/2005/8/layout/orgChart1"/>
    <dgm:cxn modelId="{368B2A03-7BD0-45EF-A494-5E4DF35CA4F9}" type="presOf" srcId="{5F23083C-C664-4917-B1CE-1538D3479847}" destId="{75DE4621-3B04-435F-9E58-7975CCB9D581}" srcOrd="0" destOrd="0" presId="urn:microsoft.com/office/officeart/2005/8/layout/orgChart1"/>
    <dgm:cxn modelId="{9561472D-7592-4C48-A314-DEEDBDF151CD}" type="presOf" srcId="{6481D033-E418-4F4A-B154-812941D06EB3}" destId="{C5F62FB2-EC43-49EA-9988-C97BE340F751}" srcOrd="0" destOrd="0" presId="urn:microsoft.com/office/officeart/2005/8/layout/orgChart1"/>
    <dgm:cxn modelId="{4F8B00E9-3F3A-499B-8DB0-E0B29E0DB001}" type="presOf" srcId="{C56C41AF-A9A3-4479-8C7D-8E1BD4AE74A8}" destId="{5CAB2671-2A85-4242-805A-4BA48AB4A9AB}" srcOrd="0" destOrd="0" presId="urn:microsoft.com/office/officeart/2005/8/layout/orgChart1"/>
    <dgm:cxn modelId="{DAB5ED72-2F4A-4443-8761-032133381BB6}" srcId="{6C82F69C-1AB3-4849-8BF0-60998877CC0C}" destId="{83C99878-C064-4EB2-9AAF-B9E4C484FB38}" srcOrd="0" destOrd="0" parTransId="{2F639ED6-2B64-4AE8-B9FA-B0DE1F74C048}" sibTransId="{220DD4B4-D8A8-46CA-81A5-B1BB23A3384B}"/>
    <dgm:cxn modelId="{83497350-E13B-4ACB-90C4-378E28AEBAC7}" type="presOf" srcId="{25237163-8D64-4EC6-9180-3E672971DE14}" destId="{46D19164-47C1-4FFF-8EDA-B00D5F8B770E}" srcOrd="0" destOrd="0" presId="urn:microsoft.com/office/officeart/2005/8/layout/orgChart1"/>
    <dgm:cxn modelId="{AB7BE7E1-4E77-4CBB-97EB-96536AAEE64F}" srcId="{83C99878-C064-4EB2-9AAF-B9E4C484FB38}" destId="{C56C41AF-A9A3-4479-8C7D-8E1BD4AE74A8}" srcOrd="5" destOrd="0" parTransId="{25237163-8D64-4EC6-9180-3E672971DE14}" sibTransId="{CEC42052-8A8D-42E0-957E-43A3ED63B17E}"/>
    <dgm:cxn modelId="{C3864246-C69B-45AF-9569-648D2143D078}" srcId="{759439FF-EBF0-420C-A4E1-BCEBB9F0C616}" destId="{7A7CF762-3B9E-4C7F-91C4-392D5ABDC78A}" srcOrd="0" destOrd="0" parTransId="{FF8212FE-151B-49DD-83C2-0EF841F77BB3}" sibTransId="{766BCB23-35BA-4BA6-966F-0C69F10534B0}"/>
    <dgm:cxn modelId="{6EC958B3-3D4D-43CA-BAAE-F960D42EC33D}" type="presOf" srcId="{7A7CF762-3B9E-4C7F-91C4-392D5ABDC78A}" destId="{09510166-73E0-4C52-A5BD-B9648EF0F48C}" srcOrd="1" destOrd="0" presId="urn:microsoft.com/office/officeart/2005/8/layout/orgChart1"/>
    <dgm:cxn modelId="{8A0D32FE-A01B-4E64-BD57-B02319E51B9B}" type="presOf" srcId="{5F23083C-C664-4917-B1CE-1538D3479847}" destId="{BEBC9984-0497-4C5C-BBB6-C9A0C12D0E19}" srcOrd="1" destOrd="0" presId="urn:microsoft.com/office/officeart/2005/8/layout/orgChart1"/>
    <dgm:cxn modelId="{4E6FBFAD-69E1-462A-9CCE-C37A16156ACD}" type="presOf" srcId="{1DC8072A-DD6B-404D-BBFA-2D59E97A10B0}" destId="{CA070BF4-AC31-4CCC-940C-158FB8077ABD}" srcOrd="0" destOrd="0" presId="urn:microsoft.com/office/officeart/2005/8/layout/orgChart1"/>
    <dgm:cxn modelId="{8BC83D44-D0B5-4953-9E8F-A18DAAB0492C}" srcId="{83C99878-C064-4EB2-9AAF-B9E4C484FB38}" destId="{39456647-C787-4CC7-B777-102C8260AAAC}" srcOrd="1" destOrd="0" parTransId="{B78DF6CB-E841-42C7-B2D1-D69DF493C66E}" sibTransId="{EDBE8DE3-B246-4194-9DDE-B7F9104CE1FE}"/>
    <dgm:cxn modelId="{0B069C82-D040-4066-B57D-8C7079DE4FA5}" type="presOf" srcId="{343420BD-6A73-4E21-B971-65D8B99EDB5E}" destId="{9B4C637D-CC8D-4DB8-A331-A8AE6BD8404D}" srcOrd="1" destOrd="0" presId="urn:microsoft.com/office/officeart/2005/8/layout/orgChart1"/>
    <dgm:cxn modelId="{91757F2E-8BBB-4C40-AE88-0EF4599BDA73}" type="presOf" srcId="{1DC8072A-DD6B-404D-BBFA-2D59E97A10B0}" destId="{9283CFFC-5260-4781-AC58-8696E582E0A0}" srcOrd="1" destOrd="0" presId="urn:microsoft.com/office/officeart/2005/8/layout/orgChart1"/>
    <dgm:cxn modelId="{C1B49D10-D022-411B-A296-16541230E6A5}" type="presOf" srcId="{EC57A905-A52D-4E0D-9B98-1D47359C1455}" destId="{E1CAA3F6-498F-4E82-B214-0B96FF9C0C2F}" srcOrd="0" destOrd="0" presId="urn:microsoft.com/office/officeart/2005/8/layout/orgChart1"/>
    <dgm:cxn modelId="{F7F85EC6-78AE-499E-9734-595A666ECBE4}" type="presOf" srcId="{83C99878-C064-4EB2-9AAF-B9E4C484FB38}" destId="{C8F7A721-8E8F-4BAA-967E-507E54FE9D32}" srcOrd="0" destOrd="0" presId="urn:microsoft.com/office/officeart/2005/8/layout/orgChart1"/>
    <dgm:cxn modelId="{905187A9-1F7C-4B41-A691-1B9A020E97CB}" type="presOf" srcId="{759439FF-EBF0-420C-A4E1-BCEBB9F0C616}" destId="{AF12999F-E646-48D8-9A93-411537A1DC8E}" srcOrd="1" destOrd="0" presId="urn:microsoft.com/office/officeart/2005/8/layout/orgChart1"/>
    <dgm:cxn modelId="{CD96172B-756E-4020-9BA9-78878E8C6E4B}" type="presOf" srcId="{8C2D3647-D8C8-45DE-AB67-189AD5B0C77D}" destId="{6527FE07-8D36-4385-911C-022B674C5AF6}" srcOrd="0" destOrd="0" presId="urn:microsoft.com/office/officeart/2005/8/layout/orgChart1"/>
    <dgm:cxn modelId="{5BFB4AC0-621D-4330-9B2B-52E3EBDD4CBE}" type="presOf" srcId="{83C99878-C064-4EB2-9AAF-B9E4C484FB38}" destId="{9EB9BEEB-A5C0-4517-A69C-DB10E924B327}" srcOrd="1" destOrd="0" presId="urn:microsoft.com/office/officeart/2005/8/layout/orgChart1"/>
    <dgm:cxn modelId="{16CD6A1F-61F4-4C1D-8E4D-510B9943EB7A}" type="presOf" srcId="{6C82F69C-1AB3-4849-8BF0-60998877CC0C}" destId="{2DA9138A-CFA3-47A5-B54D-541B166A97D7}" srcOrd="0" destOrd="0" presId="urn:microsoft.com/office/officeart/2005/8/layout/orgChart1"/>
    <dgm:cxn modelId="{4B0E1017-AB04-45A4-B8B5-54F5B75CF708}" type="presOf" srcId="{B78DF6CB-E841-42C7-B2D1-D69DF493C66E}" destId="{4F78190D-4B6F-434E-B548-882E134AD31A}" srcOrd="0" destOrd="0" presId="urn:microsoft.com/office/officeart/2005/8/layout/orgChart1"/>
    <dgm:cxn modelId="{2ECA05B2-0A0E-48B9-BDD5-C7B440FABD14}" srcId="{6C82F69C-1AB3-4849-8BF0-60998877CC0C}" destId="{6481D033-E418-4F4A-B154-812941D06EB3}" srcOrd="1" destOrd="0" parTransId="{698332EF-31FA-447B-AF2F-EC1BD1CD73C9}" sibTransId="{E033E23B-0B27-4C9F-81B2-A4AFEEC84DDF}"/>
    <dgm:cxn modelId="{EF5B6993-9FC2-4CE5-A4C6-8970FBA9C624}" srcId="{83C99878-C064-4EB2-9AAF-B9E4C484FB38}" destId="{1DC8072A-DD6B-404D-BBFA-2D59E97A10B0}" srcOrd="3" destOrd="0" parTransId="{D9F80095-0010-44B6-9463-90D9ED651792}" sibTransId="{5F8565F6-78ED-4978-BACC-967FACBF76F8}"/>
    <dgm:cxn modelId="{FB2470D0-2766-42D1-A6AE-B11F0AF36056}" type="presOf" srcId="{C56C41AF-A9A3-4479-8C7D-8E1BD4AE74A8}" destId="{ED1EE8FC-E17E-465F-B674-DE05889FA69A}" srcOrd="1" destOrd="0" presId="urn:microsoft.com/office/officeart/2005/8/layout/orgChart1"/>
    <dgm:cxn modelId="{E86D69DC-AFC0-4BE8-BC7D-C08AFEFF8699}" srcId="{83C99878-C064-4EB2-9AAF-B9E4C484FB38}" destId="{759439FF-EBF0-420C-A4E1-BCEBB9F0C616}" srcOrd="0" destOrd="0" parTransId="{8C2D3647-D8C8-45DE-AB67-189AD5B0C77D}" sibTransId="{C742E7AD-D4FB-4E08-9255-0908D50781B1}"/>
    <dgm:cxn modelId="{3D0737E3-6D5E-466D-AF56-99C8B22864F7}" type="presOf" srcId="{D99C26BB-5993-4833-AC05-01CD83DAD6BC}" destId="{2B11D96A-552D-459B-9888-2B22610ED1EF}" srcOrd="0" destOrd="0" presId="urn:microsoft.com/office/officeart/2005/8/layout/orgChart1"/>
    <dgm:cxn modelId="{CC30FA7B-AC9F-441E-BD59-68D54028A4D0}" type="presOf" srcId="{759439FF-EBF0-420C-A4E1-BCEBB9F0C616}" destId="{AD9B45FF-BDFD-48AD-9E8F-CBED958E8B7E}" srcOrd="0" destOrd="0" presId="urn:microsoft.com/office/officeart/2005/8/layout/orgChart1"/>
    <dgm:cxn modelId="{F2E6FABC-5F1B-499D-942E-31739BD1C515}" srcId="{83C99878-C064-4EB2-9AAF-B9E4C484FB38}" destId="{343420BD-6A73-4E21-B971-65D8B99EDB5E}" srcOrd="2" destOrd="0" parTransId="{D99C26BB-5993-4833-AC05-01CD83DAD6BC}" sibTransId="{CECCB7E4-3573-48C7-A00C-9473A68F19DA}"/>
    <dgm:cxn modelId="{8F3DB107-7C97-481E-96B0-C3370869B97D}" type="presOf" srcId="{6481D033-E418-4F4A-B154-812941D06EB3}" destId="{F33AADBE-99F6-4A89-A16C-338D2A24C923}" srcOrd="1" destOrd="0" presId="urn:microsoft.com/office/officeart/2005/8/layout/orgChart1"/>
    <dgm:cxn modelId="{2BDF6406-9A75-4865-AC4A-2DA2BEBF9E99}" srcId="{83C99878-C064-4EB2-9AAF-B9E4C484FB38}" destId="{511A8DD4-AF9C-4D41-8195-9328C46214B5}" srcOrd="4" destOrd="0" parTransId="{EC57A905-A52D-4E0D-9B98-1D47359C1455}" sibTransId="{659DD31F-165B-488B-8BA5-69169212AEC9}"/>
    <dgm:cxn modelId="{0FDA432E-AFCD-4452-B621-A2F24401AE13}" type="presOf" srcId="{39456647-C787-4CC7-B777-102C8260AAAC}" destId="{A70384A4-9066-416B-9375-15D1CDDA3FD2}" srcOrd="1" destOrd="0" presId="urn:microsoft.com/office/officeart/2005/8/layout/orgChart1"/>
    <dgm:cxn modelId="{64AFA915-F5B7-40B7-94B5-37FAB0FE1BB9}" type="presOf" srcId="{D9F80095-0010-44B6-9463-90D9ED651792}" destId="{D1949284-9E52-4D04-9BAC-D17604B3F692}" srcOrd="0" destOrd="0" presId="urn:microsoft.com/office/officeart/2005/8/layout/orgChart1"/>
    <dgm:cxn modelId="{E7518186-B646-4E2C-9566-711155CCAA52}" type="presParOf" srcId="{2DA9138A-CFA3-47A5-B54D-541B166A97D7}" destId="{6DFBD5B8-E3E2-4B15-AA97-4561DB60B645}" srcOrd="0" destOrd="0" presId="urn:microsoft.com/office/officeart/2005/8/layout/orgChart1"/>
    <dgm:cxn modelId="{A4F94464-B30C-448A-AE22-F9D7A14AEBD1}" type="presParOf" srcId="{6DFBD5B8-E3E2-4B15-AA97-4561DB60B645}" destId="{276CB74D-AFF3-4279-A41F-2A184101BEE5}" srcOrd="0" destOrd="0" presId="urn:microsoft.com/office/officeart/2005/8/layout/orgChart1"/>
    <dgm:cxn modelId="{F01CD812-C9B0-4126-8DE4-927AD0A7B986}" type="presParOf" srcId="{276CB74D-AFF3-4279-A41F-2A184101BEE5}" destId="{C8F7A721-8E8F-4BAA-967E-507E54FE9D32}" srcOrd="0" destOrd="0" presId="urn:microsoft.com/office/officeart/2005/8/layout/orgChart1"/>
    <dgm:cxn modelId="{EC7C5197-AB98-4672-A365-79821583A1EC}" type="presParOf" srcId="{276CB74D-AFF3-4279-A41F-2A184101BEE5}" destId="{9EB9BEEB-A5C0-4517-A69C-DB10E924B327}" srcOrd="1" destOrd="0" presId="urn:microsoft.com/office/officeart/2005/8/layout/orgChart1"/>
    <dgm:cxn modelId="{073B6809-D7C9-4CCD-9E7E-83E3743B316E}" type="presParOf" srcId="{6DFBD5B8-E3E2-4B15-AA97-4561DB60B645}" destId="{E7E37305-4F5B-4A64-AE81-F0C821722FD8}" srcOrd="1" destOrd="0" presId="urn:microsoft.com/office/officeart/2005/8/layout/orgChart1"/>
    <dgm:cxn modelId="{1D6B578D-BF3C-4B24-B247-7DD7E60CF94E}" type="presParOf" srcId="{E7E37305-4F5B-4A64-AE81-F0C821722FD8}" destId="{6527FE07-8D36-4385-911C-022B674C5AF6}" srcOrd="0" destOrd="0" presId="urn:microsoft.com/office/officeart/2005/8/layout/orgChart1"/>
    <dgm:cxn modelId="{7266FF26-4F6A-49F3-B78D-1AE778EBDDA0}" type="presParOf" srcId="{E7E37305-4F5B-4A64-AE81-F0C821722FD8}" destId="{FD56C62C-CF30-44FD-A989-C5CEDD87B3D9}" srcOrd="1" destOrd="0" presId="urn:microsoft.com/office/officeart/2005/8/layout/orgChart1"/>
    <dgm:cxn modelId="{1CC24D28-BCB6-41F6-A606-9A7064AF3951}" type="presParOf" srcId="{FD56C62C-CF30-44FD-A989-C5CEDD87B3D9}" destId="{B3859000-E746-43AE-B5E3-7DDC1EA90F02}" srcOrd="0" destOrd="0" presId="urn:microsoft.com/office/officeart/2005/8/layout/orgChart1"/>
    <dgm:cxn modelId="{C825348E-D12B-497E-A224-2A1E010DC794}" type="presParOf" srcId="{B3859000-E746-43AE-B5E3-7DDC1EA90F02}" destId="{AD9B45FF-BDFD-48AD-9E8F-CBED958E8B7E}" srcOrd="0" destOrd="0" presId="urn:microsoft.com/office/officeart/2005/8/layout/orgChart1"/>
    <dgm:cxn modelId="{9DAD0ABA-19B6-4564-BDAD-3CF876772F86}" type="presParOf" srcId="{B3859000-E746-43AE-B5E3-7DDC1EA90F02}" destId="{AF12999F-E646-48D8-9A93-411537A1DC8E}" srcOrd="1" destOrd="0" presId="urn:microsoft.com/office/officeart/2005/8/layout/orgChart1"/>
    <dgm:cxn modelId="{E6393AB5-779A-4172-B322-2576A3C19497}" type="presParOf" srcId="{FD56C62C-CF30-44FD-A989-C5CEDD87B3D9}" destId="{74734C8D-9D22-43D4-AF58-B5ED328006FA}" srcOrd="1" destOrd="0" presId="urn:microsoft.com/office/officeart/2005/8/layout/orgChart1"/>
    <dgm:cxn modelId="{52B80CEA-C8A8-4FAB-BACB-58293DEE555D}" type="presParOf" srcId="{74734C8D-9D22-43D4-AF58-B5ED328006FA}" destId="{EFC60B6B-8ED5-47BF-A91D-4B8B76F49DC1}" srcOrd="0" destOrd="0" presId="urn:microsoft.com/office/officeart/2005/8/layout/orgChart1"/>
    <dgm:cxn modelId="{7FE1D6DB-23EB-4486-9E42-2C17E4248DF1}" type="presParOf" srcId="{74734C8D-9D22-43D4-AF58-B5ED328006FA}" destId="{327C94A1-7EF4-4D8D-A082-1CC6524AB352}" srcOrd="1" destOrd="0" presId="urn:microsoft.com/office/officeart/2005/8/layout/orgChart1"/>
    <dgm:cxn modelId="{2DDA32A9-C196-4F60-BA58-A3BC437F896D}" type="presParOf" srcId="{327C94A1-7EF4-4D8D-A082-1CC6524AB352}" destId="{7F3F1EC2-378D-4F0B-988B-10698A3CB1E7}" srcOrd="0" destOrd="0" presId="urn:microsoft.com/office/officeart/2005/8/layout/orgChart1"/>
    <dgm:cxn modelId="{5ED3BDF0-F44A-4A37-B9CA-9EC152911A0E}" type="presParOf" srcId="{7F3F1EC2-378D-4F0B-988B-10698A3CB1E7}" destId="{1082112D-3840-452A-BD2C-25E6AF192E0D}" srcOrd="0" destOrd="0" presId="urn:microsoft.com/office/officeart/2005/8/layout/orgChart1"/>
    <dgm:cxn modelId="{1D6EC4DB-C079-4681-B23D-EA8443D46B8A}" type="presParOf" srcId="{7F3F1EC2-378D-4F0B-988B-10698A3CB1E7}" destId="{09510166-73E0-4C52-A5BD-B9648EF0F48C}" srcOrd="1" destOrd="0" presId="urn:microsoft.com/office/officeart/2005/8/layout/orgChart1"/>
    <dgm:cxn modelId="{1B109633-7AAD-4B52-8FFF-C21083446E8F}" type="presParOf" srcId="{327C94A1-7EF4-4D8D-A082-1CC6524AB352}" destId="{0331B678-64C1-4FB0-84FC-E69E05C133F5}" srcOrd="1" destOrd="0" presId="urn:microsoft.com/office/officeart/2005/8/layout/orgChart1"/>
    <dgm:cxn modelId="{5F2C25DF-68B1-4D79-A524-5B8F85B3B2AC}" type="presParOf" srcId="{327C94A1-7EF4-4D8D-A082-1CC6524AB352}" destId="{7B6A6D03-D041-4952-9004-3D0E6E70C767}" srcOrd="2" destOrd="0" presId="urn:microsoft.com/office/officeart/2005/8/layout/orgChart1"/>
    <dgm:cxn modelId="{A182E278-477E-4BA5-A5D9-CB535B64E3F0}" type="presParOf" srcId="{FD56C62C-CF30-44FD-A989-C5CEDD87B3D9}" destId="{C8E670F7-D73C-452B-8D6B-F6F25B89859C}" srcOrd="2" destOrd="0" presId="urn:microsoft.com/office/officeart/2005/8/layout/orgChart1"/>
    <dgm:cxn modelId="{372725E6-3336-4F5D-9803-7479E4D92B18}" type="presParOf" srcId="{E7E37305-4F5B-4A64-AE81-F0C821722FD8}" destId="{4F78190D-4B6F-434E-B548-882E134AD31A}" srcOrd="2" destOrd="0" presId="urn:microsoft.com/office/officeart/2005/8/layout/orgChart1"/>
    <dgm:cxn modelId="{9B6A7FEB-C269-4D92-A509-5922E97136AD}" type="presParOf" srcId="{E7E37305-4F5B-4A64-AE81-F0C821722FD8}" destId="{C532D6E4-6CD2-4512-9161-119B095DBECF}" srcOrd="3" destOrd="0" presId="urn:microsoft.com/office/officeart/2005/8/layout/orgChart1"/>
    <dgm:cxn modelId="{FB0111F2-BA11-4401-A836-CE4D2F5A72F1}" type="presParOf" srcId="{C532D6E4-6CD2-4512-9161-119B095DBECF}" destId="{78E318C4-1193-4385-AC5C-CAD4EB639794}" srcOrd="0" destOrd="0" presId="urn:microsoft.com/office/officeart/2005/8/layout/orgChart1"/>
    <dgm:cxn modelId="{4A348127-0CA5-4C1C-B06A-2CA7839E4883}" type="presParOf" srcId="{78E318C4-1193-4385-AC5C-CAD4EB639794}" destId="{C56D6B39-5268-4725-B54E-E213900784BF}" srcOrd="0" destOrd="0" presId="urn:microsoft.com/office/officeart/2005/8/layout/orgChart1"/>
    <dgm:cxn modelId="{0FBEC01A-AD6B-4EB2-8C04-24803F6CA95E}" type="presParOf" srcId="{78E318C4-1193-4385-AC5C-CAD4EB639794}" destId="{A70384A4-9066-416B-9375-15D1CDDA3FD2}" srcOrd="1" destOrd="0" presId="urn:microsoft.com/office/officeart/2005/8/layout/orgChart1"/>
    <dgm:cxn modelId="{BC3B2EA5-28C0-4637-9DB5-2453B1232D89}" type="presParOf" srcId="{C532D6E4-6CD2-4512-9161-119B095DBECF}" destId="{1396AEA6-0704-49DD-B704-E24C1AF0FF7A}" srcOrd="1" destOrd="0" presId="urn:microsoft.com/office/officeart/2005/8/layout/orgChart1"/>
    <dgm:cxn modelId="{ADC40261-7497-416B-89E5-C0E1E20C1C85}" type="presParOf" srcId="{C532D6E4-6CD2-4512-9161-119B095DBECF}" destId="{98BF03A3-75F6-4198-90C5-F3C897870066}" srcOrd="2" destOrd="0" presId="urn:microsoft.com/office/officeart/2005/8/layout/orgChart1"/>
    <dgm:cxn modelId="{E3B32018-152A-4DE0-B7AA-3EE81BA1CC33}" type="presParOf" srcId="{E7E37305-4F5B-4A64-AE81-F0C821722FD8}" destId="{2B11D96A-552D-459B-9888-2B22610ED1EF}" srcOrd="4" destOrd="0" presId="urn:microsoft.com/office/officeart/2005/8/layout/orgChart1"/>
    <dgm:cxn modelId="{074433D8-20B4-4515-AD9E-9A1FBF2B4488}" type="presParOf" srcId="{E7E37305-4F5B-4A64-AE81-F0C821722FD8}" destId="{6C00C43D-2358-43DD-95DB-5F7A540D037C}" srcOrd="5" destOrd="0" presId="urn:microsoft.com/office/officeart/2005/8/layout/orgChart1"/>
    <dgm:cxn modelId="{318A127F-6877-4370-9CAC-6F044F43B8DA}" type="presParOf" srcId="{6C00C43D-2358-43DD-95DB-5F7A540D037C}" destId="{BF23BB7B-8B0E-4A20-A1D0-DD90455B6224}" srcOrd="0" destOrd="0" presId="urn:microsoft.com/office/officeart/2005/8/layout/orgChart1"/>
    <dgm:cxn modelId="{4AD8E166-39F0-4D2E-9107-3C975756D2BD}" type="presParOf" srcId="{BF23BB7B-8B0E-4A20-A1D0-DD90455B6224}" destId="{D43DE835-F26D-4462-9A23-B3EF1F89100E}" srcOrd="0" destOrd="0" presId="urn:microsoft.com/office/officeart/2005/8/layout/orgChart1"/>
    <dgm:cxn modelId="{D4EE5409-9E37-46A9-AD92-528366DBDDB8}" type="presParOf" srcId="{BF23BB7B-8B0E-4A20-A1D0-DD90455B6224}" destId="{9B4C637D-CC8D-4DB8-A331-A8AE6BD8404D}" srcOrd="1" destOrd="0" presId="urn:microsoft.com/office/officeart/2005/8/layout/orgChart1"/>
    <dgm:cxn modelId="{76CBA1CE-D5D2-4752-B247-FEFD071562DB}" type="presParOf" srcId="{6C00C43D-2358-43DD-95DB-5F7A540D037C}" destId="{75871BAC-F6A7-42B3-A686-49A69CF4573A}" srcOrd="1" destOrd="0" presId="urn:microsoft.com/office/officeart/2005/8/layout/orgChart1"/>
    <dgm:cxn modelId="{8D0A8FB1-9EC5-4D45-9577-7920EC99E25F}" type="presParOf" srcId="{6C00C43D-2358-43DD-95DB-5F7A540D037C}" destId="{38624272-6CAB-425F-8DD0-70F83EF37B7A}" srcOrd="2" destOrd="0" presId="urn:microsoft.com/office/officeart/2005/8/layout/orgChart1"/>
    <dgm:cxn modelId="{B9C0B0B3-E644-477B-959D-7EB84C484026}" type="presParOf" srcId="{E7E37305-4F5B-4A64-AE81-F0C821722FD8}" destId="{D1949284-9E52-4D04-9BAC-D17604B3F692}" srcOrd="6" destOrd="0" presId="urn:microsoft.com/office/officeart/2005/8/layout/orgChart1"/>
    <dgm:cxn modelId="{0972DFB7-0426-4FA1-A19D-288D1B32F7C9}" type="presParOf" srcId="{E7E37305-4F5B-4A64-AE81-F0C821722FD8}" destId="{BEB3E98E-F9FA-4767-B750-BA0D17AE60B9}" srcOrd="7" destOrd="0" presId="urn:microsoft.com/office/officeart/2005/8/layout/orgChart1"/>
    <dgm:cxn modelId="{3E4F2268-0ED3-4022-AE3C-57A75D1BB9E3}" type="presParOf" srcId="{BEB3E98E-F9FA-4767-B750-BA0D17AE60B9}" destId="{760771EC-7CF4-4CBE-A964-80A8402F616B}" srcOrd="0" destOrd="0" presId="urn:microsoft.com/office/officeart/2005/8/layout/orgChart1"/>
    <dgm:cxn modelId="{20E93F2B-F47B-423C-B6E8-9DE7BB0B2539}" type="presParOf" srcId="{760771EC-7CF4-4CBE-A964-80A8402F616B}" destId="{CA070BF4-AC31-4CCC-940C-158FB8077ABD}" srcOrd="0" destOrd="0" presId="urn:microsoft.com/office/officeart/2005/8/layout/orgChart1"/>
    <dgm:cxn modelId="{97349E4E-AC5C-4DF3-AFCC-F99B5690C0E9}" type="presParOf" srcId="{760771EC-7CF4-4CBE-A964-80A8402F616B}" destId="{9283CFFC-5260-4781-AC58-8696E582E0A0}" srcOrd="1" destOrd="0" presId="urn:microsoft.com/office/officeart/2005/8/layout/orgChart1"/>
    <dgm:cxn modelId="{3A20C0EA-7D8C-4322-BA81-0B57EAC9C503}" type="presParOf" srcId="{BEB3E98E-F9FA-4767-B750-BA0D17AE60B9}" destId="{FD42A5B7-AB7D-4F9D-946B-DA2D22644553}" srcOrd="1" destOrd="0" presId="urn:microsoft.com/office/officeart/2005/8/layout/orgChart1"/>
    <dgm:cxn modelId="{0A7C3855-6E99-4BE4-9658-10E3281710D6}" type="presParOf" srcId="{BEB3E98E-F9FA-4767-B750-BA0D17AE60B9}" destId="{222D28C1-DEBD-4D70-8C51-DF7E929F5EDA}" srcOrd="2" destOrd="0" presId="urn:microsoft.com/office/officeart/2005/8/layout/orgChart1"/>
    <dgm:cxn modelId="{336C1AB2-63FC-4A39-B891-C3C2CB670642}" type="presParOf" srcId="{E7E37305-4F5B-4A64-AE81-F0C821722FD8}" destId="{E1CAA3F6-498F-4E82-B214-0B96FF9C0C2F}" srcOrd="8" destOrd="0" presId="urn:microsoft.com/office/officeart/2005/8/layout/orgChart1"/>
    <dgm:cxn modelId="{C2F111F9-1E12-43C0-9EB6-347A3FC1DD1D}" type="presParOf" srcId="{E7E37305-4F5B-4A64-AE81-F0C821722FD8}" destId="{50344405-8061-41D0-99FA-D041BF169A04}" srcOrd="9" destOrd="0" presId="urn:microsoft.com/office/officeart/2005/8/layout/orgChart1"/>
    <dgm:cxn modelId="{6DC07CBA-C051-41FC-AABD-55F87DCA60A8}" type="presParOf" srcId="{50344405-8061-41D0-99FA-D041BF169A04}" destId="{D594AD56-96E1-43F2-83EE-634CAD23B886}" srcOrd="0" destOrd="0" presId="urn:microsoft.com/office/officeart/2005/8/layout/orgChart1"/>
    <dgm:cxn modelId="{D9AEECC0-B653-4250-84CC-30F3B53C3BF0}" type="presParOf" srcId="{D594AD56-96E1-43F2-83EE-634CAD23B886}" destId="{543B73D6-3F41-41E2-AA30-5C82DBBC8D62}" srcOrd="0" destOrd="0" presId="urn:microsoft.com/office/officeart/2005/8/layout/orgChart1"/>
    <dgm:cxn modelId="{D5C6C830-623D-4EE7-8F9A-27848D0FEFBD}" type="presParOf" srcId="{D594AD56-96E1-43F2-83EE-634CAD23B886}" destId="{830CB744-07DE-46F1-89DF-F03C1291DA5C}" srcOrd="1" destOrd="0" presId="urn:microsoft.com/office/officeart/2005/8/layout/orgChart1"/>
    <dgm:cxn modelId="{ED700F3A-DC5A-4113-B1DC-A45FD6841DA8}" type="presParOf" srcId="{50344405-8061-41D0-99FA-D041BF169A04}" destId="{BCC7A583-F4CE-468F-80CB-667DB601AB75}" srcOrd="1" destOrd="0" presId="urn:microsoft.com/office/officeart/2005/8/layout/orgChart1"/>
    <dgm:cxn modelId="{C975F781-20A3-4982-B750-FA179B6A80FD}" type="presParOf" srcId="{50344405-8061-41D0-99FA-D041BF169A04}" destId="{E2770F0D-CA62-40C0-8A1C-BB0B2EB0D2D2}" srcOrd="2" destOrd="0" presId="urn:microsoft.com/office/officeart/2005/8/layout/orgChart1"/>
    <dgm:cxn modelId="{4E6F928D-5C63-4632-9F3B-E0C95F7D2B57}" type="presParOf" srcId="{E7E37305-4F5B-4A64-AE81-F0C821722FD8}" destId="{46D19164-47C1-4FFF-8EDA-B00D5F8B770E}" srcOrd="10" destOrd="0" presId="urn:microsoft.com/office/officeart/2005/8/layout/orgChart1"/>
    <dgm:cxn modelId="{4382ADB4-5EB7-4B2D-94C2-CE905F71F98C}" type="presParOf" srcId="{E7E37305-4F5B-4A64-AE81-F0C821722FD8}" destId="{EB3766D7-7236-4E9B-8C0C-B9127018C120}" srcOrd="11" destOrd="0" presId="urn:microsoft.com/office/officeart/2005/8/layout/orgChart1"/>
    <dgm:cxn modelId="{C5990113-4348-4850-BE6A-828F748214E4}" type="presParOf" srcId="{EB3766D7-7236-4E9B-8C0C-B9127018C120}" destId="{914CB39F-136D-4F05-B3E4-856D6C66C375}" srcOrd="0" destOrd="0" presId="urn:microsoft.com/office/officeart/2005/8/layout/orgChart1"/>
    <dgm:cxn modelId="{49FF4CCF-035D-43A0-A9CC-EDF47025D3A0}" type="presParOf" srcId="{914CB39F-136D-4F05-B3E4-856D6C66C375}" destId="{5CAB2671-2A85-4242-805A-4BA48AB4A9AB}" srcOrd="0" destOrd="0" presId="urn:microsoft.com/office/officeart/2005/8/layout/orgChart1"/>
    <dgm:cxn modelId="{3583386D-0B5C-4572-AEB7-E9592EA5E385}" type="presParOf" srcId="{914CB39F-136D-4F05-B3E4-856D6C66C375}" destId="{ED1EE8FC-E17E-465F-B674-DE05889FA69A}" srcOrd="1" destOrd="0" presId="urn:microsoft.com/office/officeart/2005/8/layout/orgChart1"/>
    <dgm:cxn modelId="{C1423634-6304-466E-A09B-8D28A7B4ADFC}" type="presParOf" srcId="{EB3766D7-7236-4E9B-8C0C-B9127018C120}" destId="{E19073C4-4CB8-4EC3-8B79-08DDA8C62DA7}" srcOrd="1" destOrd="0" presId="urn:microsoft.com/office/officeart/2005/8/layout/orgChart1"/>
    <dgm:cxn modelId="{DDDCD7BF-440B-48EB-932C-A896BCCE27EC}" type="presParOf" srcId="{E19073C4-4CB8-4EC3-8B79-08DDA8C62DA7}" destId="{B42E51D0-A711-48A5-B346-45E836DB252F}" srcOrd="0" destOrd="0" presId="urn:microsoft.com/office/officeart/2005/8/layout/orgChart1"/>
    <dgm:cxn modelId="{16309879-35A9-4912-9D39-BA767F4B1DCC}" type="presParOf" srcId="{E19073C4-4CB8-4EC3-8B79-08DDA8C62DA7}" destId="{5716C5E5-E6EB-4448-8D00-658DC567A916}" srcOrd="1" destOrd="0" presId="urn:microsoft.com/office/officeart/2005/8/layout/orgChart1"/>
    <dgm:cxn modelId="{29AF8B52-C0E8-4A6A-B6A7-A1835774E089}" type="presParOf" srcId="{5716C5E5-E6EB-4448-8D00-658DC567A916}" destId="{8013F4EF-7AF0-4F50-97A1-118772A720DE}" srcOrd="0" destOrd="0" presId="urn:microsoft.com/office/officeart/2005/8/layout/orgChart1"/>
    <dgm:cxn modelId="{7ABF3140-5E8C-4C79-B044-FDD0F93DE2EA}" type="presParOf" srcId="{8013F4EF-7AF0-4F50-97A1-118772A720DE}" destId="{75DE4621-3B04-435F-9E58-7975CCB9D581}" srcOrd="0" destOrd="0" presId="urn:microsoft.com/office/officeart/2005/8/layout/orgChart1"/>
    <dgm:cxn modelId="{105ECD7E-3942-4D30-B6E5-455E55F6D48E}" type="presParOf" srcId="{8013F4EF-7AF0-4F50-97A1-118772A720DE}" destId="{BEBC9984-0497-4C5C-BBB6-C9A0C12D0E19}" srcOrd="1" destOrd="0" presId="urn:microsoft.com/office/officeart/2005/8/layout/orgChart1"/>
    <dgm:cxn modelId="{8B0EDFB6-B5AF-4C96-B847-AEBD0FFF0327}" type="presParOf" srcId="{5716C5E5-E6EB-4448-8D00-658DC567A916}" destId="{CA2F3308-3B6D-49E0-A6CA-BEC5DB3D8E7C}" srcOrd="1" destOrd="0" presId="urn:microsoft.com/office/officeart/2005/8/layout/orgChart1"/>
    <dgm:cxn modelId="{D263BF0A-1DF4-41AA-884F-3D6A9AB038C8}" type="presParOf" srcId="{5716C5E5-E6EB-4448-8D00-658DC567A916}" destId="{EEBD76BF-BFA6-4EDE-BCA0-66D62CE1325F}" srcOrd="2" destOrd="0" presId="urn:microsoft.com/office/officeart/2005/8/layout/orgChart1"/>
    <dgm:cxn modelId="{561919FB-35F0-41CA-AFBA-8376F3DA46D7}" type="presParOf" srcId="{EB3766D7-7236-4E9B-8C0C-B9127018C120}" destId="{591E017F-13FF-46C4-90F2-022AB72208CC}" srcOrd="2" destOrd="0" presId="urn:microsoft.com/office/officeart/2005/8/layout/orgChart1"/>
    <dgm:cxn modelId="{B743E7A8-F45D-4DC1-BEDC-A3493D7447D3}" type="presParOf" srcId="{6DFBD5B8-E3E2-4B15-AA97-4561DB60B645}" destId="{4AE57951-67F8-43F2-94E3-A5DFFB59D1C9}" srcOrd="2" destOrd="0" presId="urn:microsoft.com/office/officeart/2005/8/layout/orgChart1"/>
    <dgm:cxn modelId="{2DDA9296-7ABE-441B-A1A8-F194A47C8DEF}" type="presParOf" srcId="{2DA9138A-CFA3-47A5-B54D-541B166A97D7}" destId="{DF26CD41-C83C-4812-9EBA-16686C48B1DF}" srcOrd="1" destOrd="0" presId="urn:microsoft.com/office/officeart/2005/8/layout/orgChart1"/>
    <dgm:cxn modelId="{80BFFD8F-7FDD-4605-A544-FB3BACAA52AF}" type="presParOf" srcId="{DF26CD41-C83C-4812-9EBA-16686C48B1DF}" destId="{84987AF1-37A8-40BD-B195-94E512D2FF5F}" srcOrd="0" destOrd="0" presId="urn:microsoft.com/office/officeart/2005/8/layout/orgChart1"/>
    <dgm:cxn modelId="{FDD69603-01F1-43CE-88F1-739A9BB87399}" type="presParOf" srcId="{84987AF1-37A8-40BD-B195-94E512D2FF5F}" destId="{C5F62FB2-EC43-49EA-9988-C97BE340F751}" srcOrd="0" destOrd="0" presId="urn:microsoft.com/office/officeart/2005/8/layout/orgChart1"/>
    <dgm:cxn modelId="{FD2E4F5C-A9D7-4B8A-A117-CECBB602B8EF}" type="presParOf" srcId="{84987AF1-37A8-40BD-B195-94E512D2FF5F}" destId="{F33AADBE-99F6-4A89-A16C-338D2A24C923}" srcOrd="1" destOrd="0" presId="urn:microsoft.com/office/officeart/2005/8/layout/orgChart1"/>
    <dgm:cxn modelId="{1775177E-84EB-40C0-BE7D-7DAFF7204280}" type="presParOf" srcId="{DF26CD41-C83C-4812-9EBA-16686C48B1DF}" destId="{0B69EDD6-3B91-44A6-99B8-3C5FD1160FE2}" srcOrd="1" destOrd="0" presId="urn:microsoft.com/office/officeart/2005/8/layout/orgChart1"/>
    <dgm:cxn modelId="{3DF99C55-BEB2-4748-9577-FFA253BA2D98}" type="presParOf" srcId="{DF26CD41-C83C-4812-9EBA-16686C48B1DF}" destId="{B2CDC785-0D52-4960-9FE5-AC34AA68712D}" srcOrd="2" destOrd="0" presId="urn:microsoft.com/office/officeart/2005/8/layout/orgChart1"/>
  </dgm:cxnLst>
  <dgm:bg/>
  <dgm:whole/>
</dgm:dataModel>
</file>

<file path=ppt/diagrams/data10.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08813FF5-EFFB-4CC6-984B-0CF78577B9FC}">
      <dgm:prSet/>
      <dgm:spPr/>
      <dgm:t>
        <a:bodyPr/>
        <a:lstStyle/>
        <a:p>
          <a:r>
            <a:rPr lang="es-ES" dirty="0" smtClean="0"/>
            <a:t>ventas</a:t>
          </a:r>
          <a:endParaRPr lang="es-ES" dirty="0"/>
        </a:p>
      </dgm:t>
    </dgm:pt>
    <dgm:pt modelId="{97ACFDA5-F4A4-4367-9092-6A1229A29031}" type="parTrans" cxnId="{B94493AB-7DD4-437A-8EEE-DE937F610B04}">
      <dgm:prSet/>
      <dgm:spPr/>
      <dgm:t>
        <a:bodyPr/>
        <a:lstStyle/>
        <a:p>
          <a:endParaRPr lang="es-ES"/>
        </a:p>
      </dgm:t>
    </dgm:pt>
    <dgm:pt modelId="{F943EAE5-0682-4CCD-93AB-CC19D7574900}" type="sibTrans" cxnId="{B94493AB-7DD4-437A-8EEE-DE937F610B04}">
      <dgm:prSet/>
      <dgm:spPr/>
      <dgm:t>
        <a:bodyPr/>
        <a:lstStyle/>
        <a:p>
          <a:endParaRPr lang="es-ES"/>
        </a:p>
      </dgm:t>
    </dgm:pt>
    <dgm:pt modelId="{C6BAD5D7-A42D-4F33-A6DF-23719B0091CB}">
      <dgm:prSet custT="1"/>
      <dgm:spPr/>
      <dgm:t>
        <a:bodyPr/>
        <a:lstStyle/>
        <a:p>
          <a:r>
            <a:rPr lang="es-ES" sz="1400" dirty="0" smtClean="0"/>
            <a:t>Recepción de los encargos </a:t>
          </a:r>
          <a:endParaRPr lang="es-ES" sz="1400" dirty="0"/>
        </a:p>
      </dgm:t>
    </dgm:pt>
    <dgm:pt modelId="{64647F73-367E-472B-88D3-81BDBB95CAF4}" type="sibTrans" cxnId="{BFCFE298-46CC-4511-8918-E6D85B7C91A2}">
      <dgm:prSet/>
      <dgm:spPr/>
      <dgm:t>
        <a:bodyPr/>
        <a:lstStyle/>
        <a:p>
          <a:endParaRPr lang="es-ES"/>
        </a:p>
      </dgm:t>
    </dgm:pt>
    <dgm:pt modelId="{C3B6F941-0CE6-433C-90A6-D15064F299BA}" type="parTrans" cxnId="{BFCFE298-46CC-4511-8918-E6D85B7C91A2}">
      <dgm:prSet/>
      <dgm:spPr/>
      <dgm:t>
        <a:bodyPr/>
        <a:lstStyle/>
        <a:p>
          <a:endParaRPr lang="es-ES"/>
        </a:p>
      </dgm:t>
    </dgm:pt>
    <dgm:pt modelId="{3981CEC2-018B-407D-9927-7B807BA024B5}">
      <dgm:prSet custT="1"/>
      <dgm:spPr/>
      <dgm:t>
        <a:bodyPr/>
        <a:lstStyle/>
        <a:p>
          <a:r>
            <a:rPr lang="es-ES" sz="1400" dirty="0" smtClean="0"/>
            <a:t>Transporte del producto </a:t>
          </a:r>
          <a:endParaRPr lang="es-ES" sz="1400" dirty="0"/>
        </a:p>
      </dgm:t>
    </dgm:pt>
    <dgm:pt modelId="{E765330D-1AE6-4B2D-8C22-DC40B68C7D96}" type="sibTrans" cxnId="{3B673754-1B9A-4D82-8126-FAFB631BD12E}">
      <dgm:prSet/>
      <dgm:spPr/>
      <dgm:t>
        <a:bodyPr/>
        <a:lstStyle/>
        <a:p>
          <a:endParaRPr lang="es-ES"/>
        </a:p>
      </dgm:t>
    </dgm:pt>
    <dgm:pt modelId="{EA446CE9-CE65-4D1D-9004-305E21AE2DAF}" type="parTrans" cxnId="{3B673754-1B9A-4D82-8126-FAFB631BD12E}">
      <dgm:prSet/>
      <dgm:spPr/>
      <dgm:t>
        <a:bodyPr/>
        <a:lstStyle/>
        <a:p>
          <a:endParaRPr lang="es-ES"/>
        </a:p>
      </dgm:t>
    </dgm:pt>
    <dgm:pt modelId="{B84DA4C1-723F-426B-BBAD-98CC554CC6AD}">
      <dgm:prSet custT="1"/>
      <dgm:spPr/>
      <dgm:t>
        <a:bodyPr/>
        <a:lstStyle/>
        <a:p>
          <a:r>
            <a:rPr lang="es-ES" sz="1400" dirty="0" smtClean="0"/>
            <a:t>Venta directa al público</a:t>
          </a:r>
          <a:endParaRPr lang="es-ES" sz="1400" dirty="0"/>
        </a:p>
      </dgm:t>
    </dgm:pt>
    <dgm:pt modelId="{23542FEA-C215-4BD1-B957-4960C1BE5DB5}" type="sibTrans" cxnId="{606AD3C1-8BD1-4AF9-8632-A8E82733DF1B}">
      <dgm:prSet/>
      <dgm:spPr/>
      <dgm:t>
        <a:bodyPr/>
        <a:lstStyle/>
        <a:p>
          <a:endParaRPr lang="es-ES"/>
        </a:p>
      </dgm:t>
    </dgm:pt>
    <dgm:pt modelId="{E5BC340B-438B-4930-BB87-88D18F379083}" type="parTrans" cxnId="{606AD3C1-8BD1-4AF9-8632-A8E82733DF1B}">
      <dgm:prSet/>
      <dgm:spPr/>
      <dgm:t>
        <a:bodyPr/>
        <a:lstStyle/>
        <a:p>
          <a:endParaRPr lang="es-ES"/>
        </a:p>
      </dgm:t>
    </dgm:pt>
    <dgm:pt modelId="{1D21B09B-4269-4D9D-8535-1F225F747356}">
      <dgm:prSet custT="1"/>
      <dgm:spPr/>
      <dgm:t>
        <a:bodyPr/>
        <a:lstStyle/>
        <a:p>
          <a:r>
            <a:rPr lang="es-ES" sz="1600" dirty="0" smtClean="0"/>
            <a:t>facturación</a:t>
          </a:r>
          <a:endParaRPr lang="es-ES" sz="1600" dirty="0"/>
        </a:p>
      </dgm:t>
    </dgm:pt>
    <dgm:pt modelId="{72A65593-745B-49F8-94EB-FE879B6A9033}" type="parTrans" cxnId="{8E3E28E7-709A-4740-9CE3-184F7987E96D}">
      <dgm:prSet/>
      <dgm:spPr/>
      <dgm:t>
        <a:bodyPr/>
        <a:lstStyle/>
        <a:p>
          <a:endParaRPr lang="es-ES"/>
        </a:p>
      </dgm:t>
    </dgm:pt>
    <dgm:pt modelId="{8E165A0D-9DCF-4E51-B961-6D4E1B8A6CA8}" type="sibTrans" cxnId="{8E3E28E7-709A-4740-9CE3-184F7987E96D}">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A98AB1EA-6C03-45C1-969F-2B66A2DAC61F}" type="pres">
      <dgm:prSet presAssocID="{08813FF5-EFFB-4CC6-984B-0CF78577B9FC}" presName="horFlow" presStyleCnt="0"/>
      <dgm:spPr/>
    </dgm:pt>
    <dgm:pt modelId="{F991B7A5-8195-40E5-835B-F0A6025C77B2}" type="pres">
      <dgm:prSet presAssocID="{08813FF5-EFFB-4CC6-984B-0CF78577B9FC}" presName="bigChev" presStyleLbl="node1" presStyleIdx="0" presStyleCnt="1"/>
      <dgm:spPr/>
      <dgm:t>
        <a:bodyPr/>
        <a:lstStyle/>
        <a:p>
          <a:endParaRPr lang="es-ES"/>
        </a:p>
      </dgm:t>
    </dgm:pt>
    <dgm:pt modelId="{83BD8171-5BED-48E1-9BF2-CCE500C4A075}" type="pres">
      <dgm:prSet presAssocID="{C3B6F941-0CE6-433C-90A6-D15064F299BA}" presName="parTrans" presStyleCnt="0"/>
      <dgm:spPr/>
    </dgm:pt>
    <dgm:pt modelId="{158C5E89-0133-465C-A73E-4806D9364DBA}" type="pres">
      <dgm:prSet presAssocID="{C6BAD5D7-A42D-4F33-A6DF-23719B0091CB}" presName="node" presStyleLbl="alignAccFollowNode1" presStyleIdx="0" presStyleCnt="4">
        <dgm:presLayoutVars>
          <dgm:bulletEnabled val="1"/>
        </dgm:presLayoutVars>
      </dgm:prSet>
      <dgm:spPr/>
      <dgm:t>
        <a:bodyPr/>
        <a:lstStyle/>
        <a:p>
          <a:endParaRPr lang="es-ES"/>
        </a:p>
      </dgm:t>
    </dgm:pt>
    <dgm:pt modelId="{876F0861-F3BF-4ACD-B590-5DB7A850A43D}" type="pres">
      <dgm:prSet presAssocID="{64647F73-367E-472B-88D3-81BDBB95CAF4}" presName="sibTrans" presStyleCnt="0"/>
      <dgm:spPr/>
    </dgm:pt>
    <dgm:pt modelId="{B8A6FA5D-4F4E-4130-B15B-2F156352A59D}" type="pres">
      <dgm:prSet presAssocID="{3981CEC2-018B-407D-9927-7B807BA024B5}" presName="node" presStyleLbl="alignAccFollowNode1" presStyleIdx="1" presStyleCnt="4">
        <dgm:presLayoutVars>
          <dgm:bulletEnabled val="1"/>
        </dgm:presLayoutVars>
      </dgm:prSet>
      <dgm:spPr/>
      <dgm:t>
        <a:bodyPr/>
        <a:lstStyle/>
        <a:p>
          <a:endParaRPr lang="es-ES"/>
        </a:p>
      </dgm:t>
    </dgm:pt>
    <dgm:pt modelId="{CEBA5FA6-D54A-40A4-81CD-58EB162236CA}" type="pres">
      <dgm:prSet presAssocID="{E765330D-1AE6-4B2D-8C22-DC40B68C7D96}" presName="sibTrans" presStyleCnt="0"/>
      <dgm:spPr/>
    </dgm:pt>
    <dgm:pt modelId="{4DF96293-C437-4525-8DF6-F89A17A02372}" type="pres">
      <dgm:prSet presAssocID="{B84DA4C1-723F-426B-BBAD-98CC554CC6AD}" presName="node" presStyleLbl="alignAccFollowNode1" presStyleIdx="2" presStyleCnt="4">
        <dgm:presLayoutVars>
          <dgm:bulletEnabled val="1"/>
        </dgm:presLayoutVars>
      </dgm:prSet>
      <dgm:spPr/>
      <dgm:t>
        <a:bodyPr/>
        <a:lstStyle/>
        <a:p>
          <a:endParaRPr lang="es-ES"/>
        </a:p>
      </dgm:t>
    </dgm:pt>
    <dgm:pt modelId="{F2EFFC55-82C8-48B6-BFB0-0908CF9184C3}" type="pres">
      <dgm:prSet presAssocID="{23542FEA-C215-4BD1-B957-4960C1BE5DB5}" presName="sibTrans" presStyleCnt="0"/>
      <dgm:spPr/>
    </dgm:pt>
    <dgm:pt modelId="{F83E656A-D389-423D-978C-541EEB62E365}" type="pres">
      <dgm:prSet presAssocID="{1D21B09B-4269-4D9D-8535-1F225F747356}" presName="node" presStyleLbl="alignAccFollowNode1" presStyleIdx="3" presStyleCnt="4">
        <dgm:presLayoutVars>
          <dgm:bulletEnabled val="1"/>
        </dgm:presLayoutVars>
      </dgm:prSet>
      <dgm:spPr/>
      <dgm:t>
        <a:bodyPr/>
        <a:lstStyle/>
        <a:p>
          <a:endParaRPr lang="es-ES"/>
        </a:p>
      </dgm:t>
    </dgm:pt>
  </dgm:ptLst>
  <dgm:cxnLst>
    <dgm:cxn modelId="{606AD3C1-8BD1-4AF9-8632-A8E82733DF1B}" srcId="{08813FF5-EFFB-4CC6-984B-0CF78577B9FC}" destId="{B84DA4C1-723F-426B-BBAD-98CC554CC6AD}" srcOrd="2" destOrd="0" parTransId="{E5BC340B-438B-4930-BB87-88D18F379083}" sibTransId="{23542FEA-C215-4BD1-B957-4960C1BE5DB5}"/>
    <dgm:cxn modelId="{8E3E28E7-709A-4740-9CE3-184F7987E96D}" srcId="{08813FF5-EFFB-4CC6-984B-0CF78577B9FC}" destId="{1D21B09B-4269-4D9D-8535-1F225F747356}" srcOrd="3" destOrd="0" parTransId="{72A65593-745B-49F8-94EB-FE879B6A9033}" sibTransId="{8E165A0D-9DCF-4E51-B961-6D4E1B8A6CA8}"/>
    <dgm:cxn modelId="{FD6E2C7E-BB11-47CC-9BB0-4F2D05ED83B4}" type="presOf" srcId="{1D21B09B-4269-4D9D-8535-1F225F747356}" destId="{F83E656A-D389-423D-978C-541EEB62E365}" srcOrd="0" destOrd="0" presId="urn:microsoft.com/office/officeart/2005/8/layout/lProcess3"/>
    <dgm:cxn modelId="{BFCFE298-46CC-4511-8918-E6D85B7C91A2}" srcId="{08813FF5-EFFB-4CC6-984B-0CF78577B9FC}" destId="{C6BAD5D7-A42D-4F33-A6DF-23719B0091CB}" srcOrd="0" destOrd="0" parTransId="{C3B6F941-0CE6-433C-90A6-D15064F299BA}" sibTransId="{64647F73-367E-472B-88D3-81BDBB95CAF4}"/>
    <dgm:cxn modelId="{E3AE33A4-DFF3-4BCA-BCA5-95EAC605D9B2}" type="presOf" srcId="{CC543783-FAED-4071-B2D8-FB29C592E664}" destId="{B5034A3F-EF62-446E-B779-A4775DF2D51D}" srcOrd="0" destOrd="0" presId="urn:microsoft.com/office/officeart/2005/8/layout/lProcess3"/>
    <dgm:cxn modelId="{6E70E174-58B0-4849-9A81-37BE7397CAED}" type="presOf" srcId="{08813FF5-EFFB-4CC6-984B-0CF78577B9FC}" destId="{F991B7A5-8195-40E5-835B-F0A6025C77B2}" srcOrd="0" destOrd="0" presId="urn:microsoft.com/office/officeart/2005/8/layout/lProcess3"/>
    <dgm:cxn modelId="{B94493AB-7DD4-437A-8EEE-DE937F610B04}" srcId="{CC543783-FAED-4071-B2D8-FB29C592E664}" destId="{08813FF5-EFFB-4CC6-984B-0CF78577B9FC}" srcOrd="0" destOrd="0" parTransId="{97ACFDA5-F4A4-4367-9092-6A1229A29031}" sibTransId="{F943EAE5-0682-4CCD-93AB-CC19D7574900}"/>
    <dgm:cxn modelId="{3B673754-1B9A-4D82-8126-FAFB631BD12E}" srcId="{08813FF5-EFFB-4CC6-984B-0CF78577B9FC}" destId="{3981CEC2-018B-407D-9927-7B807BA024B5}" srcOrd="1" destOrd="0" parTransId="{EA446CE9-CE65-4D1D-9004-305E21AE2DAF}" sibTransId="{E765330D-1AE6-4B2D-8C22-DC40B68C7D96}"/>
    <dgm:cxn modelId="{F60D4021-EEA9-4516-8252-13EFBCF2BE0E}" type="presOf" srcId="{B84DA4C1-723F-426B-BBAD-98CC554CC6AD}" destId="{4DF96293-C437-4525-8DF6-F89A17A02372}" srcOrd="0" destOrd="0" presId="urn:microsoft.com/office/officeart/2005/8/layout/lProcess3"/>
    <dgm:cxn modelId="{1D35088A-950F-4C66-B95B-CD15DFFD058D}" type="presOf" srcId="{3981CEC2-018B-407D-9927-7B807BA024B5}" destId="{B8A6FA5D-4F4E-4130-B15B-2F156352A59D}" srcOrd="0" destOrd="0" presId="urn:microsoft.com/office/officeart/2005/8/layout/lProcess3"/>
    <dgm:cxn modelId="{F6BA0AE6-5B73-4A52-AE49-1E6166CFEE0F}" type="presOf" srcId="{C6BAD5D7-A42D-4F33-A6DF-23719B0091CB}" destId="{158C5E89-0133-465C-A73E-4806D9364DBA}" srcOrd="0" destOrd="0" presId="urn:microsoft.com/office/officeart/2005/8/layout/lProcess3"/>
    <dgm:cxn modelId="{74DC6700-04E1-40FA-A3A7-D13974AEE7DB}" type="presParOf" srcId="{B5034A3F-EF62-446E-B779-A4775DF2D51D}" destId="{A98AB1EA-6C03-45C1-969F-2B66A2DAC61F}" srcOrd="0" destOrd="0" presId="urn:microsoft.com/office/officeart/2005/8/layout/lProcess3"/>
    <dgm:cxn modelId="{627ADF90-3616-437A-A4FD-B8905EC91268}" type="presParOf" srcId="{A98AB1EA-6C03-45C1-969F-2B66A2DAC61F}" destId="{F991B7A5-8195-40E5-835B-F0A6025C77B2}" srcOrd="0" destOrd="0" presId="urn:microsoft.com/office/officeart/2005/8/layout/lProcess3"/>
    <dgm:cxn modelId="{77D9AE02-90DD-466D-8507-8B8C5B1695F6}" type="presParOf" srcId="{A98AB1EA-6C03-45C1-969F-2B66A2DAC61F}" destId="{83BD8171-5BED-48E1-9BF2-CCE500C4A075}" srcOrd="1" destOrd="0" presId="urn:microsoft.com/office/officeart/2005/8/layout/lProcess3"/>
    <dgm:cxn modelId="{637E8AFA-3301-4DC6-A6F6-649C6922196F}" type="presParOf" srcId="{A98AB1EA-6C03-45C1-969F-2B66A2DAC61F}" destId="{158C5E89-0133-465C-A73E-4806D9364DBA}" srcOrd="2" destOrd="0" presId="urn:microsoft.com/office/officeart/2005/8/layout/lProcess3"/>
    <dgm:cxn modelId="{F3BFE9B1-3E76-4888-96BE-AAAE0C01C39C}" type="presParOf" srcId="{A98AB1EA-6C03-45C1-969F-2B66A2DAC61F}" destId="{876F0861-F3BF-4ACD-B590-5DB7A850A43D}" srcOrd="3" destOrd="0" presId="urn:microsoft.com/office/officeart/2005/8/layout/lProcess3"/>
    <dgm:cxn modelId="{F5B06CAC-F2A2-4AF8-8B6B-4594F69704D1}" type="presParOf" srcId="{A98AB1EA-6C03-45C1-969F-2B66A2DAC61F}" destId="{B8A6FA5D-4F4E-4130-B15B-2F156352A59D}" srcOrd="4" destOrd="0" presId="urn:microsoft.com/office/officeart/2005/8/layout/lProcess3"/>
    <dgm:cxn modelId="{07162F7A-2FA6-4D27-929D-4CF94DEF8B1C}" type="presParOf" srcId="{A98AB1EA-6C03-45C1-969F-2B66A2DAC61F}" destId="{CEBA5FA6-D54A-40A4-81CD-58EB162236CA}" srcOrd="5" destOrd="0" presId="urn:microsoft.com/office/officeart/2005/8/layout/lProcess3"/>
    <dgm:cxn modelId="{976D78AB-920C-4B4A-B539-2639B8323F91}" type="presParOf" srcId="{A98AB1EA-6C03-45C1-969F-2B66A2DAC61F}" destId="{4DF96293-C437-4525-8DF6-F89A17A02372}" srcOrd="6" destOrd="0" presId="urn:microsoft.com/office/officeart/2005/8/layout/lProcess3"/>
    <dgm:cxn modelId="{72112A29-0138-47E1-BD45-174E8F753A6B}" type="presParOf" srcId="{A98AB1EA-6C03-45C1-969F-2B66A2DAC61F}" destId="{F2EFFC55-82C8-48B6-BFB0-0908CF9184C3}" srcOrd="7" destOrd="0" presId="urn:microsoft.com/office/officeart/2005/8/layout/lProcess3"/>
    <dgm:cxn modelId="{2DB549CF-B01C-4D51-96A5-69F896C9D32F}" type="presParOf" srcId="{A98AB1EA-6C03-45C1-969F-2B66A2DAC61F}" destId="{F83E656A-D389-423D-978C-541EEB62E365}" srcOrd="8" destOrd="0" presId="urn:microsoft.com/office/officeart/2005/8/layout/lProcess3"/>
  </dgm:cxnLst>
  <dgm:bg/>
  <dgm:whole/>
</dgm:dataModel>
</file>

<file path=ppt/diagrams/data2.xml><?xml version="1.0" encoding="utf-8"?>
<dgm:dataModel xmlns:dgm="http://schemas.openxmlformats.org/drawingml/2006/diagram" xmlns:a="http://schemas.openxmlformats.org/drawingml/2006/main">
  <dgm:ptLst>
    <dgm:pt modelId="{6C449526-B83E-42EF-8A58-26BF5C0048EF}" type="doc">
      <dgm:prSet loTypeId="urn:microsoft.com/office/officeart/2005/8/layout/hierarchy1" loCatId="hierarchy" qsTypeId="urn:microsoft.com/office/officeart/2005/8/quickstyle/simple1" qsCatId="simple" csTypeId="urn:microsoft.com/office/officeart/2005/8/colors/accent1_2" csCatId="accent1" phldr="1"/>
      <dgm:spPr/>
      <dgm:t>
        <a:bodyPr/>
        <a:lstStyle/>
        <a:p>
          <a:endParaRPr lang="es-ES"/>
        </a:p>
      </dgm:t>
    </dgm:pt>
    <dgm:pt modelId="{DF519017-9C8F-452B-B700-9E5BCC600041}">
      <dgm:prSet phldrT="[Texto]" custT="1"/>
      <dgm:spPr/>
      <dgm:t>
        <a:bodyPr/>
        <a:lstStyle/>
        <a:p>
          <a:r>
            <a:rPr lang="es-ES" sz="1600" dirty="0" smtClean="0"/>
            <a:t>Responsable de compras</a:t>
          </a:r>
          <a:endParaRPr lang="es-ES" sz="1600" dirty="0"/>
        </a:p>
      </dgm:t>
    </dgm:pt>
    <dgm:pt modelId="{FBF1B294-D335-4562-ACA4-C48A496200EA}" type="parTrans" cxnId="{9C346FE4-37C1-4D65-943A-B7566C67CC01}">
      <dgm:prSet/>
      <dgm:spPr/>
      <dgm:t>
        <a:bodyPr/>
        <a:lstStyle/>
        <a:p>
          <a:endParaRPr lang="es-ES"/>
        </a:p>
      </dgm:t>
    </dgm:pt>
    <dgm:pt modelId="{7F21ED59-FA3D-4A0A-8AD7-CA4EA519E554}" type="sibTrans" cxnId="{9C346FE4-37C1-4D65-943A-B7566C67CC01}">
      <dgm:prSet/>
      <dgm:spPr/>
      <dgm:t>
        <a:bodyPr/>
        <a:lstStyle/>
        <a:p>
          <a:endParaRPr lang="es-ES"/>
        </a:p>
      </dgm:t>
    </dgm:pt>
    <dgm:pt modelId="{8AC9B7B3-E280-4F84-AD7B-ABCD3D3B427A}">
      <dgm:prSet phldrT="[Texto]" custT="1"/>
      <dgm:spPr/>
      <dgm:t>
        <a:bodyPr/>
        <a:lstStyle/>
        <a:p>
          <a:r>
            <a:rPr lang="es-ES" sz="1600" dirty="0" smtClean="0"/>
            <a:t>Jefe zona 1: El Higueral</a:t>
          </a:r>
          <a:endParaRPr lang="es-ES" sz="1600" dirty="0"/>
        </a:p>
      </dgm:t>
    </dgm:pt>
    <dgm:pt modelId="{D92AE395-9B99-44A6-9BE0-0EBE1FB0672E}" type="parTrans" cxnId="{2831C315-73C5-43F2-83A4-74F2C52DF90D}">
      <dgm:prSet/>
      <dgm:spPr/>
      <dgm:t>
        <a:bodyPr/>
        <a:lstStyle/>
        <a:p>
          <a:endParaRPr lang="es-ES"/>
        </a:p>
      </dgm:t>
    </dgm:pt>
    <dgm:pt modelId="{0B1D09A8-3C12-46DD-B367-256E29723240}" type="sibTrans" cxnId="{2831C315-73C5-43F2-83A4-74F2C52DF90D}">
      <dgm:prSet/>
      <dgm:spPr/>
      <dgm:t>
        <a:bodyPr/>
        <a:lstStyle/>
        <a:p>
          <a:endParaRPr lang="es-ES"/>
        </a:p>
      </dgm:t>
    </dgm:pt>
    <dgm:pt modelId="{C7591E2E-7ACC-4BD3-B15B-621B9371F6F9}">
      <dgm:prSet phldrT="[Texto]" custT="1"/>
      <dgm:spPr/>
      <dgm:t>
        <a:bodyPr/>
        <a:lstStyle/>
        <a:p>
          <a:r>
            <a:rPr lang="es-ES" sz="1600" dirty="0" smtClean="0"/>
            <a:t>Jefe zona 3: Lagunillas</a:t>
          </a:r>
          <a:endParaRPr lang="es-ES" sz="1600" dirty="0"/>
        </a:p>
      </dgm:t>
    </dgm:pt>
    <dgm:pt modelId="{973776B5-CB4D-456D-BB65-F923BC670368}" type="parTrans" cxnId="{A1C7EC79-07F2-414A-A6E3-505A24EEA805}">
      <dgm:prSet/>
      <dgm:spPr/>
      <dgm:t>
        <a:bodyPr/>
        <a:lstStyle/>
        <a:p>
          <a:endParaRPr lang="es-ES"/>
        </a:p>
      </dgm:t>
    </dgm:pt>
    <dgm:pt modelId="{3F8B7E72-48F0-4275-A6F3-FC16047C4D93}" type="sibTrans" cxnId="{A1C7EC79-07F2-414A-A6E3-505A24EEA805}">
      <dgm:prSet/>
      <dgm:spPr/>
      <dgm:t>
        <a:bodyPr/>
        <a:lstStyle/>
        <a:p>
          <a:endParaRPr lang="es-ES"/>
        </a:p>
      </dgm:t>
    </dgm:pt>
    <dgm:pt modelId="{48732729-8B91-4F60-BE56-4D6698E449BA}">
      <dgm:prSet custT="1"/>
      <dgm:spPr/>
      <dgm:t>
        <a:bodyPr/>
        <a:lstStyle/>
        <a:p>
          <a:r>
            <a:rPr lang="es-ES" sz="1600" dirty="0" smtClean="0"/>
            <a:t>Jefe zona 2: </a:t>
          </a:r>
          <a:r>
            <a:rPr lang="es-ES" sz="1600" dirty="0" err="1" smtClean="0"/>
            <a:t>Carcabuey</a:t>
          </a:r>
          <a:endParaRPr lang="es-ES" sz="1600" dirty="0"/>
        </a:p>
      </dgm:t>
    </dgm:pt>
    <dgm:pt modelId="{5A053655-9538-410E-9635-D7BAEA0A0AEC}" type="parTrans" cxnId="{32710FE7-91FC-4DC8-AA44-0207E5AF5F1F}">
      <dgm:prSet/>
      <dgm:spPr/>
      <dgm:t>
        <a:bodyPr/>
        <a:lstStyle/>
        <a:p>
          <a:endParaRPr lang="es-ES"/>
        </a:p>
      </dgm:t>
    </dgm:pt>
    <dgm:pt modelId="{698F5EC0-785C-4290-AA7A-4E3A38ECAB67}" type="sibTrans" cxnId="{32710FE7-91FC-4DC8-AA44-0207E5AF5F1F}">
      <dgm:prSet/>
      <dgm:spPr/>
      <dgm:t>
        <a:bodyPr/>
        <a:lstStyle/>
        <a:p>
          <a:endParaRPr lang="es-ES"/>
        </a:p>
      </dgm:t>
    </dgm:pt>
    <dgm:pt modelId="{D7A618AC-1B3E-4DA8-BC40-FEDD82D87718}">
      <dgm:prSet custT="1"/>
      <dgm:spPr/>
      <dgm:t>
        <a:bodyPr/>
        <a:lstStyle/>
        <a:p>
          <a:r>
            <a:rPr lang="es-ES" sz="1600" dirty="0" smtClean="0"/>
            <a:t>Peones: 2</a:t>
          </a:r>
          <a:endParaRPr lang="es-ES" sz="1600" dirty="0"/>
        </a:p>
      </dgm:t>
    </dgm:pt>
    <dgm:pt modelId="{7B14827E-440A-4B3E-ACE5-889BB09BDD25}" type="parTrans" cxnId="{09A370F9-2620-42A6-9769-932C6B2925D4}">
      <dgm:prSet/>
      <dgm:spPr/>
    </dgm:pt>
    <dgm:pt modelId="{1BE15D8E-FECB-41FA-83A2-96ECFB1C990C}" type="sibTrans" cxnId="{09A370F9-2620-42A6-9769-932C6B2925D4}">
      <dgm:prSet/>
      <dgm:spPr/>
    </dgm:pt>
    <dgm:pt modelId="{43ED5D50-F960-4696-8AC8-4ADC929A3E41}">
      <dgm:prSet custT="1"/>
      <dgm:spPr/>
      <dgm:t>
        <a:bodyPr/>
        <a:lstStyle/>
        <a:p>
          <a:r>
            <a:rPr lang="es-ES" sz="1600" dirty="0" smtClean="0"/>
            <a:t>Peones: 5</a:t>
          </a:r>
          <a:endParaRPr lang="es-ES" sz="1600" dirty="0"/>
        </a:p>
      </dgm:t>
    </dgm:pt>
    <dgm:pt modelId="{89B5F421-B411-4EEA-AE0A-116626DD4E5C}" type="parTrans" cxnId="{CE8BB5EF-4B32-4EF5-9336-25292E66A0AD}">
      <dgm:prSet/>
      <dgm:spPr/>
    </dgm:pt>
    <dgm:pt modelId="{4F872B3C-0777-4BC3-8CE9-1BF92105B761}" type="sibTrans" cxnId="{CE8BB5EF-4B32-4EF5-9336-25292E66A0AD}">
      <dgm:prSet/>
      <dgm:spPr/>
    </dgm:pt>
    <dgm:pt modelId="{6F4A3160-C273-40BE-80B6-054E78506461}">
      <dgm:prSet custT="1"/>
      <dgm:spPr/>
      <dgm:t>
        <a:bodyPr/>
        <a:lstStyle/>
        <a:p>
          <a:r>
            <a:rPr lang="es-ES" sz="1600" dirty="0" smtClean="0"/>
            <a:t>Peones: 3</a:t>
          </a:r>
          <a:endParaRPr lang="es-ES" sz="1600" dirty="0"/>
        </a:p>
      </dgm:t>
    </dgm:pt>
    <dgm:pt modelId="{1E4D0292-526B-4E4C-8A59-7432F96420C8}" type="parTrans" cxnId="{32224E4B-A5FB-44AE-A533-80F85CB67BD7}">
      <dgm:prSet/>
      <dgm:spPr/>
    </dgm:pt>
    <dgm:pt modelId="{A709EC27-EEF9-4336-B3EF-7163744D5881}" type="sibTrans" cxnId="{32224E4B-A5FB-44AE-A533-80F85CB67BD7}">
      <dgm:prSet/>
      <dgm:spPr/>
    </dgm:pt>
    <dgm:pt modelId="{02A36349-D2B5-4C1A-A369-9241D79A1E02}" type="pres">
      <dgm:prSet presAssocID="{6C449526-B83E-42EF-8A58-26BF5C0048EF}" presName="hierChild1" presStyleCnt="0">
        <dgm:presLayoutVars>
          <dgm:chPref val="1"/>
          <dgm:dir/>
          <dgm:animOne val="branch"/>
          <dgm:animLvl val="lvl"/>
          <dgm:resizeHandles/>
        </dgm:presLayoutVars>
      </dgm:prSet>
      <dgm:spPr/>
      <dgm:t>
        <a:bodyPr/>
        <a:lstStyle/>
        <a:p>
          <a:endParaRPr lang="es-ES"/>
        </a:p>
      </dgm:t>
    </dgm:pt>
    <dgm:pt modelId="{6B1F0504-4459-4E88-A46C-84ABA66381D1}" type="pres">
      <dgm:prSet presAssocID="{DF519017-9C8F-452B-B700-9E5BCC600041}" presName="hierRoot1" presStyleCnt="0"/>
      <dgm:spPr/>
    </dgm:pt>
    <dgm:pt modelId="{01273566-7E3F-42EF-9367-37B463E1A28B}" type="pres">
      <dgm:prSet presAssocID="{DF519017-9C8F-452B-B700-9E5BCC600041}" presName="composite" presStyleCnt="0"/>
      <dgm:spPr/>
    </dgm:pt>
    <dgm:pt modelId="{9DC2E502-99AA-4D96-B12E-49F7EF5AB71E}" type="pres">
      <dgm:prSet presAssocID="{DF519017-9C8F-452B-B700-9E5BCC600041}" presName="background" presStyleLbl="node0" presStyleIdx="0" presStyleCnt="1"/>
      <dgm:spPr/>
    </dgm:pt>
    <dgm:pt modelId="{7FD749FA-DFF2-4A13-9494-431EA88907EC}" type="pres">
      <dgm:prSet presAssocID="{DF519017-9C8F-452B-B700-9E5BCC600041}" presName="text" presStyleLbl="fgAcc0" presStyleIdx="0" presStyleCnt="1">
        <dgm:presLayoutVars>
          <dgm:chPref val="3"/>
        </dgm:presLayoutVars>
      </dgm:prSet>
      <dgm:spPr/>
      <dgm:t>
        <a:bodyPr/>
        <a:lstStyle/>
        <a:p>
          <a:endParaRPr lang="es-ES"/>
        </a:p>
      </dgm:t>
    </dgm:pt>
    <dgm:pt modelId="{C30407A3-7E2B-4E54-8AF5-B72E01CA8C0A}" type="pres">
      <dgm:prSet presAssocID="{DF519017-9C8F-452B-B700-9E5BCC600041}" presName="hierChild2" presStyleCnt="0"/>
      <dgm:spPr/>
    </dgm:pt>
    <dgm:pt modelId="{E89FFFDC-18F9-4785-8D23-84382EDB7E34}" type="pres">
      <dgm:prSet presAssocID="{D92AE395-9B99-44A6-9BE0-0EBE1FB0672E}" presName="Name10" presStyleLbl="parChTrans1D2" presStyleIdx="0" presStyleCnt="3"/>
      <dgm:spPr/>
      <dgm:t>
        <a:bodyPr/>
        <a:lstStyle/>
        <a:p>
          <a:endParaRPr lang="es-ES"/>
        </a:p>
      </dgm:t>
    </dgm:pt>
    <dgm:pt modelId="{B7D722AB-B0F6-4E97-9652-BD49483E1E7C}" type="pres">
      <dgm:prSet presAssocID="{8AC9B7B3-E280-4F84-AD7B-ABCD3D3B427A}" presName="hierRoot2" presStyleCnt="0"/>
      <dgm:spPr/>
    </dgm:pt>
    <dgm:pt modelId="{DBF12033-1556-495B-9D52-B620B5758856}" type="pres">
      <dgm:prSet presAssocID="{8AC9B7B3-E280-4F84-AD7B-ABCD3D3B427A}" presName="composite2" presStyleCnt="0"/>
      <dgm:spPr/>
    </dgm:pt>
    <dgm:pt modelId="{C1CD4609-E858-4EB8-BFDE-240A43310C84}" type="pres">
      <dgm:prSet presAssocID="{8AC9B7B3-E280-4F84-AD7B-ABCD3D3B427A}" presName="background2" presStyleLbl="node2" presStyleIdx="0" presStyleCnt="3"/>
      <dgm:spPr/>
    </dgm:pt>
    <dgm:pt modelId="{67052C0C-5608-408E-BFAD-31AA3B83E2DB}" type="pres">
      <dgm:prSet presAssocID="{8AC9B7B3-E280-4F84-AD7B-ABCD3D3B427A}" presName="text2" presStyleLbl="fgAcc2" presStyleIdx="0" presStyleCnt="3">
        <dgm:presLayoutVars>
          <dgm:chPref val="3"/>
        </dgm:presLayoutVars>
      </dgm:prSet>
      <dgm:spPr/>
      <dgm:t>
        <a:bodyPr/>
        <a:lstStyle/>
        <a:p>
          <a:endParaRPr lang="es-ES"/>
        </a:p>
      </dgm:t>
    </dgm:pt>
    <dgm:pt modelId="{2514EDA3-19A0-4B67-ADD7-333883F1A897}" type="pres">
      <dgm:prSet presAssocID="{8AC9B7B3-E280-4F84-AD7B-ABCD3D3B427A}" presName="hierChild3" presStyleCnt="0"/>
      <dgm:spPr/>
    </dgm:pt>
    <dgm:pt modelId="{55B8336A-FC7A-4756-A6F2-5BD99C1A360D}" type="pres">
      <dgm:prSet presAssocID="{7B14827E-440A-4B3E-ACE5-889BB09BDD25}" presName="Name17" presStyleLbl="parChTrans1D3" presStyleIdx="0" presStyleCnt="3"/>
      <dgm:spPr/>
    </dgm:pt>
    <dgm:pt modelId="{7849C97D-D390-4CA4-A310-313A81D2AF42}" type="pres">
      <dgm:prSet presAssocID="{D7A618AC-1B3E-4DA8-BC40-FEDD82D87718}" presName="hierRoot3" presStyleCnt="0"/>
      <dgm:spPr/>
    </dgm:pt>
    <dgm:pt modelId="{D6089F42-C43B-4856-8628-3B68E6CB7FBB}" type="pres">
      <dgm:prSet presAssocID="{D7A618AC-1B3E-4DA8-BC40-FEDD82D87718}" presName="composite3" presStyleCnt="0"/>
      <dgm:spPr/>
    </dgm:pt>
    <dgm:pt modelId="{CA6368B2-B71B-469B-B64C-567D09C40762}" type="pres">
      <dgm:prSet presAssocID="{D7A618AC-1B3E-4DA8-BC40-FEDD82D87718}" presName="background3" presStyleLbl="node3" presStyleIdx="0" presStyleCnt="3"/>
      <dgm:spPr/>
    </dgm:pt>
    <dgm:pt modelId="{63F9D469-3E16-43AD-9EBB-63BD32FC6091}" type="pres">
      <dgm:prSet presAssocID="{D7A618AC-1B3E-4DA8-BC40-FEDD82D87718}" presName="text3" presStyleLbl="fgAcc3" presStyleIdx="0" presStyleCnt="3">
        <dgm:presLayoutVars>
          <dgm:chPref val="3"/>
        </dgm:presLayoutVars>
      </dgm:prSet>
      <dgm:spPr/>
      <dgm:t>
        <a:bodyPr/>
        <a:lstStyle/>
        <a:p>
          <a:endParaRPr lang="es-ES"/>
        </a:p>
      </dgm:t>
    </dgm:pt>
    <dgm:pt modelId="{34BFD044-F87B-4B40-9D52-E7C80BEAB452}" type="pres">
      <dgm:prSet presAssocID="{D7A618AC-1B3E-4DA8-BC40-FEDD82D87718}" presName="hierChild4" presStyleCnt="0"/>
      <dgm:spPr/>
    </dgm:pt>
    <dgm:pt modelId="{37A1F276-6173-4578-A549-7008870091CD}" type="pres">
      <dgm:prSet presAssocID="{5A053655-9538-410E-9635-D7BAEA0A0AEC}" presName="Name10" presStyleLbl="parChTrans1D2" presStyleIdx="1" presStyleCnt="3"/>
      <dgm:spPr/>
      <dgm:t>
        <a:bodyPr/>
        <a:lstStyle/>
        <a:p>
          <a:endParaRPr lang="es-ES"/>
        </a:p>
      </dgm:t>
    </dgm:pt>
    <dgm:pt modelId="{549E12FA-3EFF-4819-A2D7-6986025F2AD7}" type="pres">
      <dgm:prSet presAssocID="{48732729-8B91-4F60-BE56-4D6698E449BA}" presName="hierRoot2" presStyleCnt="0"/>
      <dgm:spPr/>
    </dgm:pt>
    <dgm:pt modelId="{3134625A-5200-4C8F-A163-22373251BF2A}" type="pres">
      <dgm:prSet presAssocID="{48732729-8B91-4F60-BE56-4D6698E449BA}" presName="composite2" presStyleCnt="0"/>
      <dgm:spPr/>
    </dgm:pt>
    <dgm:pt modelId="{23782EBE-DFB3-4AFA-B265-2ABB74E99819}" type="pres">
      <dgm:prSet presAssocID="{48732729-8B91-4F60-BE56-4D6698E449BA}" presName="background2" presStyleLbl="node2" presStyleIdx="1" presStyleCnt="3"/>
      <dgm:spPr/>
    </dgm:pt>
    <dgm:pt modelId="{C565B21B-8B0E-4304-BB8C-C928EEF530E8}" type="pres">
      <dgm:prSet presAssocID="{48732729-8B91-4F60-BE56-4D6698E449BA}" presName="text2" presStyleLbl="fgAcc2" presStyleIdx="1" presStyleCnt="3">
        <dgm:presLayoutVars>
          <dgm:chPref val="3"/>
        </dgm:presLayoutVars>
      </dgm:prSet>
      <dgm:spPr/>
      <dgm:t>
        <a:bodyPr/>
        <a:lstStyle/>
        <a:p>
          <a:endParaRPr lang="es-ES"/>
        </a:p>
      </dgm:t>
    </dgm:pt>
    <dgm:pt modelId="{95D36653-9F8B-4D69-B7F2-4D841CB4F18F}" type="pres">
      <dgm:prSet presAssocID="{48732729-8B91-4F60-BE56-4D6698E449BA}" presName="hierChild3" presStyleCnt="0"/>
      <dgm:spPr/>
    </dgm:pt>
    <dgm:pt modelId="{9F364037-920F-4079-AEFE-857FE5AA0E71}" type="pres">
      <dgm:prSet presAssocID="{89B5F421-B411-4EEA-AE0A-116626DD4E5C}" presName="Name17" presStyleLbl="parChTrans1D3" presStyleIdx="1" presStyleCnt="3"/>
      <dgm:spPr/>
    </dgm:pt>
    <dgm:pt modelId="{A1C0C181-4211-45E3-BB8C-6BCE7239535F}" type="pres">
      <dgm:prSet presAssocID="{43ED5D50-F960-4696-8AC8-4ADC929A3E41}" presName="hierRoot3" presStyleCnt="0"/>
      <dgm:spPr/>
    </dgm:pt>
    <dgm:pt modelId="{8E659C61-FC8A-4B80-8247-29DD3D06BF2F}" type="pres">
      <dgm:prSet presAssocID="{43ED5D50-F960-4696-8AC8-4ADC929A3E41}" presName="composite3" presStyleCnt="0"/>
      <dgm:spPr/>
    </dgm:pt>
    <dgm:pt modelId="{183FFDBF-B641-4A41-9DFD-764057AB9EAF}" type="pres">
      <dgm:prSet presAssocID="{43ED5D50-F960-4696-8AC8-4ADC929A3E41}" presName="background3" presStyleLbl="node3" presStyleIdx="1" presStyleCnt="3"/>
      <dgm:spPr/>
    </dgm:pt>
    <dgm:pt modelId="{D9F59DE0-D6CE-4273-9BB9-B8878EE5E63B}" type="pres">
      <dgm:prSet presAssocID="{43ED5D50-F960-4696-8AC8-4ADC929A3E41}" presName="text3" presStyleLbl="fgAcc3" presStyleIdx="1" presStyleCnt="3">
        <dgm:presLayoutVars>
          <dgm:chPref val="3"/>
        </dgm:presLayoutVars>
      </dgm:prSet>
      <dgm:spPr/>
      <dgm:t>
        <a:bodyPr/>
        <a:lstStyle/>
        <a:p>
          <a:endParaRPr lang="es-ES"/>
        </a:p>
      </dgm:t>
    </dgm:pt>
    <dgm:pt modelId="{221464FC-023B-4C4D-B8E7-5363A4033430}" type="pres">
      <dgm:prSet presAssocID="{43ED5D50-F960-4696-8AC8-4ADC929A3E41}" presName="hierChild4" presStyleCnt="0"/>
      <dgm:spPr/>
    </dgm:pt>
    <dgm:pt modelId="{5404D7D4-30E9-41C4-AC79-2CED22653418}" type="pres">
      <dgm:prSet presAssocID="{973776B5-CB4D-456D-BB65-F923BC670368}" presName="Name10" presStyleLbl="parChTrans1D2" presStyleIdx="2" presStyleCnt="3"/>
      <dgm:spPr/>
      <dgm:t>
        <a:bodyPr/>
        <a:lstStyle/>
        <a:p>
          <a:endParaRPr lang="es-ES"/>
        </a:p>
      </dgm:t>
    </dgm:pt>
    <dgm:pt modelId="{AE175112-0AA2-461B-9B12-318E6258C788}" type="pres">
      <dgm:prSet presAssocID="{C7591E2E-7ACC-4BD3-B15B-621B9371F6F9}" presName="hierRoot2" presStyleCnt="0"/>
      <dgm:spPr/>
    </dgm:pt>
    <dgm:pt modelId="{1C472382-BA80-4388-953C-B80E730150B5}" type="pres">
      <dgm:prSet presAssocID="{C7591E2E-7ACC-4BD3-B15B-621B9371F6F9}" presName="composite2" presStyleCnt="0"/>
      <dgm:spPr/>
    </dgm:pt>
    <dgm:pt modelId="{30A15B79-4A12-464E-B2D5-78080C22864C}" type="pres">
      <dgm:prSet presAssocID="{C7591E2E-7ACC-4BD3-B15B-621B9371F6F9}" presName="background2" presStyleLbl="node2" presStyleIdx="2" presStyleCnt="3"/>
      <dgm:spPr/>
    </dgm:pt>
    <dgm:pt modelId="{C4AF1CEB-D072-424E-9FE6-F8ED0A8BCD5E}" type="pres">
      <dgm:prSet presAssocID="{C7591E2E-7ACC-4BD3-B15B-621B9371F6F9}" presName="text2" presStyleLbl="fgAcc2" presStyleIdx="2" presStyleCnt="3">
        <dgm:presLayoutVars>
          <dgm:chPref val="3"/>
        </dgm:presLayoutVars>
      </dgm:prSet>
      <dgm:spPr/>
      <dgm:t>
        <a:bodyPr/>
        <a:lstStyle/>
        <a:p>
          <a:endParaRPr lang="es-ES"/>
        </a:p>
      </dgm:t>
    </dgm:pt>
    <dgm:pt modelId="{4A20C764-A2E1-4B74-AA85-4BF57C3A7274}" type="pres">
      <dgm:prSet presAssocID="{C7591E2E-7ACC-4BD3-B15B-621B9371F6F9}" presName="hierChild3" presStyleCnt="0"/>
      <dgm:spPr/>
    </dgm:pt>
    <dgm:pt modelId="{90FEB88D-A5A9-4BC6-AD5F-3491C6748AC1}" type="pres">
      <dgm:prSet presAssocID="{1E4D0292-526B-4E4C-8A59-7432F96420C8}" presName="Name17" presStyleLbl="parChTrans1D3" presStyleIdx="2" presStyleCnt="3"/>
      <dgm:spPr/>
    </dgm:pt>
    <dgm:pt modelId="{5B415D36-1E4B-4E09-A21A-DE7B7E6B7B42}" type="pres">
      <dgm:prSet presAssocID="{6F4A3160-C273-40BE-80B6-054E78506461}" presName="hierRoot3" presStyleCnt="0"/>
      <dgm:spPr/>
    </dgm:pt>
    <dgm:pt modelId="{347833F9-FB6E-4A93-A100-03A910D8AFB2}" type="pres">
      <dgm:prSet presAssocID="{6F4A3160-C273-40BE-80B6-054E78506461}" presName="composite3" presStyleCnt="0"/>
      <dgm:spPr/>
    </dgm:pt>
    <dgm:pt modelId="{A8F0B57E-C303-4D3B-9969-FEF01DC761A0}" type="pres">
      <dgm:prSet presAssocID="{6F4A3160-C273-40BE-80B6-054E78506461}" presName="background3" presStyleLbl="node3" presStyleIdx="2" presStyleCnt="3"/>
      <dgm:spPr/>
    </dgm:pt>
    <dgm:pt modelId="{2DD37DBB-8D6E-40A7-93A4-F4440C8A8430}" type="pres">
      <dgm:prSet presAssocID="{6F4A3160-C273-40BE-80B6-054E78506461}" presName="text3" presStyleLbl="fgAcc3" presStyleIdx="2" presStyleCnt="3">
        <dgm:presLayoutVars>
          <dgm:chPref val="3"/>
        </dgm:presLayoutVars>
      </dgm:prSet>
      <dgm:spPr/>
      <dgm:t>
        <a:bodyPr/>
        <a:lstStyle/>
        <a:p>
          <a:endParaRPr lang="es-ES"/>
        </a:p>
      </dgm:t>
    </dgm:pt>
    <dgm:pt modelId="{7A51354F-5E13-46C7-A978-642CB80E001F}" type="pres">
      <dgm:prSet presAssocID="{6F4A3160-C273-40BE-80B6-054E78506461}" presName="hierChild4" presStyleCnt="0"/>
      <dgm:spPr/>
    </dgm:pt>
  </dgm:ptLst>
  <dgm:cxnLst>
    <dgm:cxn modelId="{44DB7722-57A9-442D-8AF3-3BA39C5B718E}" type="presOf" srcId="{D92AE395-9B99-44A6-9BE0-0EBE1FB0672E}" destId="{E89FFFDC-18F9-4785-8D23-84382EDB7E34}" srcOrd="0" destOrd="0" presId="urn:microsoft.com/office/officeart/2005/8/layout/hierarchy1"/>
    <dgm:cxn modelId="{57202C20-0D95-41E4-A5A9-D9950BFA3451}" type="presOf" srcId="{C7591E2E-7ACC-4BD3-B15B-621B9371F6F9}" destId="{C4AF1CEB-D072-424E-9FE6-F8ED0A8BCD5E}" srcOrd="0" destOrd="0" presId="urn:microsoft.com/office/officeart/2005/8/layout/hierarchy1"/>
    <dgm:cxn modelId="{BD503F0F-0F86-4A9B-8C11-432F9E4638C1}" type="presOf" srcId="{1E4D0292-526B-4E4C-8A59-7432F96420C8}" destId="{90FEB88D-A5A9-4BC6-AD5F-3491C6748AC1}" srcOrd="0" destOrd="0" presId="urn:microsoft.com/office/officeart/2005/8/layout/hierarchy1"/>
    <dgm:cxn modelId="{9F48A533-229A-4D93-A3D5-F7BA002FB3DC}" type="presOf" srcId="{8AC9B7B3-E280-4F84-AD7B-ABCD3D3B427A}" destId="{67052C0C-5608-408E-BFAD-31AA3B83E2DB}" srcOrd="0" destOrd="0" presId="urn:microsoft.com/office/officeart/2005/8/layout/hierarchy1"/>
    <dgm:cxn modelId="{4E219ABC-E9D3-4BDE-AFFD-B8D9FB903DE3}" type="presOf" srcId="{89B5F421-B411-4EEA-AE0A-116626DD4E5C}" destId="{9F364037-920F-4079-AEFE-857FE5AA0E71}" srcOrd="0" destOrd="0" presId="urn:microsoft.com/office/officeart/2005/8/layout/hierarchy1"/>
    <dgm:cxn modelId="{2831C315-73C5-43F2-83A4-74F2C52DF90D}" srcId="{DF519017-9C8F-452B-B700-9E5BCC600041}" destId="{8AC9B7B3-E280-4F84-AD7B-ABCD3D3B427A}" srcOrd="0" destOrd="0" parTransId="{D92AE395-9B99-44A6-9BE0-0EBE1FB0672E}" sibTransId="{0B1D09A8-3C12-46DD-B367-256E29723240}"/>
    <dgm:cxn modelId="{92A49B18-9406-4AAD-B3A8-1D6E01E321F5}" type="presOf" srcId="{6F4A3160-C273-40BE-80B6-054E78506461}" destId="{2DD37DBB-8D6E-40A7-93A4-F4440C8A8430}" srcOrd="0" destOrd="0" presId="urn:microsoft.com/office/officeart/2005/8/layout/hierarchy1"/>
    <dgm:cxn modelId="{570F0680-90E4-4BE9-B5EC-E784E4DB79E5}" type="presOf" srcId="{43ED5D50-F960-4696-8AC8-4ADC929A3E41}" destId="{D9F59DE0-D6CE-4273-9BB9-B8878EE5E63B}" srcOrd="0" destOrd="0" presId="urn:microsoft.com/office/officeart/2005/8/layout/hierarchy1"/>
    <dgm:cxn modelId="{397DC381-74A0-426A-85FD-16182396C833}" type="presOf" srcId="{6C449526-B83E-42EF-8A58-26BF5C0048EF}" destId="{02A36349-D2B5-4C1A-A369-9241D79A1E02}" srcOrd="0" destOrd="0" presId="urn:microsoft.com/office/officeart/2005/8/layout/hierarchy1"/>
    <dgm:cxn modelId="{3DFD58C3-4AD7-4431-ABEE-1965FEAB58B0}" type="presOf" srcId="{48732729-8B91-4F60-BE56-4D6698E449BA}" destId="{C565B21B-8B0E-4304-BB8C-C928EEF530E8}" srcOrd="0" destOrd="0" presId="urn:microsoft.com/office/officeart/2005/8/layout/hierarchy1"/>
    <dgm:cxn modelId="{4C19F95E-9920-41EC-B8CD-CD8BB160BD59}" type="presOf" srcId="{5A053655-9538-410E-9635-D7BAEA0A0AEC}" destId="{37A1F276-6173-4578-A549-7008870091CD}" srcOrd="0" destOrd="0" presId="urn:microsoft.com/office/officeart/2005/8/layout/hierarchy1"/>
    <dgm:cxn modelId="{9C346FE4-37C1-4D65-943A-B7566C67CC01}" srcId="{6C449526-B83E-42EF-8A58-26BF5C0048EF}" destId="{DF519017-9C8F-452B-B700-9E5BCC600041}" srcOrd="0" destOrd="0" parTransId="{FBF1B294-D335-4562-ACA4-C48A496200EA}" sibTransId="{7F21ED59-FA3D-4A0A-8AD7-CA4EA519E554}"/>
    <dgm:cxn modelId="{09A370F9-2620-42A6-9769-932C6B2925D4}" srcId="{8AC9B7B3-E280-4F84-AD7B-ABCD3D3B427A}" destId="{D7A618AC-1B3E-4DA8-BC40-FEDD82D87718}" srcOrd="0" destOrd="0" parTransId="{7B14827E-440A-4B3E-ACE5-889BB09BDD25}" sibTransId="{1BE15D8E-FECB-41FA-83A2-96ECFB1C990C}"/>
    <dgm:cxn modelId="{D4DBE4E5-349D-445E-A308-FCF9210F1E64}" type="presOf" srcId="{973776B5-CB4D-456D-BB65-F923BC670368}" destId="{5404D7D4-30E9-41C4-AC79-2CED22653418}" srcOrd="0" destOrd="0" presId="urn:microsoft.com/office/officeart/2005/8/layout/hierarchy1"/>
    <dgm:cxn modelId="{A1C7EC79-07F2-414A-A6E3-505A24EEA805}" srcId="{DF519017-9C8F-452B-B700-9E5BCC600041}" destId="{C7591E2E-7ACC-4BD3-B15B-621B9371F6F9}" srcOrd="2" destOrd="0" parTransId="{973776B5-CB4D-456D-BB65-F923BC670368}" sibTransId="{3F8B7E72-48F0-4275-A6F3-FC16047C4D93}"/>
    <dgm:cxn modelId="{32710FE7-91FC-4DC8-AA44-0207E5AF5F1F}" srcId="{DF519017-9C8F-452B-B700-9E5BCC600041}" destId="{48732729-8B91-4F60-BE56-4D6698E449BA}" srcOrd="1" destOrd="0" parTransId="{5A053655-9538-410E-9635-D7BAEA0A0AEC}" sibTransId="{698F5EC0-785C-4290-AA7A-4E3A38ECAB67}"/>
    <dgm:cxn modelId="{2DB6BD82-E731-4560-9053-8A5FD134BC5B}" type="presOf" srcId="{D7A618AC-1B3E-4DA8-BC40-FEDD82D87718}" destId="{63F9D469-3E16-43AD-9EBB-63BD32FC6091}" srcOrd="0" destOrd="0" presId="urn:microsoft.com/office/officeart/2005/8/layout/hierarchy1"/>
    <dgm:cxn modelId="{32224E4B-A5FB-44AE-A533-80F85CB67BD7}" srcId="{C7591E2E-7ACC-4BD3-B15B-621B9371F6F9}" destId="{6F4A3160-C273-40BE-80B6-054E78506461}" srcOrd="0" destOrd="0" parTransId="{1E4D0292-526B-4E4C-8A59-7432F96420C8}" sibTransId="{A709EC27-EEF9-4336-B3EF-7163744D5881}"/>
    <dgm:cxn modelId="{993B767D-5D05-4BE3-BB35-3DF3CAFAC5D2}" type="presOf" srcId="{DF519017-9C8F-452B-B700-9E5BCC600041}" destId="{7FD749FA-DFF2-4A13-9494-431EA88907EC}" srcOrd="0" destOrd="0" presId="urn:microsoft.com/office/officeart/2005/8/layout/hierarchy1"/>
    <dgm:cxn modelId="{CFC03CB8-2A30-4D42-B56B-6A25F20AB690}" type="presOf" srcId="{7B14827E-440A-4B3E-ACE5-889BB09BDD25}" destId="{55B8336A-FC7A-4756-A6F2-5BD99C1A360D}" srcOrd="0" destOrd="0" presId="urn:microsoft.com/office/officeart/2005/8/layout/hierarchy1"/>
    <dgm:cxn modelId="{CE8BB5EF-4B32-4EF5-9336-25292E66A0AD}" srcId="{48732729-8B91-4F60-BE56-4D6698E449BA}" destId="{43ED5D50-F960-4696-8AC8-4ADC929A3E41}" srcOrd="0" destOrd="0" parTransId="{89B5F421-B411-4EEA-AE0A-116626DD4E5C}" sibTransId="{4F872B3C-0777-4BC3-8CE9-1BF92105B761}"/>
    <dgm:cxn modelId="{FDD3140E-BD90-4159-B839-863E7D064EAB}" type="presParOf" srcId="{02A36349-D2B5-4C1A-A369-9241D79A1E02}" destId="{6B1F0504-4459-4E88-A46C-84ABA66381D1}" srcOrd="0" destOrd="0" presId="urn:microsoft.com/office/officeart/2005/8/layout/hierarchy1"/>
    <dgm:cxn modelId="{5E8EDF64-0E9D-4578-BF8F-3CC901C0B5CB}" type="presParOf" srcId="{6B1F0504-4459-4E88-A46C-84ABA66381D1}" destId="{01273566-7E3F-42EF-9367-37B463E1A28B}" srcOrd="0" destOrd="0" presId="urn:microsoft.com/office/officeart/2005/8/layout/hierarchy1"/>
    <dgm:cxn modelId="{4AE01BBD-92D8-46D4-B450-5461D92FD0DD}" type="presParOf" srcId="{01273566-7E3F-42EF-9367-37B463E1A28B}" destId="{9DC2E502-99AA-4D96-B12E-49F7EF5AB71E}" srcOrd="0" destOrd="0" presId="urn:microsoft.com/office/officeart/2005/8/layout/hierarchy1"/>
    <dgm:cxn modelId="{965ADAB7-5F0C-44A7-979B-6FAF26352846}" type="presParOf" srcId="{01273566-7E3F-42EF-9367-37B463E1A28B}" destId="{7FD749FA-DFF2-4A13-9494-431EA88907EC}" srcOrd="1" destOrd="0" presId="urn:microsoft.com/office/officeart/2005/8/layout/hierarchy1"/>
    <dgm:cxn modelId="{36C3AC48-839E-427D-A34D-B500EB432CD4}" type="presParOf" srcId="{6B1F0504-4459-4E88-A46C-84ABA66381D1}" destId="{C30407A3-7E2B-4E54-8AF5-B72E01CA8C0A}" srcOrd="1" destOrd="0" presId="urn:microsoft.com/office/officeart/2005/8/layout/hierarchy1"/>
    <dgm:cxn modelId="{17513849-A260-448C-ABF2-D34E652897ED}" type="presParOf" srcId="{C30407A3-7E2B-4E54-8AF5-B72E01CA8C0A}" destId="{E89FFFDC-18F9-4785-8D23-84382EDB7E34}" srcOrd="0" destOrd="0" presId="urn:microsoft.com/office/officeart/2005/8/layout/hierarchy1"/>
    <dgm:cxn modelId="{E59D1EDF-AF37-49BC-8E2B-1B3FEE9D92D9}" type="presParOf" srcId="{C30407A3-7E2B-4E54-8AF5-B72E01CA8C0A}" destId="{B7D722AB-B0F6-4E97-9652-BD49483E1E7C}" srcOrd="1" destOrd="0" presId="urn:microsoft.com/office/officeart/2005/8/layout/hierarchy1"/>
    <dgm:cxn modelId="{CB53BC33-4C25-44F6-BEA9-30C6E3799386}" type="presParOf" srcId="{B7D722AB-B0F6-4E97-9652-BD49483E1E7C}" destId="{DBF12033-1556-495B-9D52-B620B5758856}" srcOrd="0" destOrd="0" presId="urn:microsoft.com/office/officeart/2005/8/layout/hierarchy1"/>
    <dgm:cxn modelId="{8F2207D3-4896-4AD3-93A0-FE16AD6B76D4}" type="presParOf" srcId="{DBF12033-1556-495B-9D52-B620B5758856}" destId="{C1CD4609-E858-4EB8-BFDE-240A43310C84}" srcOrd="0" destOrd="0" presId="urn:microsoft.com/office/officeart/2005/8/layout/hierarchy1"/>
    <dgm:cxn modelId="{4ED82A8D-CD6A-49A1-A486-A18311DBCAF0}" type="presParOf" srcId="{DBF12033-1556-495B-9D52-B620B5758856}" destId="{67052C0C-5608-408E-BFAD-31AA3B83E2DB}" srcOrd="1" destOrd="0" presId="urn:microsoft.com/office/officeart/2005/8/layout/hierarchy1"/>
    <dgm:cxn modelId="{EE52631A-D5B3-403D-9AAB-B647C5502FEE}" type="presParOf" srcId="{B7D722AB-B0F6-4E97-9652-BD49483E1E7C}" destId="{2514EDA3-19A0-4B67-ADD7-333883F1A897}" srcOrd="1" destOrd="0" presId="urn:microsoft.com/office/officeart/2005/8/layout/hierarchy1"/>
    <dgm:cxn modelId="{B0BA32F3-018F-44EB-925F-A712A6F4FE88}" type="presParOf" srcId="{2514EDA3-19A0-4B67-ADD7-333883F1A897}" destId="{55B8336A-FC7A-4756-A6F2-5BD99C1A360D}" srcOrd="0" destOrd="0" presId="urn:microsoft.com/office/officeart/2005/8/layout/hierarchy1"/>
    <dgm:cxn modelId="{BDE4B4C1-6F03-4756-A447-99AFB21C003F}" type="presParOf" srcId="{2514EDA3-19A0-4B67-ADD7-333883F1A897}" destId="{7849C97D-D390-4CA4-A310-313A81D2AF42}" srcOrd="1" destOrd="0" presId="urn:microsoft.com/office/officeart/2005/8/layout/hierarchy1"/>
    <dgm:cxn modelId="{9FDE1E37-9BBA-4175-9B26-01C34E8B8A74}" type="presParOf" srcId="{7849C97D-D390-4CA4-A310-313A81D2AF42}" destId="{D6089F42-C43B-4856-8628-3B68E6CB7FBB}" srcOrd="0" destOrd="0" presId="urn:microsoft.com/office/officeart/2005/8/layout/hierarchy1"/>
    <dgm:cxn modelId="{A1BA02A3-A41B-455F-A22F-18787F9E8691}" type="presParOf" srcId="{D6089F42-C43B-4856-8628-3B68E6CB7FBB}" destId="{CA6368B2-B71B-469B-B64C-567D09C40762}" srcOrd="0" destOrd="0" presId="urn:microsoft.com/office/officeart/2005/8/layout/hierarchy1"/>
    <dgm:cxn modelId="{45DFC374-49F7-48A9-954D-4ED8216EEC53}" type="presParOf" srcId="{D6089F42-C43B-4856-8628-3B68E6CB7FBB}" destId="{63F9D469-3E16-43AD-9EBB-63BD32FC6091}" srcOrd="1" destOrd="0" presId="urn:microsoft.com/office/officeart/2005/8/layout/hierarchy1"/>
    <dgm:cxn modelId="{C0CB4A0B-2055-4325-B179-C81A9073449A}" type="presParOf" srcId="{7849C97D-D390-4CA4-A310-313A81D2AF42}" destId="{34BFD044-F87B-4B40-9D52-E7C80BEAB452}" srcOrd="1" destOrd="0" presId="urn:microsoft.com/office/officeart/2005/8/layout/hierarchy1"/>
    <dgm:cxn modelId="{86326636-5323-4562-B10E-74FE279807EE}" type="presParOf" srcId="{C30407A3-7E2B-4E54-8AF5-B72E01CA8C0A}" destId="{37A1F276-6173-4578-A549-7008870091CD}" srcOrd="2" destOrd="0" presId="urn:microsoft.com/office/officeart/2005/8/layout/hierarchy1"/>
    <dgm:cxn modelId="{40632F3F-6D2E-4FFA-81B9-6D2A9ED8F1CB}" type="presParOf" srcId="{C30407A3-7E2B-4E54-8AF5-B72E01CA8C0A}" destId="{549E12FA-3EFF-4819-A2D7-6986025F2AD7}" srcOrd="3" destOrd="0" presId="urn:microsoft.com/office/officeart/2005/8/layout/hierarchy1"/>
    <dgm:cxn modelId="{9DBF3A5F-E76B-4B87-8CB3-DC4D810DF4D9}" type="presParOf" srcId="{549E12FA-3EFF-4819-A2D7-6986025F2AD7}" destId="{3134625A-5200-4C8F-A163-22373251BF2A}" srcOrd="0" destOrd="0" presId="urn:microsoft.com/office/officeart/2005/8/layout/hierarchy1"/>
    <dgm:cxn modelId="{766CB2E7-C352-4C97-A993-E3A7C85580AD}" type="presParOf" srcId="{3134625A-5200-4C8F-A163-22373251BF2A}" destId="{23782EBE-DFB3-4AFA-B265-2ABB74E99819}" srcOrd="0" destOrd="0" presId="urn:microsoft.com/office/officeart/2005/8/layout/hierarchy1"/>
    <dgm:cxn modelId="{63CF47BF-5A55-435F-A449-78566EC31C6C}" type="presParOf" srcId="{3134625A-5200-4C8F-A163-22373251BF2A}" destId="{C565B21B-8B0E-4304-BB8C-C928EEF530E8}" srcOrd="1" destOrd="0" presId="urn:microsoft.com/office/officeart/2005/8/layout/hierarchy1"/>
    <dgm:cxn modelId="{6922712D-4C08-4A7B-94B7-5AC7FE0934F3}" type="presParOf" srcId="{549E12FA-3EFF-4819-A2D7-6986025F2AD7}" destId="{95D36653-9F8B-4D69-B7F2-4D841CB4F18F}" srcOrd="1" destOrd="0" presId="urn:microsoft.com/office/officeart/2005/8/layout/hierarchy1"/>
    <dgm:cxn modelId="{E91E1C54-E4E9-491E-A7F5-56CC3ACD2FD9}" type="presParOf" srcId="{95D36653-9F8B-4D69-B7F2-4D841CB4F18F}" destId="{9F364037-920F-4079-AEFE-857FE5AA0E71}" srcOrd="0" destOrd="0" presId="urn:microsoft.com/office/officeart/2005/8/layout/hierarchy1"/>
    <dgm:cxn modelId="{54D943E5-6138-40E1-8CBF-118C947C51C4}" type="presParOf" srcId="{95D36653-9F8B-4D69-B7F2-4D841CB4F18F}" destId="{A1C0C181-4211-45E3-BB8C-6BCE7239535F}" srcOrd="1" destOrd="0" presId="urn:microsoft.com/office/officeart/2005/8/layout/hierarchy1"/>
    <dgm:cxn modelId="{8C2255EC-4A0E-4B73-A29D-83A9F6AF14D4}" type="presParOf" srcId="{A1C0C181-4211-45E3-BB8C-6BCE7239535F}" destId="{8E659C61-FC8A-4B80-8247-29DD3D06BF2F}" srcOrd="0" destOrd="0" presId="urn:microsoft.com/office/officeart/2005/8/layout/hierarchy1"/>
    <dgm:cxn modelId="{92C46321-4998-4D79-A793-124E654092D4}" type="presParOf" srcId="{8E659C61-FC8A-4B80-8247-29DD3D06BF2F}" destId="{183FFDBF-B641-4A41-9DFD-764057AB9EAF}" srcOrd="0" destOrd="0" presId="urn:microsoft.com/office/officeart/2005/8/layout/hierarchy1"/>
    <dgm:cxn modelId="{772A8153-B28C-46E6-83BB-F8AA33FF0FA6}" type="presParOf" srcId="{8E659C61-FC8A-4B80-8247-29DD3D06BF2F}" destId="{D9F59DE0-D6CE-4273-9BB9-B8878EE5E63B}" srcOrd="1" destOrd="0" presId="urn:microsoft.com/office/officeart/2005/8/layout/hierarchy1"/>
    <dgm:cxn modelId="{3D525CE3-5E94-4FED-AEFE-00CE6DC9B3FE}" type="presParOf" srcId="{A1C0C181-4211-45E3-BB8C-6BCE7239535F}" destId="{221464FC-023B-4C4D-B8E7-5363A4033430}" srcOrd="1" destOrd="0" presId="urn:microsoft.com/office/officeart/2005/8/layout/hierarchy1"/>
    <dgm:cxn modelId="{66882891-80A2-4643-BBD7-B1F4BB8182A7}" type="presParOf" srcId="{C30407A3-7E2B-4E54-8AF5-B72E01CA8C0A}" destId="{5404D7D4-30E9-41C4-AC79-2CED22653418}" srcOrd="4" destOrd="0" presId="urn:microsoft.com/office/officeart/2005/8/layout/hierarchy1"/>
    <dgm:cxn modelId="{7DAB64C0-CA6F-462F-B354-BA2DE92BC102}" type="presParOf" srcId="{C30407A3-7E2B-4E54-8AF5-B72E01CA8C0A}" destId="{AE175112-0AA2-461B-9B12-318E6258C788}" srcOrd="5" destOrd="0" presId="urn:microsoft.com/office/officeart/2005/8/layout/hierarchy1"/>
    <dgm:cxn modelId="{6E3544E2-2820-45A7-B82A-A9938F50892F}" type="presParOf" srcId="{AE175112-0AA2-461B-9B12-318E6258C788}" destId="{1C472382-BA80-4388-953C-B80E730150B5}" srcOrd="0" destOrd="0" presId="urn:microsoft.com/office/officeart/2005/8/layout/hierarchy1"/>
    <dgm:cxn modelId="{E721160F-8248-4D79-B03D-91A80AF92890}" type="presParOf" srcId="{1C472382-BA80-4388-953C-B80E730150B5}" destId="{30A15B79-4A12-464E-B2D5-78080C22864C}" srcOrd="0" destOrd="0" presId="urn:microsoft.com/office/officeart/2005/8/layout/hierarchy1"/>
    <dgm:cxn modelId="{AB4A4094-3FBC-4562-83A8-2F517AAD16B1}" type="presParOf" srcId="{1C472382-BA80-4388-953C-B80E730150B5}" destId="{C4AF1CEB-D072-424E-9FE6-F8ED0A8BCD5E}" srcOrd="1" destOrd="0" presId="urn:microsoft.com/office/officeart/2005/8/layout/hierarchy1"/>
    <dgm:cxn modelId="{47E3207E-2B3B-47F7-81A4-BCCEDFAD3C0D}" type="presParOf" srcId="{AE175112-0AA2-461B-9B12-318E6258C788}" destId="{4A20C764-A2E1-4B74-AA85-4BF57C3A7274}" srcOrd="1" destOrd="0" presId="urn:microsoft.com/office/officeart/2005/8/layout/hierarchy1"/>
    <dgm:cxn modelId="{0B0174DD-A430-4C63-BFF5-48FE5332B2B2}" type="presParOf" srcId="{4A20C764-A2E1-4B74-AA85-4BF57C3A7274}" destId="{90FEB88D-A5A9-4BC6-AD5F-3491C6748AC1}" srcOrd="0" destOrd="0" presId="urn:microsoft.com/office/officeart/2005/8/layout/hierarchy1"/>
    <dgm:cxn modelId="{801240BE-0EAE-422D-9726-856867C1F81D}" type="presParOf" srcId="{4A20C764-A2E1-4B74-AA85-4BF57C3A7274}" destId="{5B415D36-1E4B-4E09-A21A-DE7B7E6B7B42}" srcOrd="1" destOrd="0" presId="urn:microsoft.com/office/officeart/2005/8/layout/hierarchy1"/>
    <dgm:cxn modelId="{39EB8744-0F45-4611-B278-C4226326A96B}" type="presParOf" srcId="{5B415D36-1E4B-4E09-A21A-DE7B7E6B7B42}" destId="{347833F9-FB6E-4A93-A100-03A910D8AFB2}" srcOrd="0" destOrd="0" presId="urn:microsoft.com/office/officeart/2005/8/layout/hierarchy1"/>
    <dgm:cxn modelId="{37D582F8-79AD-4070-9379-03DAE3F103DF}" type="presParOf" srcId="{347833F9-FB6E-4A93-A100-03A910D8AFB2}" destId="{A8F0B57E-C303-4D3B-9969-FEF01DC761A0}" srcOrd="0" destOrd="0" presId="urn:microsoft.com/office/officeart/2005/8/layout/hierarchy1"/>
    <dgm:cxn modelId="{5CC8424C-36E1-40BE-B62F-2759DDF0A333}" type="presParOf" srcId="{347833F9-FB6E-4A93-A100-03A910D8AFB2}" destId="{2DD37DBB-8D6E-40A7-93A4-F4440C8A8430}" srcOrd="1" destOrd="0" presId="urn:microsoft.com/office/officeart/2005/8/layout/hierarchy1"/>
    <dgm:cxn modelId="{C2FF5968-FFC0-44BF-A37A-6923ED45B405}" type="presParOf" srcId="{5B415D36-1E4B-4E09-A21A-DE7B7E6B7B42}" destId="{7A51354F-5E13-46C7-A978-642CB80E001F}" srcOrd="1" destOrd="0" presId="urn:microsoft.com/office/officeart/2005/8/layout/hierarchy1"/>
  </dgm:cxnLst>
  <dgm:bg/>
  <dgm:whole/>
</dgm:dataModel>
</file>

<file path=ppt/diagrams/data3.xml><?xml version="1.0" encoding="utf-8"?>
<dgm:dataModel xmlns:dgm="http://schemas.openxmlformats.org/drawingml/2006/diagram" xmlns:a="http://schemas.openxmlformats.org/drawingml/2006/main">
  <dgm:ptLst>
    <dgm:pt modelId="{9F1424DC-0D62-4A32-A018-84667D349328}" type="doc">
      <dgm:prSet loTypeId="urn:microsoft.com/office/officeart/2005/8/layout/hierarchy1" loCatId="hierarchy" qsTypeId="urn:microsoft.com/office/officeart/2005/8/quickstyle/simple1" qsCatId="simple" csTypeId="urn:microsoft.com/office/officeart/2005/8/colors/accent1_2" csCatId="accent1" phldr="1"/>
      <dgm:spPr/>
      <dgm:t>
        <a:bodyPr/>
        <a:lstStyle/>
        <a:p>
          <a:endParaRPr lang="es-ES"/>
        </a:p>
      </dgm:t>
    </dgm:pt>
    <dgm:pt modelId="{0160CAC8-8FD6-4680-80FE-C567E03FAE19}">
      <dgm:prSet phldrT="[Texto]" custT="1"/>
      <dgm:spPr/>
      <dgm:t>
        <a:bodyPr/>
        <a:lstStyle/>
        <a:p>
          <a:r>
            <a:rPr lang="es-ES" sz="1600" dirty="0" smtClean="0"/>
            <a:t>Responsable de producción</a:t>
          </a:r>
        </a:p>
        <a:p>
          <a:r>
            <a:rPr lang="es-ES" sz="1600" dirty="0" smtClean="0"/>
            <a:t>(J. Miguel Jiménez)</a:t>
          </a:r>
        </a:p>
        <a:p>
          <a:endParaRPr lang="es-ES" sz="1600" dirty="0"/>
        </a:p>
      </dgm:t>
    </dgm:pt>
    <dgm:pt modelId="{D029EC95-11D9-4923-9ECD-ABF70D0D1567}" type="parTrans" cxnId="{33823C9B-622A-46F1-AD05-4477255866FF}">
      <dgm:prSet/>
      <dgm:spPr/>
      <dgm:t>
        <a:bodyPr/>
        <a:lstStyle/>
        <a:p>
          <a:endParaRPr lang="es-ES"/>
        </a:p>
      </dgm:t>
    </dgm:pt>
    <dgm:pt modelId="{ED5FF02C-BD97-4BD2-85F7-ECCD04983464}" type="sibTrans" cxnId="{33823C9B-622A-46F1-AD05-4477255866FF}">
      <dgm:prSet/>
      <dgm:spPr/>
      <dgm:t>
        <a:bodyPr/>
        <a:lstStyle/>
        <a:p>
          <a:endParaRPr lang="es-ES"/>
        </a:p>
      </dgm:t>
    </dgm:pt>
    <dgm:pt modelId="{65E87643-611A-4D8B-BB08-FABBFEFB76A6}">
      <dgm:prSet phldrT="[Texto]" custT="1"/>
      <dgm:spPr/>
      <dgm:t>
        <a:bodyPr/>
        <a:lstStyle/>
        <a:p>
          <a:r>
            <a:rPr lang="es-ES" sz="1600" dirty="0" smtClean="0"/>
            <a:t>Jefe de molturación y batido</a:t>
          </a:r>
        </a:p>
        <a:p>
          <a:r>
            <a:rPr lang="es-ES" sz="1600" dirty="0" smtClean="0"/>
            <a:t>( José Ruiz)</a:t>
          </a:r>
          <a:endParaRPr lang="es-ES" sz="1600" dirty="0"/>
        </a:p>
      </dgm:t>
    </dgm:pt>
    <dgm:pt modelId="{6E5FF53A-609F-49AF-BE65-E2509C9A5FD3}" type="parTrans" cxnId="{2255D531-4CB3-4DDC-AD1D-149C4812FB0E}">
      <dgm:prSet/>
      <dgm:spPr/>
      <dgm:t>
        <a:bodyPr/>
        <a:lstStyle/>
        <a:p>
          <a:endParaRPr lang="es-ES"/>
        </a:p>
      </dgm:t>
    </dgm:pt>
    <dgm:pt modelId="{A529E1DC-9C57-4226-9AD2-4C5691F8A5F1}" type="sibTrans" cxnId="{2255D531-4CB3-4DDC-AD1D-149C4812FB0E}">
      <dgm:prSet/>
      <dgm:spPr/>
      <dgm:t>
        <a:bodyPr/>
        <a:lstStyle/>
        <a:p>
          <a:endParaRPr lang="es-ES"/>
        </a:p>
      </dgm:t>
    </dgm:pt>
    <dgm:pt modelId="{652534C3-8FE7-42AF-8561-4113DC6B4393}">
      <dgm:prSet phldrT="[Texto]" custT="1"/>
      <dgm:spPr/>
      <dgm:t>
        <a:bodyPr/>
        <a:lstStyle/>
        <a:p>
          <a:r>
            <a:rPr lang="es-ES" sz="1600" dirty="0" smtClean="0"/>
            <a:t>Peones molturación: 4</a:t>
          </a:r>
          <a:endParaRPr lang="es-ES" sz="1600" dirty="0"/>
        </a:p>
      </dgm:t>
    </dgm:pt>
    <dgm:pt modelId="{2ED3B610-82C2-4470-A969-0FCE9759F5F7}" type="parTrans" cxnId="{37FE93A8-1255-41EA-86AA-B9A323CE6E78}">
      <dgm:prSet/>
      <dgm:spPr/>
      <dgm:t>
        <a:bodyPr/>
        <a:lstStyle/>
        <a:p>
          <a:endParaRPr lang="es-ES"/>
        </a:p>
      </dgm:t>
    </dgm:pt>
    <dgm:pt modelId="{53760D78-0AC6-4020-817C-C888BB8FE8EA}" type="sibTrans" cxnId="{37FE93A8-1255-41EA-86AA-B9A323CE6E78}">
      <dgm:prSet/>
      <dgm:spPr/>
      <dgm:t>
        <a:bodyPr/>
        <a:lstStyle/>
        <a:p>
          <a:endParaRPr lang="es-ES"/>
        </a:p>
      </dgm:t>
    </dgm:pt>
    <dgm:pt modelId="{900C8AAC-C028-45E1-8829-AFD5573B4BCF}">
      <dgm:prSet phldrT="[Texto]" custT="1"/>
      <dgm:spPr/>
      <dgm:t>
        <a:bodyPr/>
        <a:lstStyle/>
        <a:p>
          <a:r>
            <a:rPr lang="es-ES" sz="1600" dirty="0" smtClean="0"/>
            <a:t>Peones de batido:5</a:t>
          </a:r>
          <a:endParaRPr lang="es-ES" sz="1600" dirty="0"/>
        </a:p>
      </dgm:t>
    </dgm:pt>
    <dgm:pt modelId="{E6C68E9B-7F7C-41D5-9F63-7F561C749989}" type="parTrans" cxnId="{EB5DE1A8-BEAB-45E7-8A25-BD7D2B551E02}">
      <dgm:prSet/>
      <dgm:spPr/>
      <dgm:t>
        <a:bodyPr/>
        <a:lstStyle/>
        <a:p>
          <a:endParaRPr lang="es-ES"/>
        </a:p>
      </dgm:t>
    </dgm:pt>
    <dgm:pt modelId="{F873657A-9CE0-4A5A-8B2B-DC468F29F84A}" type="sibTrans" cxnId="{EB5DE1A8-BEAB-45E7-8A25-BD7D2B551E02}">
      <dgm:prSet/>
      <dgm:spPr/>
      <dgm:t>
        <a:bodyPr/>
        <a:lstStyle/>
        <a:p>
          <a:endParaRPr lang="es-ES"/>
        </a:p>
      </dgm:t>
    </dgm:pt>
    <dgm:pt modelId="{64FB684B-2AD8-4F8B-8F4E-5783C5D1F7CA}">
      <dgm:prSet phldrT="[Texto]" custT="1"/>
      <dgm:spPr/>
      <dgm:t>
        <a:bodyPr/>
        <a:lstStyle/>
        <a:p>
          <a:r>
            <a:rPr lang="es-ES" sz="1600" dirty="0" smtClean="0"/>
            <a:t>Jefe de embalaje</a:t>
          </a:r>
        </a:p>
        <a:p>
          <a:r>
            <a:rPr lang="es-ES" sz="1600" dirty="0" smtClean="0"/>
            <a:t> ( Verónica Aguilera)</a:t>
          </a:r>
          <a:endParaRPr lang="es-ES" sz="1600" dirty="0"/>
        </a:p>
      </dgm:t>
    </dgm:pt>
    <dgm:pt modelId="{2C4AD793-B8FF-4AE1-A96F-E4742296A6EE}" type="parTrans" cxnId="{20CAD640-9D7B-4784-B03B-678DDFB70AE3}">
      <dgm:prSet/>
      <dgm:spPr/>
      <dgm:t>
        <a:bodyPr/>
        <a:lstStyle/>
        <a:p>
          <a:endParaRPr lang="es-ES"/>
        </a:p>
      </dgm:t>
    </dgm:pt>
    <dgm:pt modelId="{63B5BFA7-6C22-4872-A47C-489AE4EC4668}" type="sibTrans" cxnId="{20CAD640-9D7B-4784-B03B-678DDFB70AE3}">
      <dgm:prSet/>
      <dgm:spPr/>
      <dgm:t>
        <a:bodyPr/>
        <a:lstStyle/>
        <a:p>
          <a:endParaRPr lang="es-ES"/>
        </a:p>
      </dgm:t>
    </dgm:pt>
    <dgm:pt modelId="{187E8E51-A5DA-4D10-8B6B-13B673AC8498}">
      <dgm:prSet phldrT="[Texto]" custT="1"/>
      <dgm:spPr/>
      <dgm:t>
        <a:bodyPr/>
        <a:lstStyle/>
        <a:p>
          <a:r>
            <a:rPr lang="es-ES" sz="1600" dirty="0" smtClean="0"/>
            <a:t>Peones: 9</a:t>
          </a:r>
          <a:endParaRPr lang="es-ES" sz="1600" dirty="0"/>
        </a:p>
      </dgm:t>
    </dgm:pt>
    <dgm:pt modelId="{68A6AC5D-6B41-4C0B-A798-E1A1CBD26837}" type="parTrans" cxnId="{B7AE955E-63C3-4AF9-AC65-38A05886D39D}">
      <dgm:prSet/>
      <dgm:spPr/>
      <dgm:t>
        <a:bodyPr/>
        <a:lstStyle/>
        <a:p>
          <a:endParaRPr lang="es-ES"/>
        </a:p>
      </dgm:t>
    </dgm:pt>
    <dgm:pt modelId="{3C6AD24D-0236-4A2E-A763-62BFD863C5FA}" type="sibTrans" cxnId="{B7AE955E-63C3-4AF9-AC65-38A05886D39D}">
      <dgm:prSet/>
      <dgm:spPr/>
      <dgm:t>
        <a:bodyPr/>
        <a:lstStyle/>
        <a:p>
          <a:endParaRPr lang="es-ES"/>
        </a:p>
      </dgm:t>
    </dgm:pt>
    <dgm:pt modelId="{25FB17BE-BF5E-44BD-98B6-EE120B6B5B93}">
      <dgm:prSet custT="1"/>
      <dgm:spPr/>
      <dgm:t>
        <a:bodyPr/>
        <a:lstStyle/>
        <a:p>
          <a:pPr marL="0" marR="0" indent="0" defTabSz="914400" eaLnBrk="1" fontAlgn="auto" latinLnBrk="0" hangingPunct="1">
            <a:lnSpc>
              <a:spcPct val="100000"/>
            </a:lnSpc>
            <a:spcBef>
              <a:spcPts val="0"/>
            </a:spcBef>
            <a:spcAft>
              <a:spcPts val="0"/>
            </a:spcAft>
            <a:buClrTx/>
            <a:buSzTx/>
            <a:buFontTx/>
            <a:buNone/>
            <a:tabLst/>
            <a:defRPr/>
          </a:pPr>
          <a:r>
            <a:rPr lang="es-ES" sz="1600" dirty="0" smtClean="0"/>
            <a:t>Jefe de decantación y filtración (Rafael Pérez)</a:t>
          </a:r>
          <a:endParaRPr lang="es-ES" sz="1600" dirty="0"/>
        </a:p>
      </dgm:t>
    </dgm:pt>
    <dgm:pt modelId="{B10219A1-902C-4229-8082-107ED7D324B5}" type="parTrans" cxnId="{1BF71642-FEBB-4615-888A-440EF5781E99}">
      <dgm:prSet/>
      <dgm:spPr/>
      <dgm:t>
        <a:bodyPr/>
        <a:lstStyle/>
        <a:p>
          <a:endParaRPr lang="es-ES"/>
        </a:p>
      </dgm:t>
    </dgm:pt>
    <dgm:pt modelId="{38FBD54F-9890-4C4D-AA26-B434B71F7417}" type="sibTrans" cxnId="{1BF71642-FEBB-4615-888A-440EF5781E99}">
      <dgm:prSet/>
      <dgm:spPr/>
      <dgm:t>
        <a:bodyPr/>
        <a:lstStyle/>
        <a:p>
          <a:endParaRPr lang="es-ES"/>
        </a:p>
      </dgm:t>
    </dgm:pt>
    <dgm:pt modelId="{CFCF64C0-99F1-492B-87F9-36C3BFF3D7FF}">
      <dgm:prSet custT="1"/>
      <dgm:spPr/>
      <dgm:t>
        <a:bodyPr/>
        <a:lstStyle/>
        <a:p>
          <a:r>
            <a:rPr lang="es-ES" sz="1600" dirty="0" smtClean="0"/>
            <a:t>Peones: 3</a:t>
          </a:r>
          <a:endParaRPr lang="es-ES" sz="1600" dirty="0"/>
        </a:p>
      </dgm:t>
    </dgm:pt>
    <dgm:pt modelId="{8247D67E-3C36-477A-BE35-2DBC48772AA1}" type="parTrans" cxnId="{B661AB85-1F68-49E4-A86A-ED05689F546F}">
      <dgm:prSet/>
      <dgm:spPr/>
      <dgm:t>
        <a:bodyPr/>
        <a:lstStyle/>
        <a:p>
          <a:endParaRPr lang="es-ES"/>
        </a:p>
      </dgm:t>
    </dgm:pt>
    <dgm:pt modelId="{D7E8BB80-B269-4178-A002-F2B59C0CA435}" type="sibTrans" cxnId="{B661AB85-1F68-49E4-A86A-ED05689F546F}">
      <dgm:prSet/>
      <dgm:spPr/>
      <dgm:t>
        <a:bodyPr/>
        <a:lstStyle/>
        <a:p>
          <a:endParaRPr lang="es-ES"/>
        </a:p>
      </dgm:t>
    </dgm:pt>
    <dgm:pt modelId="{5C101A42-1ED4-4C3E-A22E-5EB9FE51B18C}" type="pres">
      <dgm:prSet presAssocID="{9F1424DC-0D62-4A32-A018-84667D349328}" presName="hierChild1" presStyleCnt="0">
        <dgm:presLayoutVars>
          <dgm:chPref val="1"/>
          <dgm:dir/>
          <dgm:animOne val="branch"/>
          <dgm:animLvl val="lvl"/>
          <dgm:resizeHandles/>
        </dgm:presLayoutVars>
      </dgm:prSet>
      <dgm:spPr/>
      <dgm:t>
        <a:bodyPr/>
        <a:lstStyle/>
        <a:p>
          <a:endParaRPr lang="es-ES"/>
        </a:p>
      </dgm:t>
    </dgm:pt>
    <dgm:pt modelId="{C9FF5283-D95C-4DF3-9E56-2EF81C117029}" type="pres">
      <dgm:prSet presAssocID="{0160CAC8-8FD6-4680-80FE-C567E03FAE19}" presName="hierRoot1" presStyleCnt="0"/>
      <dgm:spPr/>
    </dgm:pt>
    <dgm:pt modelId="{5C00A918-18C4-4836-89E8-0CF5ADCC842B}" type="pres">
      <dgm:prSet presAssocID="{0160CAC8-8FD6-4680-80FE-C567E03FAE19}" presName="composite" presStyleCnt="0"/>
      <dgm:spPr/>
    </dgm:pt>
    <dgm:pt modelId="{B518B09C-8C1F-4DD2-8D0A-725BB67ED8CC}" type="pres">
      <dgm:prSet presAssocID="{0160CAC8-8FD6-4680-80FE-C567E03FAE19}" presName="background" presStyleLbl="node0" presStyleIdx="0" presStyleCnt="1"/>
      <dgm:spPr/>
    </dgm:pt>
    <dgm:pt modelId="{43FA64F3-366D-488F-BEA9-C5FE4467081C}" type="pres">
      <dgm:prSet presAssocID="{0160CAC8-8FD6-4680-80FE-C567E03FAE19}" presName="text" presStyleLbl="fgAcc0" presStyleIdx="0" presStyleCnt="1" custScaleX="169206" custScaleY="119441">
        <dgm:presLayoutVars>
          <dgm:chPref val="3"/>
        </dgm:presLayoutVars>
      </dgm:prSet>
      <dgm:spPr/>
      <dgm:t>
        <a:bodyPr/>
        <a:lstStyle/>
        <a:p>
          <a:endParaRPr lang="es-ES"/>
        </a:p>
      </dgm:t>
    </dgm:pt>
    <dgm:pt modelId="{CBCC5552-1896-464F-B8D4-DD6004976CBF}" type="pres">
      <dgm:prSet presAssocID="{0160CAC8-8FD6-4680-80FE-C567E03FAE19}" presName="hierChild2" presStyleCnt="0"/>
      <dgm:spPr/>
    </dgm:pt>
    <dgm:pt modelId="{A4FD8718-6D16-40ED-83D5-843D6201850A}" type="pres">
      <dgm:prSet presAssocID="{6E5FF53A-609F-49AF-BE65-E2509C9A5FD3}" presName="Name10" presStyleLbl="parChTrans1D2" presStyleIdx="0" presStyleCnt="3"/>
      <dgm:spPr/>
      <dgm:t>
        <a:bodyPr/>
        <a:lstStyle/>
        <a:p>
          <a:endParaRPr lang="es-ES"/>
        </a:p>
      </dgm:t>
    </dgm:pt>
    <dgm:pt modelId="{D4617334-686C-4D8F-9A86-E50F8E4D9446}" type="pres">
      <dgm:prSet presAssocID="{65E87643-611A-4D8B-BB08-FABBFEFB76A6}" presName="hierRoot2" presStyleCnt="0"/>
      <dgm:spPr/>
    </dgm:pt>
    <dgm:pt modelId="{4CB34DBD-D167-4A49-BAE7-BE7D714E7B7D}" type="pres">
      <dgm:prSet presAssocID="{65E87643-611A-4D8B-BB08-FABBFEFB76A6}" presName="composite2" presStyleCnt="0"/>
      <dgm:spPr/>
    </dgm:pt>
    <dgm:pt modelId="{B9D67137-2372-47BD-85C7-13E59056F9A3}" type="pres">
      <dgm:prSet presAssocID="{65E87643-611A-4D8B-BB08-FABBFEFB76A6}" presName="background2" presStyleLbl="node2" presStyleIdx="0" presStyleCnt="3"/>
      <dgm:spPr/>
    </dgm:pt>
    <dgm:pt modelId="{72D22536-65F1-432B-8B12-631ACBF1CB62}" type="pres">
      <dgm:prSet presAssocID="{65E87643-611A-4D8B-BB08-FABBFEFB76A6}" presName="text2" presStyleLbl="fgAcc2" presStyleIdx="0" presStyleCnt="3">
        <dgm:presLayoutVars>
          <dgm:chPref val="3"/>
        </dgm:presLayoutVars>
      </dgm:prSet>
      <dgm:spPr/>
      <dgm:t>
        <a:bodyPr/>
        <a:lstStyle/>
        <a:p>
          <a:endParaRPr lang="es-ES"/>
        </a:p>
      </dgm:t>
    </dgm:pt>
    <dgm:pt modelId="{4FC1A482-FE4A-416B-AD8C-88646348353F}" type="pres">
      <dgm:prSet presAssocID="{65E87643-611A-4D8B-BB08-FABBFEFB76A6}" presName="hierChild3" presStyleCnt="0"/>
      <dgm:spPr/>
    </dgm:pt>
    <dgm:pt modelId="{CD9660B4-3B03-42D1-B06C-2DB33809D9DA}" type="pres">
      <dgm:prSet presAssocID="{2ED3B610-82C2-4470-A969-0FCE9759F5F7}" presName="Name17" presStyleLbl="parChTrans1D3" presStyleIdx="0" presStyleCnt="4"/>
      <dgm:spPr/>
      <dgm:t>
        <a:bodyPr/>
        <a:lstStyle/>
        <a:p>
          <a:endParaRPr lang="es-ES"/>
        </a:p>
      </dgm:t>
    </dgm:pt>
    <dgm:pt modelId="{044C2D00-678D-403D-AD48-761508486C06}" type="pres">
      <dgm:prSet presAssocID="{652534C3-8FE7-42AF-8561-4113DC6B4393}" presName="hierRoot3" presStyleCnt="0"/>
      <dgm:spPr/>
    </dgm:pt>
    <dgm:pt modelId="{96A44B87-E341-4FE9-BF63-63630FAF3B92}" type="pres">
      <dgm:prSet presAssocID="{652534C3-8FE7-42AF-8561-4113DC6B4393}" presName="composite3" presStyleCnt="0"/>
      <dgm:spPr/>
    </dgm:pt>
    <dgm:pt modelId="{67B78AEF-8EC5-4F37-8A86-28376AE60D65}" type="pres">
      <dgm:prSet presAssocID="{652534C3-8FE7-42AF-8561-4113DC6B4393}" presName="background3" presStyleLbl="node3" presStyleIdx="0" presStyleCnt="4"/>
      <dgm:spPr/>
    </dgm:pt>
    <dgm:pt modelId="{DD33EE8F-877F-4807-AAC9-69601EB09089}" type="pres">
      <dgm:prSet presAssocID="{652534C3-8FE7-42AF-8561-4113DC6B4393}" presName="text3" presStyleLbl="fgAcc3" presStyleIdx="0" presStyleCnt="4">
        <dgm:presLayoutVars>
          <dgm:chPref val="3"/>
        </dgm:presLayoutVars>
      </dgm:prSet>
      <dgm:spPr/>
      <dgm:t>
        <a:bodyPr/>
        <a:lstStyle/>
        <a:p>
          <a:endParaRPr lang="es-ES"/>
        </a:p>
      </dgm:t>
    </dgm:pt>
    <dgm:pt modelId="{706220E8-B0CC-453B-BC8F-233C03776BB1}" type="pres">
      <dgm:prSet presAssocID="{652534C3-8FE7-42AF-8561-4113DC6B4393}" presName="hierChild4" presStyleCnt="0"/>
      <dgm:spPr/>
    </dgm:pt>
    <dgm:pt modelId="{A8419EB0-6332-4D0D-B743-D0DDD5211D4E}" type="pres">
      <dgm:prSet presAssocID="{E6C68E9B-7F7C-41D5-9F63-7F561C749989}" presName="Name17" presStyleLbl="parChTrans1D3" presStyleIdx="1" presStyleCnt="4"/>
      <dgm:spPr/>
      <dgm:t>
        <a:bodyPr/>
        <a:lstStyle/>
        <a:p>
          <a:endParaRPr lang="es-ES"/>
        </a:p>
      </dgm:t>
    </dgm:pt>
    <dgm:pt modelId="{7E02C5D6-25A4-4C6A-8D07-704AAE2E5072}" type="pres">
      <dgm:prSet presAssocID="{900C8AAC-C028-45E1-8829-AFD5573B4BCF}" presName="hierRoot3" presStyleCnt="0"/>
      <dgm:spPr/>
    </dgm:pt>
    <dgm:pt modelId="{07EF3A24-59B8-4580-8453-A584793167D9}" type="pres">
      <dgm:prSet presAssocID="{900C8AAC-C028-45E1-8829-AFD5573B4BCF}" presName="composite3" presStyleCnt="0"/>
      <dgm:spPr/>
    </dgm:pt>
    <dgm:pt modelId="{1ECE9268-16EC-4083-A7AE-F3360867A530}" type="pres">
      <dgm:prSet presAssocID="{900C8AAC-C028-45E1-8829-AFD5573B4BCF}" presName="background3" presStyleLbl="node3" presStyleIdx="1" presStyleCnt="4"/>
      <dgm:spPr/>
    </dgm:pt>
    <dgm:pt modelId="{8B914659-D773-4AB9-AD1C-D5AFB39DA27B}" type="pres">
      <dgm:prSet presAssocID="{900C8AAC-C028-45E1-8829-AFD5573B4BCF}" presName="text3" presStyleLbl="fgAcc3" presStyleIdx="1" presStyleCnt="4">
        <dgm:presLayoutVars>
          <dgm:chPref val="3"/>
        </dgm:presLayoutVars>
      </dgm:prSet>
      <dgm:spPr/>
      <dgm:t>
        <a:bodyPr/>
        <a:lstStyle/>
        <a:p>
          <a:endParaRPr lang="es-ES"/>
        </a:p>
      </dgm:t>
    </dgm:pt>
    <dgm:pt modelId="{61869F47-B3C0-4A92-80A5-14548F960DCA}" type="pres">
      <dgm:prSet presAssocID="{900C8AAC-C028-45E1-8829-AFD5573B4BCF}" presName="hierChild4" presStyleCnt="0"/>
      <dgm:spPr/>
    </dgm:pt>
    <dgm:pt modelId="{6301B80F-054A-4027-AAD0-86D48C63E327}" type="pres">
      <dgm:prSet presAssocID="{B10219A1-902C-4229-8082-107ED7D324B5}" presName="Name10" presStyleLbl="parChTrans1D2" presStyleIdx="1" presStyleCnt="3"/>
      <dgm:spPr/>
      <dgm:t>
        <a:bodyPr/>
        <a:lstStyle/>
        <a:p>
          <a:endParaRPr lang="es-ES"/>
        </a:p>
      </dgm:t>
    </dgm:pt>
    <dgm:pt modelId="{17E5E9FB-D32B-48CF-86C4-76C5938FFDB8}" type="pres">
      <dgm:prSet presAssocID="{25FB17BE-BF5E-44BD-98B6-EE120B6B5B93}" presName="hierRoot2" presStyleCnt="0"/>
      <dgm:spPr/>
    </dgm:pt>
    <dgm:pt modelId="{48D376FA-2EC0-48E1-88DC-91B235B8AD16}" type="pres">
      <dgm:prSet presAssocID="{25FB17BE-BF5E-44BD-98B6-EE120B6B5B93}" presName="composite2" presStyleCnt="0"/>
      <dgm:spPr/>
    </dgm:pt>
    <dgm:pt modelId="{52E4C787-AA59-48F8-AD43-D20D67F62985}" type="pres">
      <dgm:prSet presAssocID="{25FB17BE-BF5E-44BD-98B6-EE120B6B5B93}" presName="background2" presStyleLbl="node2" presStyleIdx="1" presStyleCnt="3"/>
      <dgm:spPr/>
    </dgm:pt>
    <dgm:pt modelId="{ADE1A58A-E8EF-4E83-846C-205FD1717E2B}" type="pres">
      <dgm:prSet presAssocID="{25FB17BE-BF5E-44BD-98B6-EE120B6B5B93}" presName="text2" presStyleLbl="fgAcc2" presStyleIdx="1" presStyleCnt="3" custScaleY="99794">
        <dgm:presLayoutVars>
          <dgm:chPref val="3"/>
        </dgm:presLayoutVars>
      </dgm:prSet>
      <dgm:spPr/>
      <dgm:t>
        <a:bodyPr/>
        <a:lstStyle/>
        <a:p>
          <a:endParaRPr lang="es-ES"/>
        </a:p>
      </dgm:t>
    </dgm:pt>
    <dgm:pt modelId="{4ECC1FCD-5ADF-46D9-9FE5-D19C0B458C0A}" type="pres">
      <dgm:prSet presAssocID="{25FB17BE-BF5E-44BD-98B6-EE120B6B5B93}" presName="hierChild3" presStyleCnt="0"/>
      <dgm:spPr/>
    </dgm:pt>
    <dgm:pt modelId="{36CBE7C4-A691-4621-9E74-3265AF18C695}" type="pres">
      <dgm:prSet presAssocID="{8247D67E-3C36-477A-BE35-2DBC48772AA1}" presName="Name17" presStyleLbl="parChTrans1D3" presStyleIdx="2" presStyleCnt="4"/>
      <dgm:spPr/>
      <dgm:t>
        <a:bodyPr/>
        <a:lstStyle/>
        <a:p>
          <a:endParaRPr lang="es-ES"/>
        </a:p>
      </dgm:t>
    </dgm:pt>
    <dgm:pt modelId="{9E47B66B-0A36-4446-BF8A-32FC335442EA}" type="pres">
      <dgm:prSet presAssocID="{CFCF64C0-99F1-492B-87F9-36C3BFF3D7FF}" presName="hierRoot3" presStyleCnt="0"/>
      <dgm:spPr/>
    </dgm:pt>
    <dgm:pt modelId="{8AA63963-65D1-40A4-909E-0358DCBC24C7}" type="pres">
      <dgm:prSet presAssocID="{CFCF64C0-99F1-492B-87F9-36C3BFF3D7FF}" presName="composite3" presStyleCnt="0"/>
      <dgm:spPr/>
    </dgm:pt>
    <dgm:pt modelId="{1BFA1A10-0B0B-4DEC-A1A5-119FF81FF06F}" type="pres">
      <dgm:prSet presAssocID="{CFCF64C0-99F1-492B-87F9-36C3BFF3D7FF}" presName="background3" presStyleLbl="node3" presStyleIdx="2" presStyleCnt="4"/>
      <dgm:spPr/>
    </dgm:pt>
    <dgm:pt modelId="{A8DA0AE7-33BD-491F-906D-BC8DFE729B87}" type="pres">
      <dgm:prSet presAssocID="{CFCF64C0-99F1-492B-87F9-36C3BFF3D7FF}" presName="text3" presStyleLbl="fgAcc3" presStyleIdx="2" presStyleCnt="4">
        <dgm:presLayoutVars>
          <dgm:chPref val="3"/>
        </dgm:presLayoutVars>
      </dgm:prSet>
      <dgm:spPr/>
      <dgm:t>
        <a:bodyPr/>
        <a:lstStyle/>
        <a:p>
          <a:endParaRPr lang="es-ES"/>
        </a:p>
      </dgm:t>
    </dgm:pt>
    <dgm:pt modelId="{62A04402-4C4F-43E8-8F49-EB9188E3119B}" type="pres">
      <dgm:prSet presAssocID="{CFCF64C0-99F1-492B-87F9-36C3BFF3D7FF}" presName="hierChild4" presStyleCnt="0"/>
      <dgm:spPr/>
    </dgm:pt>
    <dgm:pt modelId="{6A9D54E8-C614-4687-A8ED-383A8663887C}" type="pres">
      <dgm:prSet presAssocID="{2C4AD793-B8FF-4AE1-A96F-E4742296A6EE}" presName="Name10" presStyleLbl="parChTrans1D2" presStyleIdx="2" presStyleCnt="3"/>
      <dgm:spPr/>
      <dgm:t>
        <a:bodyPr/>
        <a:lstStyle/>
        <a:p>
          <a:endParaRPr lang="es-ES"/>
        </a:p>
      </dgm:t>
    </dgm:pt>
    <dgm:pt modelId="{1D4B3868-2F28-450F-A17F-2036939A785C}" type="pres">
      <dgm:prSet presAssocID="{64FB684B-2AD8-4F8B-8F4E-5783C5D1F7CA}" presName="hierRoot2" presStyleCnt="0"/>
      <dgm:spPr/>
    </dgm:pt>
    <dgm:pt modelId="{414B29A9-2055-4D83-A5E7-DF30FE0D531C}" type="pres">
      <dgm:prSet presAssocID="{64FB684B-2AD8-4F8B-8F4E-5783C5D1F7CA}" presName="composite2" presStyleCnt="0"/>
      <dgm:spPr/>
    </dgm:pt>
    <dgm:pt modelId="{BCAD4413-0D01-4D8D-8180-A35D45CAB7B4}" type="pres">
      <dgm:prSet presAssocID="{64FB684B-2AD8-4F8B-8F4E-5783C5D1F7CA}" presName="background2" presStyleLbl="node2" presStyleIdx="2" presStyleCnt="3"/>
      <dgm:spPr/>
    </dgm:pt>
    <dgm:pt modelId="{9D4C760C-E974-4C09-83CA-6AA587EC2AE4}" type="pres">
      <dgm:prSet presAssocID="{64FB684B-2AD8-4F8B-8F4E-5783C5D1F7CA}" presName="text2" presStyleLbl="fgAcc2" presStyleIdx="2" presStyleCnt="3">
        <dgm:presLayoutVars>
          <dgm:chPref val="3"/>
        </dgm:presLayoutVars>
      </dgm:prSet>
      <dgm:spPr/>
      <dgm:t>
        <a:bodyPr/>
        <a:lstStyle/>
        <a:p>
          <a:endParaRPr lang="es-ES"/>
        </a:p>
      </dgm:t>
    </dgm:pt>
    <dgm:pt modelId="{732DB0FB-4BD9-4337-8546-536F0EA21D82}" type="pres">
      <dgm:prSet presAssocID="{64FB684B-2AD8-4F8B-8F4E-5783C5D1F7CA}" presName="hierChild3" presStyleCnt="0"/>
      <dgm:spPr/>
    </dgm:pt>
    <dgm:pt modelId="{421E9EAF-B5AF-4D23-8B1B-0858AB621B11}" type="pres">
      <dgm:prSet presAssocID="{68A6AC5D-6B41-4C0B-A798-E1A1CBD26837}" presName="Name17" presStyleLbl="parChTrans1D3" presStyleIdx="3" presStyleCnt="4"/>
      <dgm:spPr/>
      <dgm:t>
        <a:bodyPr/>
        <a:lstStyle/>
        <a:p>
          <a:endParaRPr lang="es-ES"/>
        </a:p>
      </dgm:t>
    </dgm:pt>
    <dgm:pt modelId="{E99D9BDC-9168-4AD3-A0C9-60D5BEC80561}" type="pres">
      <dgm:prSet presAssocID="{187E8E51-A5DA-4D10-8B6B-13B673AC8498}" presName="hierRoot3" presStyleCnt="0"/>
      <dgm:spPr/>
    </dgm:pt>
    <dgm:pt modelId="{F37D9CCE-3C73-4D45-A2D0-F2E4F563B7E4}" type="pres">
      <dgm:prSet presAssocID="{187E8E51-A5DA-4D10-8B6B-13B673AC8498}" presName="composite3" presStyleCnt="0"/>
      <dgm:spPr/>
    </dgm:pt>
    <dgm:pt modelId="{5F9A3B17-603D-4D08-8B90-2DB92F1838E6}" type="pres">
      <dgm:prSet presAssocID="{187E8E51-A5DA-4D10-8B6B-13B673AC8498}" presName="background3" presStyleLbl="node3" presStyleIdx="3" presStyleCnt="4"/>
      <dgm:spPr/>
    </dgm:pt>
    <dgm:pt modelId="{561FFA8A-8B80-465F-AF82-D34FB0A402A0}" type="pres">
      <dgm:prSet presAssocID="{187E8E51-A5DA-4D10-8B6B-13B673AC8498}" presName="text3" presStyleLbl="fgAcc3" presStyleIdx="3" presStyleCnt="4">
        <dgm:presLayoutVars>
          <dgm:chPref val="3"/>
        </dgm:presLayoutVars>
      </dgm:prSet>
      <dgm:spPr/>
      <dgm:t>
        <a:bodyPr/>
        <a:lstStyle/>
        <a:p>
          <a:endParaRPr lang="es-ES"/>
        </a:p>
      </dgm:t>
    </dgm:pt>
    <dgm:pt modelId="{3773FC12-54F9-4550-B4EB-E3563C8235A1}" type="pres">
      <dgm:prSet presAssocID="{187E8E51-A5DA-4D10-8B6B-13B673AC8498}" presName="hierChild4" presStyleCnt="0"/>
      <dgm:spPr/>
    </dgm:pt>
  </dgm:ptLst>
  <dgm:cxnLst>
    <dgm:cxn modelId="{799969F2-1C15-40DD-9AD9-9D93F3BE0147}" type="presOf" srcId="{2C4AD793-B8FF-4AE1-A96F-E4742296A6EE}" destId="{6A9D54E8-C614-4687-A8ED-383A8663887C}" srcOrd="0" destOrd="0" presId="urn:microsoft.com/office/officeart/2005/8/layout/hierarchy1"/>
    <dgm:cxn modelId="{1BF71642-FEBB-4615-888A-440EF5781E99}" srcId="{0160CAC8-8FD6-4680-80FE-C567E03FAE19}" destId="{25FB17BE-BF5E-44BD-98B6-EE120B6B5B93}" srcOrd="1" destOrd="0" parTransId="{B10219A1-902C-4229-8082-107ED7D324B5}" sibTransId="{38FBD54F-9890-4C4D-AA26-B434B71F7417}"/>
    <dgm:cxn modelId="{56577763-06CB-4197-A2CD-E91B5D1F422D}" type="presOf" srcId="{0160CAC8-8FD6-4680-80FE-C567E03FAE19}" destId="{43FA64F3-366D-488F-BEA9-C5FE4467081C}" srcOrd="0" destOrd="0" presId="urn:microsoft.com/office/officeart/2005/8/layout/hierarchy1"/>
    <dgm:cxn modelId="{2255D531-4CB3-4DDC-AD1D-149C4812FB0E}" srcId="{0160CAC8-8FD6-4680-80FE-C567E03FAE19}" destId="{65E87643-611A-4D8B-BB08-FABBFEFB76A6}" srcOrd="0" destOrd="0" parTransId="{6E5FF53A-609F-49AF-BE65-E2509C9A5FD3}" sibTransId="{A529E1DC-9C57-4226-9AD2-4C5691F8A5F1}"/>
    <dgm:cxn modelId="{9428D171-F17B-45C7-A7B2-2879740A2AE1}" type="presOf" srcId="{187E8E51-A5DA-4D10-8B6B-13B673AC8498}" destId="{561FFA8A-8B80-465F-AF82-D34FB0A402A0}" srcOrd="0" destOrd="0" presId="urn:microsoft.com/office/officeart/2005/8/layout/hierarchy1"/>
    <dgm:cxn modelId="{2353D3C5-8456-4CD3-AE55-2F2B23B20791}" type="presOf" srcId="{2ED3B610-82C2-4470-A969-0FCE9759F5F7}" destId="{CD9660B4-3B03-42D1-B06C-2DB33809D9DA}" srcOrd="0" destOrd="0" presId="urn:microsoft.com/office/officeart/2005/8/layout/hierarchy1"/>
    <dgm:cxn modelId="{8C4FC4A0-06E9-427A-8727-3AD0892D3127}" type="presOf" srcId="{B10219A1-902C-4229-8082-107ED7D324B5}" destId="{6301B80F-054A-4027-AAD0-86D48C63E327}" srcOrd="0" destOrd="0" presId="urn:microsoft.com/office/officeart/2005/8/layout/hierarchy1"/>
    <dgm:cxn modelId="{08F9AA07-1329-4CD7-9C2E-F4CF677F33D2}" type="presOf" srcId="{900C8AAC-C028-45E1-8829-AFD5573B4BCF}" destId="{8B914659-D773-4AB9-AD1C-D5AFB39DA27B}" srcOrd="0" destOrd="0" presId="urn:microsoft.com/office/officeart/2005/8/layout/hierarchy1"/>
    <dgm:cxn modelId="{33823C9B-622A-46F1-AD05-4477255866FF}" srcId="{9F1424DC-0D62-4A32-A018-84667D349328}" destId="{0160CAC8-8FD6-4680-80FE-C567E03FAE19}" srcOrd="0" destOrd="0" parTransId="{D029EC95-11D9-4923-9ECD-ABF70D0D1567}" sibTransId="{ED5FF02C-BD97-4BD2-85F7-ECCD04983464}"/>
    <dgm:cxn modelId="{37FE93A8-1255-41EA-86AA-B9A323CE6E78}" srcId="{65E87643-611A-4D8B-BB08-FABBFEFB76A6}" destId="{652534C3-8FE7-42AF-8561-4113DC6B4393}" srcOrd="0" destOrd="0" parTransId="{2ED3B610-82C2-4470-A969-0FCE9759F5F7}" sibTransId="{53760D78-0AC6-4020-817C-C888BB8FE8EA}"/>
    <dgm:cxn modelId="{4239ADF2-2710-4DB4-9EEB-0C22D07971B8}" type="presOf" srcId="{68A6AC5D-6B41-4C0B-A798-E1A1CBD26837}" destId="{421E9EAF-B5AF-4D23-8B1B-0858AB621B11}" srcOrd="0" destOrd="0" presId="urn:microsoft.com/office/officeart/2005/8/layout/hierarchy1"/>
    <dgm:cxn modelId="{1C8346A3-1886-4DE4-9433-9FC0CB9CC516}" type="presOf" srcId="{E6C68E9B-7F7C-41D5-9F63-7F561C749989}" destId="{A8419EB0-6332-4D0D-B743-D0DDD5211D4E}" srcOrd="0" destOrd="0" presId="urn:microsoft.com/office/officeart/2005/8/layout/hierarchy1"/>
    <dgm:cxn modelId="{EB5DE1A8-BEAB-45E7-8A25-BD7D2B551E02}" srcId="{65E87643-611A-4D8B-BB08-FABBFEFB76A6}" destId="{900C8AAC-C028-45E1-8829-AFD5573B4BCF}" srcOrd="1" destOrd="0" parTransId="{E6C68E9B-7F7C-41D5-9F63-7F561C749989}" sibTransId="{F873657A-9CE0-4A5A-8B2B-DC468F29F84A}"/>
    <dgm:cxn modelId="{20CAD640-9D7B-4784-B03B-678DDFB70AE3}" srcId="{0160CAC8-8FD6-4680-80FE-C567E03FAE19}" destId="{64FB684B-2AD8-4F8B-8F4E-5783C5D1F7CA}" srcOrd="2" destOrd="0" parTransId="{2C4AD793-B8FF-4AE1-A96F-E4742296A6EE}" sibTransId="{63B5BFA7-6C22-4872-A47C-489AE4EC4668}"/>
    <dgm:cxn modelId="{B7AE955E-63C3-4AF9-AC65-38A05886D39D}" srcId="{64FB684B-2AD8-4F8B-8F4E-5783C5D1F7CA}" destId="{187E8E51-A5DA-4D10-8B6B-13B673AC8498}" srcOrd="0" destOrd="0" parTransId="{68A6AC5D-6B41-4C0B-A798-E1A1CBD26837}" sibTransId="{3C6AD24D-0236-4A2E-A763-62BFD863C5FA}"/>
    <dgm:cxn modelId="{5EA8D83A-1EAF-4CAC-9201-7CD4DEFDBD29}" type="presOf" srcId="{CFCF64C0-99F1-492B-87F9-36C3BFF3D7FF}" destId="{A8DA0AE7-33BD-491F-906D-BC8DFE729B87}" srcOrd="0" destOrd="0" presId="urn:microsoft.com/office/officeart/2005/8/layout/hierarchy1"/>
    <dgm:cxn modelId="{55DDF6DD-1D95-4D62-92D6-E0111F498DE2}" type="presOf" srcId="{25FB17BE-BF5E-44BD-98B6-EE120B6B5B93}" destId="{ADE1A58A-E8EF-4E83-846C-205FD1717E2B}" srcOrd="0" destOrd="0" presId="urn:microsoft.com/office/officeart/2005/8/layout/hierarchy1"/>
    <dgm:cxn modelId="{12BF059D-6979-474B-BCFE-13CEDA352948}" type="presOf" srcId="{64FB684B-2AD8-4F8B-8F4E-5783C5D1F7CA}" destId="{9D4C760C-E974-4C09-83CA-6AA587EC2AE4}" srcOrd="0" destOrd="0" presId="urn:microsoft.com/office/officeart/2005/8/layout/hierarchy1"/>
    <dgm:cxn modelId="{D0CB9020-130B-4C17-B404-8B1CB08A29AE}" type="presOf" srcId="{6E5FF53A-609F-49AF-BE65-E2509C9A5FD3}" destId="{A4FD8718-6D16-40ED-83D5-843D6201850A}" srcOrd="0" destOrd="0" presId="urn:microsoft.com/office/officeart/2005/8/layout/hierarchy1"/>
    <dgm:cxn modelId="{B661AB85-1F68-49E4-A86A-ED05689F546F}" srcId="{25FB17BE-BF5E-44BD-98B6-EE120B6B5B93}" destId="{CFCF64C0-99F1-492B-87F9-36C3BFF3D7FF}" srcOrd="0" destOrd="0" parTransId="{8247D67E-3C36-477A-BE35-2DBC48772AA1}" sibTransId="{D7E8BB80-B269-4178-A002-F2B59C0CA435}"/>
    <dgm:cxn modelId="{0F94680E-74C7-4499-9450-0C051F875C08}" type="presOf" srcId="{65E87643-611A-4D8B-BB08-FABBFEFB76A6}" destId="{72D22536-65F1-432B-8B12-631ACBF1CB62}" srcOrd="0" destOrd="0" presId="urn:microsoft.com/office/officeart/2005/8/layout/hierarchy1"/>
    <dgm:cxn modelId="{45EECE4D-C19E-4EDB-BB32-ACF7C11E6B75}" type="presOf" srcId="{8247D67E-3C36-477A-BE35-2DBC48772AA1}" destId="{36CBE7C4-A691-4621-9E74-3265AF18C695}" srcOrd="0" destOrd="0" presId="urn:microsoft.com/office/officeart/2005/8/layout/hierarchy1"/>
    <dgm:cxn modelId="{26FA7641-AE77-4D75-98D5-6160575CDD47}" type="presOf" srcId="{652534C3-8FE7-42AF-8561-4113DC6B4393}" destId="{DD33EE8F-877F-4807-AAC9-69601EB09089}" srcOrd="0" destOrd="0" presId="urn:microsoft.com/office/officeart/2005/8/layout/hierarchy1"/>
    <dgm:cxn modelId="{7AA83E4B-11D6-478C-BC97-9709E804180F}" type="presOf" srcId="{9F1424DC-0D62-4A32-A018-84667D349328}" destId="{5C101A42-1ED4-4C3E-A22E-5EB9FE51B18C}" srcOrd="0" destOrd="0" presId="urn:microsoft.com/office/officeart/2005/8/layout/hierarchy1"/>
    <dgm:cxn modelId="{56D17C25-E053-41CB-84BA-5435F9990D3D}" type="presParOf" srcId="{5C101A42-1ED4-4C3E-A22E-5EB9FE51B18C}" destId="{C9FF5283-D95C-4DF3-9E56-2EF81C117029}" srcOrd="0" destOrd="0" presId="urn:microsoft.com/office/officeart/2005/8/layout/hierarchy1"/>
    <dgm:cxn modelId="{FC6EE354-44E7-4E7F-9E72-750A346842DC}" type="presParOf" srcId="{C9FF5283-D95C-4DF3-9E56-2EF81C117029}" destId="{5C00A918-18C4-4836-89E8-0CF5ADCC842B}" srcOrd="0" destOrd="0" presId="urn:microsoft.com/office/officeart/2005/8/layout/hierarchy1"/>
    <dgm:cxn modelId="{3DC87E42-56F0-4109-BC09-0AA06AA3B00F}" type="presParOf" srcId="{5C00A918-18C4-4836-89E8-0CF5ADCC842B}" destId="{B518B09C-8C1F-4DD2-8D0A-725BB67ED8CC}" srcOrd="0" destOrd="0" presId="urn:microsoft.com/office/officeart/2005/8/layout/hierarchy1"/>
    <dgm:cxn modelId="{3ED6BF84-0F92-48AF-B2C6-C70125724A66}" type="presParOf" srcId="{5C00A918-18C4-4836-89E8-0CF5ADCC842B}" destId="{43FA64F3-366D-488F-BEA9-C5FE4467081C}" srcOrd="1" destOrd="0" presId="urn:microsoft.com/office/officeart/2005/8/layout/hierarchy1"/>
    <dgm:cxn modelId="{44C7CC08-BE14-4100-BE08-D38AEB14E42D}" type="presParOf" srcId="{C9FF5283-D95C-4DF3-9E56-2EF81C117029}" destId="{CBCC5552-1896-464F-B8D4-DD6004976CBF}" srcOrd="1" destOrd="0" presId="urn:microsoft.com/office/officeart/2005/8/layout/hierarchy1"/>
    <dgm:cxn modelId="{291AC839-3E4F-4697-AAA5-C224688EE1DB}" type="presParOf" srcId="{CBCC5552-1896-464F-B8D4-DD6004976CBF}" destId="{A4FD8718-6D16-40ED-83D5-843D6201850A}" srcOrd="0" destOrd="0" presId="urn:microsoft.com/office/officeart/2005/8/layout/hierarchy1"/>
    <dgm:cxn modelId="{EF73F2EE-CF7A-4751-9C04-710183D5DD00}" type="presParOf" srcId="{CBCC5552-1896-464F-B8D4-DD6004976CBF}" destId="{D4617334-686C-4D8F-9A86-E50F8E4D9446}" srcOrd="1" destOrd="0" presId="urn:microsoft.com/office/officeart/2005/8/layout/hierarchy1"/>
    <dgm:cxn modelId="{84B0E95E-4296-414F-904E-80342A449439}" type="presParOf" srcId="{D4617334-686C-4D8F-9A86-E50F8E4D9446}" destId="{4CB34DBD-D167-4A49-BAE7-BE7D714E7B7D}" srcOrd="0" destOrd="0" presId="urn:microsoft.com/office/officeart/2005/8/layout/hierarchy1"/>
    <dgm:cxn modelId="{4B1228A0-5F4C-4181-845F-6A131D38A383}" type="presParOf" srcId="{4CB34DBD-D167-4A49-BAE7-BE7D714E7B7D}" destId="{B9D67137-2372-47BD-85C7-13E59056F9A3}" srcOrd="0" destOrd="0" presId="urn:microsoft.com/office/officeart/2005/8/layout/hierarchy1"/>
    <dgm:cxn modelId="{E59A5054-9403-4203-AE38-3D5490C900C6}" type="presParOf" srcId="{4CB34DBD-D167-4A49-BAE7-BE7D714E7B7D}" destId="{72D22536-65F1-432B-8B12-631ACBF1CB62}" srcOrd="1" destOrd="0" presId="urn:microsoft.com/office/officeart/2005/8/layout/hierarchy1"/>
    <dgm:cxn modelId="{C721805B-CF54-4D2D-8858-DF95F3320A48}" type="presParOf" srcId="{D4617334-686C-4D8F-9A86-E50F8E4D9446}" destId="{4FC1A482-FE4A-416B-AD8C-88646348353F}" srcOrd="1" destOrd="0" presId="urn:microsoft.com/office/officeart/2005/8/layout/hierarchy1"/>
    <dgm:cxn modelId="{06687D18-62C6-4AB7-8BE7-2CC799C9F8BD}" type="presParOf" srcId="{4FC1A482-FE4A-416B-AD8C-88646348353F}" destId="{CD9660B4-3B03-42D1-B06C-2DB33809D9DA}" srcOrd="0" destOrd="0" presId="urn:microsoft.com/office/officeart/2005/8/layout/hierarchy1"/>
    <dgm:cxn modelId="{CC80C0C9-296B-4CBF-BEE8-693709D1C577}" type="presParOf" srcId="{4FC1A482-FE4A-416B-AD8C-88646348353F}" destId="{044C2D00-678D-403D-AD48-761508486C06}" srcOrd="1" destOrd="0" presId="urn:microsoft.com/office/officeart/2005/8/layout/hierarchy1"/>
    <dgm:cxn modelId="{C9FAF09A-E6F0-47DA-B53E-58F491D6EAA9}" type="presParOf" srcId="{044C2D00-678D-403D-AD48-761508486C06}" destId="{96A44B87-E341-4FE9-BF63-63630FAF3B92}" srcOrd="0" destOrd="0" presId="urn:microsoft.com/office/officeart/2005/8/layout/hierarchy1"/>
    <dgm:cxn modelId="{C862F182-15EC-4AC4-BFBA-6B44EA7210F4}" type="presParOf" srcId="{96A44B87-E341-4FE9-BF63-63630FAF3B92}" destId="{67B78AEF-8EC5-4F37-8A86-28376AE60D65}" srcOrd="0" destOrd="0" presId="urn:microsoft.com/office/officeart/2005/8/layout/hierarchy1"/>
    <dgm:cxn modelId="{111D96F6-48DB-4075-86C8-9ED5D982FB96}" type="presParOf" srcId="{96A44B87-E341-4FE9-BF63-63630FAF3B92}" destId="{DD33EE8F-877F-4807-AAC9-69601EB09089}" srcOrd="1" destOrd="0" presId="urn:microsoft.com/office/officeart/2005/8/layout/hierarchy1"/>
    <dgm:cxn modelId="{688269FD-761A-410C-A97A-C94D190E39DE}" type="presParOf" srcId="{044C2D00-678D-403D-AD48-761508486C06}" destId="{706220E8-B0CC-453B-BC8F-233C03776BB1}" srcOrd="1" destOrd="0" presId="urn:microsoft.com/office/officeart/2005/8/layout/hierarchy1"/>
    <dgm:cxn modelId="{CA2C27EB-1C1C-434E-AA7E-14A6327514EE}" type="presParOf" srcId="{4FC1A482-FE4A-416B-AD8C-88646348353F}" destId="{A8419EB0-6332-4D0D-B743-D0DDD5211D4E}" srcOrd="2" destOrd="0" presId="urn:microsoft.com/office/officeart/2005/8/layout/hierarchy1"/>
    <dgm:cxn modelId="{6794CBDD-8FF1-4034-B251-D291A7F95DFC}" type="presParOf" srcId="{4FC1A482-FE4A-416B-AD8C-88646348353F}" destId="{7E02C5D6-25A4-4C6A-8D07-704AAE2E5072}" srcOrd="3" destOrd="0" presId="urn:microsoft.com/office/officeart/2005/8/layout/hierarchy1"/>
    <dgm:cxn modelId="{1509E480-49CE-4DA9-B62A-5618ECF432B3}" type="presParOf" srcId="{7E02C5D6-25A4-4C6A-8D07-704AAE2E5072}" destId="{07EF3A24-59B8-4580-8453-A584793167D9}" srcOrd="0" destOrd="0" presId="urn:microsoft.com/office/officeart/2005/8/layout/hierarchy1"/>
    <dgm:cxn modelId="{AFF04A7F-D51F-4974-A44F-127525EB0B0C}" type="presParOf" srcId="{07EF3A24-59B8-4580-8453-A584793167D9}" destId="{1ECE9268-16EC-4083-A7AE-F3360867A530}" srcOrd="0" destOrd="0" presId="urn:microsoft.com/office/officeart/2005/8/layout/hierarchy1"/>
    <dgm:cxn modelId="{7403820F-5AF0-4B60-82F9-FC9A7AA22904}" type="presParOf" srcId="{07EF3A24-59B8-4580-8453-A584793167D9}" destId="{8B914659-D773-4AB9-AD1C-D5AFB39DA27B}" srcOrd="1" destOrd="0" presId="urn:microsoft.com/office/officeart/2005/8/layout/hierarchy1"/>
    <dgm:cxn modelId="{5E01071F-6300-4F96-80EE-0E135ACFD94F}" type="presParOf" srcId="{7E02C5D6-25A4-4C6A-8D07-704AAE2E5072}" destId="{61869F47-B3C0-4A92-80A5-14548F960DCA}" srcOrd="1" destOrd="0" presId="urn:microsoft.com/office/officeart/2005/8/layout/hierarchy1"/>
    <dgm:cxn modelId="{013B0739-427C-453A-8F3A-3EEAFD23AC0B}" type="presParOf" srcId="{CBCC5552-1896-464F-B8D4-DD6004976CBF}" destId="{6301B80F-054A-4027-AAD0-86D48C63E327}" srcOrd="2" destOrd="0" presId="urn:microsoft.com/office/officeart/2005/8/layout/hierarchy1"/>
    <dgm:cxn modelId="{CDEDD0B4-4BE6-421F-9578-D94C29D98C14}" type="presParOf" srcId="{CBCC5552-1896-464F-B8D4-DD6004976CBF}" destId="{17E5E9FB-D32B-48CF-86C4-76C5938FFDB8}" srcOrd="3" destOrd="0" presId="urn:microsoft.com/office/officeart/2005/8/layout/hierarchy1"/>
    <dgm:cxn modelId="{2D451C7D-665C-4975-A27B-F307B6468D5D}" type="presParOf" srcId="{17E5E9FB-D32B-48CF-86C4-76C5938FFDB8}" destId="{48D376FA-2EC0-48E1-88DC-91B235B8AD16}" srcOrd="0" destOrd="0" presId="urn:microsoft.com/office/officeart/2005/8/layout/hierarchy1"/>
    <dgm:cxn modelId="{D98E920C-073B-4155-8F68-0CB4424874BA}" type="presParOf" srcId="{48D376FA-2EC0-48E1-88DC-91B235B8AD16}" destId="{52E4C787-AA59-48F8-AD43-D20D67F62985}" srcOrd="0" destOrd="0" presId="urn:microsoft.com/office/officeart/2005/8/layout/hierarchy1"/>
    <dgm:cxn modelId="{8067C73A-4F6C-4FF5-B27E-8B2300C79075}" type="presParOf" srcId="{48D376FA-2EC0-48E1-88DC-91B235B8AD16}" destId="{ADE1A58A-E8EF-4E83-846C-205FD1717E2B}" srcOrd="1" destOrd="0" presId="urn:microsoft.com/office/officeart/2005/8/layout/hierarchy1"/>
    <dgm:cxn modelId="{2141DC01-084D-407B-9ED5-31E9B8E73AD2}" type="presParOf" srcId="{17E5E9FB-D32B-48CF-86C4-76C5938FFDB8}" destId="{4ECC1FCD-5ADF-46D9-9FE5-D19C0B458C0A}" srcOrd="1" destOrd="0" presId="urn:microsoft.com/office/officeart/2005/8/layout/hierarchy1"/>
    <dgm:cxn modelId="{60D65BE4-C459-45E6-AE8A-2818B4968A70}" type="presParOf" srcId="{4ECC1FCD-5ADF-46D9-9FE5-D19C0B458C0A}" destId="{36CBE7C4-A691-4621-9E74-3265AF18C695}" srcOrd="0" destOrd="0" presId="urn:microsoft.com/office/officeart/2005/8/layout/hierarchy1"/>
    <dgm:cxn modelId="{1D28F747-B13C-440E-A4AE-6124A58F71D9}" type="presParOf" srcId="{4ECC1FCD-5ADF-46D9-9FE5-D19C0B458C0A}" destId="{9E47B66B-0A36-4446-BF8A-32FC335442EA}" srcOrd="1" destOrd="0" presId="urn:microsoft.com/office/officeart/2005/8/layout/hierarchy1"/>
    <dgm:cxn modelId="{906E5BA6-A1FF-4DE8-8E28-C6EDCE69F366}" type="presParOf" srcId="{9E47B66B-0A36-4446-BF8A-32FC335442EA}" destId="{8AA63963-65D1-40A4-909E-0358DCBC24C7}" srcOrd="0" destOrd="0" presId="urn:microsoft.com/office/officeart/2005/8/layout/hierarchy1"/>
    <dgm:cxn modelId="{10E0898E-9E96-4F28-AAEB-4C0DB2F832ED}" type="presParOf" srcId="{8AA63963-65D1-40A4-909E-0358DCBC24C7}" destId="{1BFA1A10-0B0B-4DEC-A1A5-119FF81FF06F}" srcOrd="0" destOrd="0" presId="urn:microsoft.com/office/officeart/2005/8/layout/hierarchy1"/>
    <dgm:cxn modelId="{6B655E54-B42C-403D-8DF9-2CF7480FE19D}" type="presParOf" srcId="{8AA63963-65D1-40A4-909E-0358DCBC24C7}" destId="{A8DA0AE7-33BD-491F-906D-BC8DFE729B87}" srcOrd="1" destOrd="0" presId="urn:microsoft.com/office/officeart/2005/8/layout/hierarchy1"/>
    <dgm:cxn modelId="{1275126D-BD09-4653-A455-C10F6B531A55}" type="presParOf" srcId="{9E47B66B-0A36-4446-BF8A-32FC335442EA}" destId="{62A04402-4C4F-43E8-8F49-EB9188E3119B}" srcOrd="1" destOrd="0" presId="urn:microsoft.com/office/officeart/2005/8/layout/hierarchy1"/>
    <dgm:cxn modelId="{2463C2DA-97FD-4306-A9EC-A5C0AA6B2D12}" type="presParOf" srcId="{CBCC5552-1896-464F-B8D4-DD6004976CBF}" destId="{6A9D54E8-C614-4687-A8ED-383A8663887C}" srcOrd="4" destOrd="0" presId="urn:microsoft.com/office/officeart/2005/8/layout/hierarchy1"/>
    <dgm:cxn modelId="{9C4E7454-7B1D-4122-A5A0-84EB9779A28F}" type="presParOf" srcId="{CBCC5552-1896-464F-B8D4-DD6004976CBF}" destId="{1D4B3868-2F28-450F-A17F-2036939A785C}" srcOrd="5" destOrd="0" presId="urn:microsoft.com/office/officeart/2005/8/layout/hierarchy1"/>
    <dgm:cxn modelId="{071D84AF-C010-4DE6-9F39-217C8DC36DF4}" type="presParOf" srcId="{1D4B3868-2F28-450F-A17F-2036939A785C}" destId="{414B29A9-2055-4D83-A5E7-DF30FE0D531C}" srcOrd="0" destOrd="0" presId="urn:microsoft.com/office/officeart/2005/8/layout/hierarchy1"/>
    <dgm:cxn modelId="{B5F7752F-C397-483B-888C-989E30F9CF18}" type="presParOf" srcId="{414B29A9-2055-4D83-A5E7-DF30FE0D531C}" destId="{BCAD4413-0D01-4D8D-8180-A35D45CAB7B4}" srcOrd="0" destOrd="0" presId="urn:microsoft.com/office/officeart/2005/8/layout/hierarchy1"/>
    <dgm:cxn modelId="{9CCFB3DC-3B80-4B2A-8D91-6EDBCBFD6513}" type="presParOf" srcId="{414B29A9-2055-4D83-A5E7-DF30FE0D531C}" destId="{9D4C760C-E974-4C09-83CA-6AA587EC2AE4}" srcOrd="1" destOrd="0" presId="urn:microsoft.com/office/officeart/2005/8/layout/hierarchy1"/>
    <dgm:cxn modelId="{BD594716-7522-4A97-8203-6D354D30147E}" type="presParOf" srcId="{1D4B3868-2F28-450F-A17F-2036939A785C}" destId="{732DB0FB-4BD9-4337-8546-536F0EA21D82}" srcOrd="1" destOrd="0" presId="urn:microsoft.com/office/officeart/2005/8/layout/hierarchy1"/>
    <dgm:cxn modelId="{9B9DBA40-9B70-4939-9F4F-30AF06136F9E}" type="presParOf" srcId="{732DB0FB-4BD9-4337-8546-536F0EA21D82}" destId="{421E9EAF-B5AF-4D23-8B1B-0858AB621B11}" srcOrd="0" destOrd="0" presId="urn:microsoft.com/office/officeart/2005/8/layout/hierarchy1"/>
    <dgm:cxn modelId="{6D60C67F-26EF-4B8D-9BE8-6E2A1E8E34AB}" type="presParOf" srcId="{732DB0FB-4BD9-4337-8546-536F0EA21D82}" destId="{E99D9BDC-9168-4AD3-A0C9-60D5BEC80561}" srcOrd="1" destOrd="0" presId="urn:microsoft.com/office/officeart/2005/8/layout/hierarchy1"/>
    <dgm:cxn modelId="{597A29B1-E6D2-4D10-BAD5-F4FCE209EC8E}" type="presParOf" srcId="{E99D9BDC-9168-4AD3-A0C9-60D5BEC80561}" destId="{F37D9CCE-3C73-4D45-A2D0-F2E4F563B7E4}" srcOrd="0" destOrd="0" presId="urn:microsoft.com/office/officeart/2005/8/layout/hierarchy1"/>
    <dgm:cxn modelId="{623AD0DA-E07A-459D-8BB2-3A7F1236B300}" type="presParOf" srcId="{F37D9CCE-3C73-4D45-A2D0-F2E4F563B7E4}" destId="{5F9A3B17-603D-4D08-8B90-2DB92F1838E6}" srcOrd="0" destOrd="0" presId="urn:microsoft.com/office/officeart/2005/8/layout/hierarchy1"/>
    <dgm:cxn modelId="{457F160A-AA0F-4C5B-835D-81CB2FBC604B}" type="presParOf" srcId="{F37D9CCE-3C73-4D45-A2D0-F2E4F563B7E4}" destId="{561FFA8A-8B80-465F-AF82-D34FB0A402A0}" srcOrd="1" destOrd="0" presId="urn:microsoft.com/office/officeart/2005/8/layout/hierarchy1"/>
    <dgm:cxn modelId="{CCCA4B5D-0263-496C-BFA7-ECC40C9743BC}" type="presParOf" srcId="{E99D9BDC-9168-4AD3-A0C9-60D5BEC80561}" destId="{3773FC12-54F9-4550-B4EB-E3563C8235A1}" srcOrd="1" destOrd="0" presId="urn:microsoft.com/office/officeart/2005/8/layout/hierarchy1"/>
  </dgm:cxnLst>
  <dgm:bg/>
  <dgm:whole/>
</dgm:dataModel>
</file>

<file path=ppt/diagrams/data4.xml><?xml version="1.0" encoding="utf-8"?>
<dgm:dataModel xmlns:dgm="http://schemas.openxmlformats.org/drawingml/2006/diagram" xmlns:a="http://schemas.openxmlformats.org/drawingml/2006/main">
  <dgm:ptLst>
    <dgm:pt modelId="{BA5464AE-AA8D-401D-A4B6-D3B5242BDFE4}" type="doc">
      <dgm:prSet loTypeId="urn:microsoft.com/office/officeart/2005/8/layout/hierarchy1" loCatId="hierarchy" qsTypeId="urn:microsoft.com/office/officeart/2005/8/quickstyle/simple1" qsCatId="simple" csTypeId="urn:microsoft.com/office/officeart/2005/8/colors/accent1_2" csCatId="accent1" phldr="1"/>
      <dgm:spPr/>
      <dgm:t>
        <a:bodyPr/>
        <a:lstStyle/>
        <a:p>
          <a:endParaRPr lang="es-ES"/>
        </a:p>
      </dgm:t>
    </dgm:pt>
    <dgm:pt modelId="{901AA53D-EDE4-47DB-9759-CEC71A53AE7B}">
      <dgm:prSet phldrT="[Texto]" custT="1"/>
      <dgm:spPr/>
      <dgm:t>
        <a:bodyPr/>
        <a:lstStyle/>
        <a:p>
          <a:r>
            <a:rPr lang="es-ES" sz="1600" dirty="0" smtClean="0"/>
            <a:t>Responsable de ventas</a:t>
          </a:r>
        </a:p>
        <a:p>
          <a:r>
            <a:rPr lang="es-ES" sz="1600" dirty="0" smtClean="0"/>
            <a:t> (Antonio Pérez )</a:t>
          </a:r>
          <a:endParaRPr lang="es-ES" sz="1600" dirty="0"/>
        </a:p>
      </dgm:t>
    </dgm:pt>
    <dgm:pt modelId="{2BDDE31F-0618-4C96-9C87-EE4760F34D38}" type="parTrans" cxnId="{928707D6-4E4E-494B-9ADF-78F5F4D8FA16}">
      <dgm:prSet/>
      <dgm:spPr/>
      <dgm:t>
        <a:bodyPr/>
        <a:lstStyle/>
        <a:p>
          <a:endParaRPr lang="es-ES"/>
        </a:p>
      </dgm:t>
    </dgm:pt>
    <dgm:pt modelId="{D2CAD17E-5965-4B35-B889-5DEB43153C3A}" type="sibTrans" cxnId="{928707D6-4E4E-494B-9ADF-78F5F4D8FA16}">
      <dgm:prSet/>
      <dgm:spPr/>
      <dgm:t>
        <a:bodyPr/>
        <a:lstStyle/>
        <a:p>
          <a:endParaRPr lang="es-ES"/>
        </a:p>
      </dgm:t>
    </dgm:pt>
    <dgm:pt modelId="{71032146-C8E4-485E-B04C-7CEDC9BF43FE}">
      <dgm:prSet phldrT="[Texto]" custT="1"/>
      <dgm:spPr/>
      <dgm:t>
        <a:bodyPr/>
        <a:lstStyle/>
        <a:p>
          <a:r>
            <a:rPr lang="es-ES" sz="1600" dirty="0" smtClean="0"/>
            <a:t>Jefe de ventas nacionales</a:t>
          </a:r>
          <a:endParaRPr lang="es-ES" sz="1600" dirty="0"/>
        </a:p>
      </dgm:t>
    </dgm:pt>
    <dgm:pt modelId="{AB6427E8-EF9D-4CBA-83A2-23C062A15915}" type="parTrans" cxnId="{B2EC9536-7E90-4302-9836-238B9DD44718}">
      <dgm:prSet/>
      <dgm:spPr/>
      <dgm:t>
        <a:bodyPr/>
        <a:lstStyle/>
        <a:p>
          <a:endParaRPr lang="es-ES"/>
        </a:p>
      </dgm:t>
    </dgm:pt>
    <dgm:pt modelId="{3EA10D0A-5F7B-4846-8BEF-E6DD90EC6D56}" type="sibTrans" cxnId="{B2EC9536-7E90-4302-9836-238B9DD44718}">
      <dgm:prSet/>
      <dgm:spPr/>
      <dgm:t>
        <a:bodyPr/>
        <a:lstStyle/>
        <a:p>
          <a:endParaRPr lang="es-ES"/>
        </a:p>
      </dgm:t>
    </dgm:pt>
    <dgm:pt modelId="{8DE2A36D-9C43-4936-9490-E042BD1FA3AB}">
      <dgm:prSet phldrT="[Texto]" custT="1"/>
      <dgm:spPr/>
      <dgm:t>
        <a:bodyPr/>
        <a:lstStyle/>
        <a:p>
          <a:r>
            <a:rPr lang="es-ES" sz="1600" dirty="0" smtClean="0"/>
            <a:t>Comercial de ventas al por mayor</a:t>
          </a:r>
          <a:endParaRPr lang="es-ES" sz="1600" dirty="0"/>
        </a:p>
      </dgm:t>
    </dgm:pt>
    <dgm:pt modelId="{84DD1126-FE7C-4B9F-90A8-4B4ED7CB20C9}" type="parTrans" cxnId="{F6F994B6-4CA5-4BC4-BC91-F3FDE3FEB8F1}">
      <dgm:prSet/>
      <dgm:spPr/>
      <dgm:t>
        <a:bodyPr/>
        <a:lstStyle/>
        <a:p>
          <a:endParaRPr lang="es-ES"/>
        </a:p>
      </dgm:t>
    </dgm:pt>
    <dgm:pt modelId="{BBB0E468-DB02-42E8-861B-DB02F29DA9EA}" type="sibTrans" cxnId="{F6F994B6-4CA5-4BC4-BC91-F3FDE3FEB8F1}">
      <dgm:prSet/>
      <dgm:spPr/>
      <dgm:t>
        <a:bodyPr/>
        <a:lstStyle/>
        <a:p>
          <a:endParaRPr lang="es-ES"/>
        </a:p>
      </dgm:t>
    </dgm:pt>
    <dgm:pt modelId="{ACDE383D-6A2E-4286-A782-6D4C19E27DA6}">
      <dgm:prSet phldrT="[Texto]" custT="1"/>
      <dgm:spPr/>
      <dgm:t>
        <a:bodyPr/>
        <a:lstStyle/>
        <a:p>
          <a:r>
            <a:rPr lang="es-ES" sz="1600" dirty="0" smtClean="0"/>
            <a:t>Comercial de ventas minoristas</a:t>
          </a:r>
          <a:endParaRPr lang="es-ES" sz="1600" dirty="0"/>
        </a:p>
      </dgm:t>
    </dgm:pt>
    <dgm:pt modelId="{1B7C3E87-806C-4888-B7CB-A9A866C5C858}" type="parTrans" cxnId="{FA896CE1-C89A-4611-A7E9-27D3DFEF1BB9}">
      <dgm:prSet/>
      <dgm:spPr/>
      <dgm:t>
        <a:bodyPr/>
        <a:lstStyle/>
        <a:p>
          <a:endParaRPr lang="es-ES"/>
        </a:p>
      </dgm:t>
    </dgm:pt>
    <dgm:pt modelId="{274DD8A8-6ABC-49AE-9504-2941081A681B}" type="sibTrans" cxnId="{FA896CE1-C89A-4611-A7E9-27D3DFEF1BB9}">
      <dgm:prSet/>
      <dgm:spPr/>
      <dgm:t>
        <a:bodyPr/>
        <a:lstStyle/>
        <a:p>
          <a:endParaRPr lang="es-ES"/>
        </a:p>
      </dgm:t>
    </dgm:pt>
    <dgm:pt modelId="{D6577EEB-2F72-4E53-9CE0-EFAC342A14D1}">
      <dgm:prSet phldrT="[Texto]" custT="1"/>
      <dgm:spPr/>
      <dgm:t>
        <a:bodyPr/>
        <a:lstStyle/>
        <a:p>
          <a:r>
            <a:rPr lang="es-ES" sz="1600" dirty="0" smtClean="0"/>
            <a:t>Jefe de ventas internacionales</a:t>
          </a:r>
          <a:endParaRPr lang="es-ES" sz="1600" dirty="0"/>
        </a:p>
      </dgm:t>
    </dgm:pt>
    <dgm:pt modelId="{9562D18D-473B-4E79-9F62-2FC8B8AC6D60}" type="parTrans" cxnId="{475A5593-C753-45D4-9C11-C20FF8D804FC}">
      <dgm:prSet/>
      <dgm:spPr/>
      <dgm:t>
        <a:bodyPr/>
        <a:lstStyle/>
        <a:p>
          <a:endParaRPr lang="es-ES"/>
        </a:p>
      </dgm:t>
    </dgm:pt>
    <dgm:pt modelId="{EEC5591A-CBE7-4C88-848D-25C3322C3990}" type="sibTrans" cxnId="{475A5593-C753-45D4-9C11-C20FF8D804FC}">
      <dgm:prSet/>
      <dgm:spPr/>
      <dgm:t>
        <a:bodyPr/>
        <a:lstStyle/>
        <a:p>
          <a:endParaRPr lang="es-ES"/>
        </a:p>
      </dgm:t>
    </dgm:pt>
    <dgm:pt modelId="{F6D3ADF6-4B93-4CBD-B0C2-A4E507159587}" type="pres">
      <dgm:prSet presAssocID="{BA5464AE-AA8D-401D-A4B6-D3B5242BDFE4}" presName="hierChild1" presStyleCnt="0">
        <dgm:presLayoutVars>
          <dgm:chPref val="1"/>
          <dgm:dir/>
          <dgm:animOne val="branch"/>
          <dgm:animLvl val="lvl"/>
          <dgm:resizeHandles/>
        </dgm:presLayoutVars>
      </dgm:prSet>
      <dgm:spPr/>
      <dgm:t>
        <a:bodyPr/>
        <a:lstStyle/>
        <a:p>
          <a:endParaRPr lang="es-ES"/>
        </a:p>
      </dgm:t>
    </dgm:pt>
    <dgm:pt modelId="{D1E5A09D-B719-407F-8599-D7A80724675D}" type="pres">
      <dgm:prSet presAssocID="{901AA53D-EDE4-47DB-9759-CEC71A53AE7B}" presName="hierRoot1" presStyleCnt="0"/>
      <dgm:spPr/>
    </dgm:pt>
    <dgm:pt modelId="{BA860E3F-8EC4-44A9-8B44-FE3B75979F3C}" type="pres">
      <dgm:prSet presAssocID="{901AA53D-EDE4-47DB-9759-CEC71A53AE7B}" presName="composite" presStyleCnt="0"/>
      <dgm:spPr/>
    </dgm:pt>
    <dgm:pt modelId="{000F41AB-DD4A-4AAB-AF2E-922430705FDC}" type="pres">
      <dgm:prSet presAssocID="{901AA53D-EDE4-47DB-9759-CEC71A53AE7B}" presName="background" presStyleLbl="node0" presStyleIdx="0" presStyleCnt="1"/>
      <dgm:spPr/>
    </dgm:pt>
    <dgm:pt modelId="{F7DDD4E3-8259-4088-B1EA-3B50460D2511}" type="pres">
      <dgm:prSet presAssocID="{901AA53D-EDE4-47DB-9759-CEC71A53AE7B}" presName="text" presStyleLbl="fgAcc0" presStyleIdx="0" presStyleCnt="1">
        <dgm:presLayoutVars>
          <dgm:chPref val="3"/>
        </dgm:presLayoutVars>
      </dgm:prSet>
      <dgm:spPr/>
      <dgm:t>
        <a:bodyPr/>
        <a:lstStyle/>
        <a:p>
          <a:endParaRPr lang="es-ES"/>
        </a:p>
      </dgm:t>
    </dgm:pt>
    <dgm:pt modelId="{32BB9A0D-BA9A-4239-B64B-252B9BE74FE1}" type="pres">
      <dgm:prSet presAssocID="{901AA53D-EDE4-47DB-9759-CEC71A53AE7B}" presName="hierChild2" presStyleCnt="0"/>
      <dgm:spPr/>
    </dgm:pt>
    <dgm:pt modelId="{7AD291D1-5362-47A4-9D68-B3E670CE9777}" type="pres">
      <dgm:prSet presAssocID="{AB6427E8-EF9D-4CBA-83A2-23C062A15915}" presName="Name10" presStyleLbl="parChTrans1D2" presStyleIdx="0" presStyleCnt="2"/>
      <dgm:spPr/>
      <dgm:t>
        <a:bodyPr/>
        <a:lstStyle/>
        <a:p>
          <a:endParaRPr lang="es-ES"/>
        </a:p>
      </dgm:t>
    </dgm:pt>
    <dgm:pt modelId="{EF7D1C22-D87E-4681-8D02-822ECB33BF82}" type="pres">
      <dgm:prSet presAssocID="{71032146-C8E4-485E-B04C-7CEDC9BF43FE}" presName="hierRoot2" presStyleCnt="0"/>
      <dgm:spPr/>
    </dgm:pt>
    <dgm:pt modelId="{0026072A-2D9B-43B6-9BC6-4652532C8F02}" type="pres">
      <dgm:prSet presAssocID="{71032146-C8E4-485E-B04C-7CEDC9BF43FE}" presName="composite2" presStyleCnt="0"/>
      <dgm:spPr/>
    </dgm:pt>
    <dgm:pt modelId="{A7F8A7E6-15FB-4C78-A26D-D93E0BB84635}" type="pres">
      <dgm:prSet presAssocID="{71032146-C8E4-485E-B04C-7CEDC9BF43FE}" presName="background2" presStyleLbl="node2" presStyleIdx="0" presStyleCnt="2"/>
      <dgm:spPr/>
    </dgm:pt>
    <dgm:pt modelId="{05E09E9B-E05A-46CD-BB28-3BA11FDCF300}" type="pres">
      <dgm:prSet presAssocID="{71032146-C8E4-485E-B04C-7CEDC9BF43FE}" presName="text2" presStyleLbl="fgAcc2" presStyleIdx="0" presStyleCnt="2">
        <dgm:presLayoutVars>
          <dgm:chPref val="3"/>
        </dgm:presLayoutVars>
      </dgm:prSet>
      <dgm:spPr/>
      <dgm:t>
        <a:bodyPr/>
        <a:lstStyle/>
        <a:p>
          <a:endParaRPr lang="es-ES"/>
        </a:p>
      </dgm:t>
    </dgm:pt>
    <dgm:pt modelId="{8F3228EC-7309-49BF-882F-62FB58D8B30D}" type="pres">
      <dgm:prSet presAssocID="{71032146-C8E4-485E-B04C-7CEDC9BF43FE}" presName="hierChild3" presStyleCnt="0"/>
      <dgm:spPr/>
    </dgm:pt>
    <dgm:pt modelId="{5F6DD421-7A2C-4FCA-B818-88D95DB19560}" type="pres">
      <dgm:prSet presAssocID="{84DD1126-FE7C-4B9F-90A8-4B4ED7CB20C9}" presName="Name17" presStyleLbl="parChTrans1D3" presStyleIdx="0" presStyleCnt="2"/>
      <dgm:spPr/>
      <dgm:t>
        <a:bodyPr/>
        <a:lstStyle/>
        <a:p>
          <a:endParaRPr lang="es-ES"/>
        </a:p>
      </dgm:t>
    </dgm:pt>
    <dgm:pt modelId="{E23C3B87-9CD4-4AE5-9A7E-160384B753DC}" type="pres">
      <dgm:prSet presAssocID="{8DE2A36D-9C43-4936-9490-E042BD1FA3AB}" presName="hierRoot3" presStyleCnt="0"/>
      <dgm:spPr/>
    </dgm:pt>
    <dgm:pt modelId="{C80B11CD-F901-4752-986E-46E1D2A77078}" type="pres">
      <dgm:prSet presAssocID="{8DE2A36D-9C43-4936-9490-E042BD1FA3AB}" presName="composite3" presStyleCnt="0"/>
      <dgm:spPr/>
    </dgm:pt>
    <dgm:pt modelId="{C6549A85-D61E-42A8-B447-67398BC4BECE}" type="pres">
      <dgm:prSet presAssocID="{8DE2A36D-9C43-4936-9490-E042BD1FA3AB}" presName="background3" presStyleLbl="node3" presStyleIdx="0" presStyleCnt="2"/>
      <dgm:spPr/>
    </dgm:pt>
    <dgm:pt modelId="{2FA8752F-4B44-4173-BD8F-9DAAB41F475E}" type="pres">
      <dgm:prSet presAssocID="{8DE2A36D-9C43-4936-9490-E042BD1FA3AB}" presName="text3" presStyleLbl="fgAcc3" presStyleIdx="0" presStyleCnt="2">
        <dgm:presLayoutVars>
          <dgm:chPref val="3"/>
        </dgm:presLayoutVars>
      </dgm:prSet>
      <dgm:spPr/>
      <dgm:t>
        <a:bodyPr/>
        <a:lstStyle/>
        <a:p>
          <a:endParaRPr lang="es-ES"/>
        </a:p>
      </dgm:t>
    </dgm:pt>
    <dgm:pt modelId="{CECFD132-873D-4F48-9075-4BBD6F0D000C}" type="pres">
      <dgm:prSet presAssocID="{8DE2A36D-9C43-4936-9490-E042BD1FA3AB}" presName="hierChild4" presStyleCnt="0"/>
      <dgm:spPr/>
    </dgm:pt>
    <dgm:pt modelId="{8CB8D2DB-8C4A-4C59-AA6B-C35D2A32E118}" type="pres">
      <dgm:prSet presAssocID="{1B7C3E87-806C-4888-B7CB-A9A866C5C858}" presName="Name17" presStyleLbl="parChTrans1D3" presStyleIdx="1" presStyleCnt="2"/>
      <dgm:spPr/>
      <dgm:t>
        <a:bodyPr/>
        <a:lstStyle/>
        <a:p>
          <a:endParaRPr lang="es-ES"/>
        </a:p>
      </dgm:t>
    </dgm:pt>
    <dgm:pt modelId="{A92FF4C2-72E7-4E62-8B3A-7CFF4748E81E}" type="pres">
      <dgm:prSet presAssocID="{ACDE383D-6A2E-4286-A782-6D4C19E27DA6}" presName="hierRoot3" presStyleCnt="0"/>
      <dgm:spPr/>
    </dgm:pt>
    <dgm:pt modelId="{2DBD4101-A2F7-4E27-8372-439A2AEF87CD}" type="pres">
      <dgm:prSet presAssocID="{ACDE383D-6A2E-4286-A782-6D4C19E27DA6}" presName="composite3" presStyleCnt="0"/>
      <dgm:spPr/>
    </dgm:pt>
    <dgm:pt modelId="{81963D59-7EE5-4724-8AB0-A045A167C625}" type="pres">
      <dgm:prSet presAssocID="{ACDE383D-6A2E-4286-A782-6D4C19E27DA6}" presName="background3" presStyleLbl="node3" presStyleIdx="1" presStyleCnt="2"/>
      <dgm:spPr/>
    </dgm:pt>
    <dgm:pt modelId="{E73E49FE-FA20-4CF8-8153-F7CD607AD163}" type="pres">
      <dgm:prSet presAssocID="{ACDE383D-6A2E-4286-A782-6D4C19E27DA6}" presName="text3" presStyleLbl="fgAcc3" presStyleIdx="1" presStyleCnt="2">
        <dgm:presLayoutVars>
          <dgm:chPref val="3"/>
        </dgm:presLayoutVars>
      </dgm:prSet>
      <dgm:spPr/>
      <dgm:t>
        <a:bodyPr/>
        <a:lstStyle/>
        <a:p>
          <a:endParaRPr lang="es-ES"/>
        </a:p>
      </dgm:t>
    </dgm:pt>
    <dgm:pt modelId="{1808ECB0-8417-4BDC-A7A4-8B7FD16CC26E}" type="pres">
      <dgm:prSet presAssocID="{ACDE383D-6A2E-4286-A782-6D4C19E27DA6}" presName="hierChild4" presStyleCnt="0"/>
      <dgm:spPr/>
    </dgm:pt>
    <dgm:pt modelId="{B94B1323-50CB-49AD-8897-CC5923475366}" type="pres">
      <dgm:prSet presAssocID="{9562D18D-473B-4E79-9F62-2FC8B8AC6D60}" presName="Name10" presStyleLbl="parChTrans1D2" presStyleIdx="1" presStyleCnt="2"/>
      <dgm:spPr/>
      <dgm:t>
        <a:bodyPr/>
        <a:lstStyle/>
        <a:p>
          <a:endParaRPr lang="es-ES"/>
        </a:p>
      </dgm:t>
    </dgm:pt>
    <dgm:pt modelId="{A4E487A6-A7B1-4221-93AF-FCAD950EED42}" type="pres">
      <dgm:prSet presAssocID="{D6577EEB-2F72-4E53-9CE0-EFAC342A14D1}" presName="hierRoot2" presStyleCnt="0"/>
      <dgm:spPr/>
    </dgm:pt>
    <dgm:pt modelId="{A50B9DEE-1711-4BD0-B1DF-D3225CE6BECB}" type="pres">
      <dgm:prSet presAssocID="{D6577EEB-2F72-4E53-9CE0-EFAC342A14D1}" presName="composite2" presStyleCnt="0"/>
      <dgm:spPr/>
    </dgm:pt>
    <dgm:pt modelId="{48FA17EC-5928-4CA7-9831-3DFC2F995A95}" type="pres">
      <dgm:prSet presAssocID="{D6577EEB-2F72-4E53-9CE0-EFAC342A14D1}" presName="background2" presStyleLbl="node2" presStyleIdx="1" presStyleCnt="2"/>
      <dgm:spPr/>
    </dgm:pt>
    <dgm:pt modelId="{C528A640-50D0-44ED-9CAC-43FB9A0B9C7B}" type="pres">
      <dgm:prSet presAssocID="{D6577EEB-2F72-4E53-9CE0-EFAC342A14D1}" presName="text2" presStyleLbl="fgAcc2" presStyleIdx="1" presStyleCnt="2">
        <dgm:presLayoutVars>
          <dgm:chPref val="3"/>
        </dgm:presLayoutVars>
      </dgm:prSet>
      <dgm:spPr/>
      <dgm:t>
        <a:bodyPr/>
        <a:lstStyle/>
        <a:p>
          <a:endParaRPr lang="es-ES"/>
        </a:p>
      </dgm:t>
    </dgm:pt>
    <dgm:pt modelId="{DB45CA60-ECDD-45D7-9F47-0C3166F8FB1B}" type="pres">
      <dgm:prSet presAssocID="{D6577EEB-2F72-4E53-9CE0-EFAC342A14D1}" presName="hierChild3" presStyleCnt="0"/>
      <dgm:spPr/>
    </dgm:pt>
  </dgm:ptLst>
  <dgm:cxnLst>
    <dgm:cxn modelId="{928707D6-4E4E-494B-9ADF-78F5F4D8FA16}" srcId="{BA5464AE-AA8D-401D-A4B6-D3B5242BDFE4}" destId="{901AA53D-EDE4-47DB-9759-CEC71A53AE7B}" srcOrd="0" destOrd="0" parTransId="{2BDDE31F-0618-4C96-9C87-EE4760F34D38}" sibTransId="{D2CAD17E-5965-4B35-B889-5DEB43153C3A}"/>
    <dgm:cxn modelId="{21CDB012-88BE-4F39-A8DF-8F0CA2140210}" type="presOf" srcId="{AB6427E8-EF9D-4CBA-83A2-23C062A15915}" destId="{7AD291D1-5362-47A4-9D68-B3E670CE9777}" srcOrd="0" destOrd="0" presId="urn:microsoft.com/office/officeart/2005/8/layout/hierarchy1"/>
    <dgm:cxn modelId="{3251E634-07BD-410A-9562-6D69406ADB0F}" type="presOf" srcId="{901AA53D-EDE4-47DB-9759-CEC71A53AE7B}" destId="{F7DDD4E3-8259-4088-B1EA-3B50460D2511}" srcOrd="0" destOrd="0" presId="urn:microsoft.com/office/officeart/2005/8/layout/hierarchy1"/>
    <dgm:cxn modelId="{769DEE8E-12E7-4734-A89A-51240A9F2442}" type="presOf" srcId="{1B7C3E87-806C-4888-B7CB-A9A866C5C858}" destId="{8CB8D2DB-8C4A-4C59-AA6B-C35D2A32E118}" srcOrd="0" destOrd="0" presId="urn:microsoft.com/office/officeart/2005/8/layout/hierarchy1"/>
    <dgm:cxn modelId="{475A5593-C753-45D4-9C11-C20FF8D804FC}" srcId="{901AA53D-EDE4-47DB-9759-CEC71A53AE7B}" destId="{D6577EEB-2F72-4E53-9CE0-EFAC342A14D1}" srcOrd="1" destOrd="0" parTransId="{9562D18D-473B-4E79-9F62-2FC8B8AC6D60}" sibTransId="{EEC5591A-CBE7-4C88-848D-25C3322C3990}"/>
    <dgm:cxn modelId="{FA896CE1-C89A-4611-A7E9-27D3DFEF1BB9}" srcId="{71032146-C8E4-485E-B04C-7CEDC9BF43FE}" destId="{ACDE383D-6A2E-4286-A782-6D4C19E27DA6}" srcOrd="1" destOrd="0" parTransId="{1B7C3E87-806C-4888-B7CB-A9A866C5C858}" sibTransId="{274DD8A8-6ABC-49AE-9504-2941081A681B}"/>
    <dgm:cxn modelId="{1B2C3520-3BC0-4E81-9AF5-99E57A56BAEA}" type="presOf" srcId="{84DD1126-FE7C-4B9F-90A8-4B4ED7CB20C9}" destId="{5F6DD421-7A2C-4FCA-B818-88D95DB19560}" srcOrd="0" destOrd="0" presId="urn:microsoft.com/office/officeart/2005/8/layout/hierarchy1"/>
    <dgm:cxn modelId="{AED29C3B-C9CE-4EDB-B2CC-4895B76F3138}" type="presOf" srcId="{71032146-C8E4-485E-B04C-7CEDC9BF43FE}" destId="{05E09E9B-E05A-46CD-BB28-3BA11FDCF300}" srcOrd="0" destOrd="0" presId="urn:microsoft.com/office/officeart/2005/8/layout/hierarchy1"/>
    <dgm:cxn modelId="{8CC2AB05-986A-46C0-AD1C-357DD23D0E14}" type="presOf" srcId="{ACDE383D-6A2E-4286-A782-6D4C19E27DA6}" destId="{E73E49FE-FA20-4CF8-8153-F7CD607AD163}" srcOrd="0" destOrd="0" presId="urn:microsoft.com/office/officeart/2005/8/layout/hierarchy1"/>
    <dgm:cxn modelId="{B2EC9536-7E90-4302-9836-238B9DD44718}" srcId="{901AA53D-EDE4-47DB-9759-CEC71A53AE7B}" destId="{71032146-C8E4-485E-B04C-7CEDC9BF43FE}" srcOrd="0" destOrd="0" parTransId="{AB6427E8-EF9D-4CBA-83A2-23C062A15915}" sibTransId="{3EA10D0A-5F7B-4846-8BEF-E6DD90EC6D56}"/>
    <dgm:cxn modelId="{74D2DB9E-A205-42AD-927D-198E2EFDD691}" type="presOf" srcId="{D6577EEB-2F72-4E53-9CE0-EFAC342A14D1}" destId="{C528A640-50D0-44ED-9CAC-43FB9A0B9C7B}" srcOrd="0" destOrd="0" presId="urn:microsoft.com/office/officeart/2005/8/layout/hierarchy1"/>
    <dgm:cxn modelId="{23176C95-E6DC-4B91-B198-8FB5BBE982A1}" type="presOf" srcId="{8DE2A36D-9C43-4936-9490-E042BD1FA3AB}" destId="{2FA8752F-4B44-4173-BD8F-9DAAB41F475E}" srcOrd="0" destOrd="0" presId="urn:microsoft.com/office/officeart/2005/8/layout/hierarchy1"/>
    <dgm:cxn modelId="{F0EDD64D-AF3B-49F1-B677-9B14697A8CAE}" type="presOf" srcId="{9562D18D-473B-4E79-9F62-2FC8B8AC6D60}" destId="{B94B1323-50CB-49AD-8897-CC5923475366}" srcOrd="0" destOrd="0" presId="urn:microsoft.com/office/officeart/2005/8/layout/hierarchy1"/>
    <dgm:cxn modelId="{F6F994B6-4CA5-4BC4-BC91-F3FDE3FEB8F1}" srcId="{71032146-C8E4-485E-B04C-7CEDC9BF43FE}" destId="{8DE2A36D-9C43-4936-9490-E042BD1FA3AB}" srcOrd="0" destOrd="0" parTransId="{84DD1126-FE7C-4B9F-90A8-4B4ED7CB20C9}" sibTransId="{BBB0E468-DB02-42E8-861B-DB02F29DA9EA}"/>
    <dgm:cxn modelId="{9E2089C3-291D-46E8-8FF7-4AAFC231292B}" type="presOf" srcId="{BA5464AE-AA8D-401D-A4B6-D3B5242BDFE4}" destId="{F6D3ADF6-4B93-4CBD-B0C2-A4E507159587}" srcOrd="0" destOrd="0" presId="urn:microsoft.com/office/officeart/2005/8/layout/hierarchy1"/>
    <dgm:cxn modelId="{D17CC1B4-D58C-447E-93AB-766BFCFC65A7}" type="presParOf" srcId="{F6D3ADF6-4B93-4CBD-B0C2-A4E507159587}" destId="{D1E5A09D-B719-407F-8599-D7A80724675D}" srcOrd="0" destOrd="0" presId="urn:microsoft.com/office/officeart/2005/8/layout/hierarchy1"/>
    <dgm:cxn modelId="{B43B3A61-D743-445D-AEC6-45D239CA30FF}" type="presParOf" srcId="{D1E5A09D-B719-407F-8599-D7A80724675D}" destId="{BA860E3F-8EC4-44A9-8B44-FE3B75979F3C}" srcOrd="0" destOrd="0" presId="urn:microsoft.com/office/officeart/2005/8/layout/hierarchy1"/>
    <dgm:cxn modelId="{255D24EE-9E26-4DFC-B6D8-CA767F86AE2A}" type="presParOf" srcId="{BA860E3F-8EC4-44A9-8B44-FE3B75979F3C}" destId="{000F41AB-DD4A-4AAB-AF2E-922430705FDC}" srcOrd="0" destOrd="0" presId="urn:microsoft.com/office/officeart/2005/8/layout/hierarchy1"/>
    <dgm:cxn modelId="{41D3665A-2734-4506-920A-A1031D889DC6}" type="presParOf" srcId="{BA860E3F-8EC4-44A9-8B44-FE3B75979F3C}" destId="{F7DDD4E3-8259-4088-B1EA-3B50460D2511}" srcOrd="1" destOrd="0" presId="urn:microsoft.com/office/officeart/2005/8/layout/hierarchy1"/>
    <dgm:cxn modelId="{E3CD3DAE-CB8F-4A17-B5F3-04CC55960687}" type="presParOf" srcId="{D1E5A09D-B719-407F-8599-D7A80724675D}" destId="{32BB9A0D-BA9A-4239-B64B-252B9BE74FE1}" srcOrd="1" destOrd="0" presId="urn:microsoft.com/office/officeart/2005/8/layout/hierarchy1"/>
    <dgm:cxn modelId="{8E615983-3484-41C8-875C-46E2973C5311}" type="presParOf" srcId="{32BB9A0D-BA9A-4239-B64B-252B9BE74FE1}" destId="{7AD291D1-5362-47A4-9D68-B3E670CE9777}" srcOrd="0" destOrd="0" presId="urn:microsoft.com/office/officeart/2005/8/layout/hierarchy1"/>
    <dgm:cxn modelId="{B297ACE3-E9DB-4D0D-99CD-76D2AF758E27}" type="presParOf" srcId="{32BB9A0D-BA9A-4239-B64B-252B9BE74FE1}" destId="{EF7D1C22-D87E-4681-8D02-822ECB33BF82}" srcOrd="1" destOrd="0" presId="urn:microsoft.com/office/officeart/2005/8/layout/hierarchy1"/>
    <dgm:cxn modelId="{E326ADE0-6B69-4AB4-84F4-A215E1FBAA61}" type="presParOf" srcId="{EF7D1C22-D87E-4681-8D02-822ECB33BF82}" destId="{0026072A-2D9B-43B6-9BC6-4652532C8F02}" srcOrd="0" destOrd="0" presId="urn:microsoft.com/office/officeart/2005/8/layout/hierarchy1"/>
    <dgm:cxn modelId="{B68A57AB-521D-4315-A833-3416AD3DE335}" type="presParOf" srcId="{0026072A-2D9B-43B6-9BC6-4652532C8F02}" destId="{A7F8A7E6-15FB-4C78-A26D-D93E0BB84635}" srcOrd="0" destOrd="0" presId="urn:microsoft.com/office/officeart/2005/8/layout/hierarchy1"/>
    <dgm:cxn modelId="{CD827F89-F04A-44C2-8559-954B393FC9FD}" type="presParOf" srcId="{0026072A-2D9B-43B6-9BC6-4652532C8F02}" destId="{05E09E9B-E05A-46CD-BB28-3BA11FDCF300}" srcOrd="1" destOrd="0" presId="urn:microsoft.com/office/officeart/2005/8/layout/hierarchy1"/>
    <dgm:cxn modelId="{C1C5BA3A-8ED8-494F-811F-DA813211AC8D}" type="presParOf" srcId="{EF7D1C22-D87E-4681-8D02-822ECB33BF82}" destId="{8F3228EC-7309-49BF-882F-62FB58D8B30D}" srcOrd="1" destOrd="0" presId="urn:microsoft.com/office/officeart/2005/8/layout/hierarchy1"/>
    <dgm:cxn modelId="{17566FCF-0494-4DC2-A434-CB63C0D5FD86}" type="presParOf" srcId="{8F3228EC-7309-49BF-882F-62FB58D8B30D}" destId="{5F6DD421-7A2C-4FCA-B818-88D95DB19560}" srcOrd="0" destOrd="0" presId="urn:microsoft.com/office/officeart/2005/8/layout/hierarchy1"/>
    <dgm:cxn modelId="{C26F1B41-C2E9-4855-B0E1-689144324FF9}" type="presParOf" srcId="{8F3228EC-7309-49BF-882F-62FB58D8B30D}" destId="{E23C3B87-9CD4-4AE5-9A7E-160384B753DC}" srcOrd="1" destOrd="0" presId="urn:microsoft.com/office/officeart/2005/8/layout/hierarchy1"/>
    <dgm:cxn modelId="{A7A2A606-859C-43F3-85D9-C274EDA335B1}" type="presParOf" srcId="{E23C3B87-9CD4-4AE5-9A7E-160384B753DC}" destId="{C80B11CD-F901-4752-986E-46E1D2A77078}" srcOrd="0" destOrd="0" presId="urn:microsoft.com/office/officeart/2005/8/layout/hierarchy1"/>
    <dgm:cxn modelId="{669A412A-7C31-4401-AD18-87D8A93FA719}" type="presParOf" srcId="{C80B11CD-F901-4752-986E-46E1D2A77078}" destId="{C6549A85-D61E-42A8-B447-67398BC4BECE}" srcOrd="0" destOrd="0" presId="urn:microsoft.com/office/officeart/2005/8/layout/hierarchy1"/>
    <dgm:cxn modelId="{9AE977BB-B21B-46F0-8A8C-82AD7B033364}" type="presParOf" srcId="{C80B11CD-F901-4752-986E-46E1D2A77078}" destId="{2FA8752F-4B44-4173-BD8F-9DAAB41F475E}" srcOrd="1" destOrd="0" presId="urn:microsoft.com/office/officeart/2005/8/layout/hierarchy1"/>
    <dgm:cxn modelId="{A10D4C6F-DD8E-4FCC-9945-B9F3448C1BE8}" type="presParOf" srcId="{E23C3B87-9CD4-4AE5-9A7E-160384B753DC}" destId="{CECFD132-873D-4F48-9075-4BBD6F0D000C}" srcOrd="1" destOrd="0" presId="urn:microsoft.com/office/officeart/2005/8/layout/hierarchy1"/>
    <dgm:cxn modelId="{7AEB2842-4944-4B35-B2AF-38123559A370}" type="presParOf" srcId="{8F3228EC-7309-49BF-882F-62FB58D8B30D}" destId="{8CB8D2DB-8C4A-4C59-AA6B-C35D2A32E118}" srcOrd="2" destOrd="0" presId="urn:microsoft.com/office/officeart/2005/8/layout/hierarchy1"/>
    <dgm:cxn modelId="{5709660B-AD28-42A6-8E0B-F56FF46122F3}" type="presParOf" srcId="{8F3228EC-7309-49BF-882F-62FB58D8B30D}" destId="{A92FF4C2-72E7-4E62-8B3A-7CFF4748E81E}" srcOrd="3" destOrd="0" presId="urn:microsoft.com/office/officeart/2005/8/layout/hierarchy1"/>
    <dgm:cxn modelId="{8CAC7CF3-0F1F-4693-B5EC-6ED583552640}" type="presParOf" srcId="{A92FF4C2-72E7-4E62-8B3A-7CFF4748E81E}" destId="{2DBD4101-A2F7-4E27-8372-439A2AEF87CD}" srcOrd="0" destOrd="0" presId="urn:microsoft.com/office/officeart/2005/8/layout/hierarchy1"/>
    <dgm:cxn modelId="{C5CD3D9A-765E-41D9-B72E-3179C344B0BA}" type="presParOf" srcId="{2DBD4101-A2F7-4E27-8372-439A2AEF87CD}" destId="{81963D59-7EE5-4724-8AB0-A045A167C625}" srcOrd="0" destOrd="0" presId="urn:microsoft.com/office/officeart/2005/8/layout/hierarchy1"/>
    <dgm:cxn modelId="{455B7E5E-09D6-4A72-8950-8ED1075E15B1}" type="presParOf" srcId="{2DBD4101-A2F7-4E27-8372-439A2AEF87CD}" destId="{E73E49FE-FA20-4CF8-8153-F7CD607AD163}" srcOrd="1" destOrd="0" presId="urn:microsoft.com/office/officeart/2005/8/layout/hierarchy1"/>
    <dgm:cxn modelId="{558F2E0E-5717-4EFF-9150-B11B327B954E}" type="presParOf" srcId="{A92FF4C2-72E7-4E62-8B3A-7CFF4748E81E}" destId="{1808ECB0-8417-4BDC-A7A4-8B7FD16CC26E}" srcOrd="1" destOrd="0" presId="urn:microsoft.com/office/officeart/2005/8/layout/hierarchy1"/>
    <dgm:cxn modelId="{E1C2AC1A-36D0-4C37-BFB7-EA7EE4AFC0FE}" type="presParOf" srcId="{32BB9A0D-BA9A-4239-B64B-252B9BE74FE1}" destId="{B94B1323-50CB-49AD-8897-CC5923475366}" srcOrd="2" destOrd="0" presId="urn:microsoft.com/office/officeart/2005/8/layout/hierarchy1"/>
    <dgm:cxn modelId="{44BA60E7-4A3F-4CE1-B1A7-79307A0078AE}" type="presParOf" srcId="{32BB9A0D-BA9A-4239-B64B-252B9BE74FE1}" destId="{A4E487A6-A7B1-4221-93AF-FCAD950EED42}" srcOrd="3" destOrd="0" presId="urn:microsoft.com/office/officeart/2005/8/layout/hierarchy1"/>
    <dgm:cxn modelId="{9D24D5F6-A9E2-4E54-8ABE-89BFE1581FE9}" type="presParOf" srcId="{A4E487A6-A7B1-4221-93AF-FCAD950EED42}" destId="{A50B9DEE-1711-4BD0-B1DF-D3225CE6BECB}" srcOrd="0" destOrd="0" presId="urn:microsoft.com/office/officeart/2005/8/layout/hierarchy1"/>
    <dgm:cxn modelId="{0262AF71-A857-4A15-95C3-961E6BB95877}" type="presParOf" srcId="{A50B9DEE-1711-4BD0-B1DF-D3225CE6BECB}" destId="{48FA17EC-5928-4CA7-9831-3DFC2F995A95}" srcOrd="0" destOrd="0" presId="urn:microsoft.com/office/officeart/2005/8/layout/hierarchy1"/>
    <dgm:cxn modelId="{8F5E6797-76D2-4E01-BEF9-A3A037F4F7BB}" type="presParOf" srcId="{A50B9DEE-1711-4BD0-B1DF-D3225CE6BECB}" destId="{C528A640-50D0-44ED-9CAC-43FB9A0B9C7B}" srcOrd="1" destOrd="0" presId="urn:microsoft.com/office/officeart/2005/8/layout/hierarchy1"/>
    <dgm:cxn modelId="{4C95B87C-5A80-4AD6-BCBF-2746A2B9225B}" type="presParOf" srcId="{A4E487A6-A7B1-4221-93AF-FCAD950EED42}" destId="{DB45CA60-ECDD-45D7-9F47-0C3166F8FB1B}" srcOrd="1" destOrd="0" presId="urn:microsoft.com/office/officeart/2005/8/layout/hierarchy1"/>
  </dgm:cxnLst>
  <dgm:bg/>
  <dgm:whole/>
</dgm:dataModel>
</file>

<file path=ppt/diagrams/data5.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03F86818-6CA7-4523-AB5F-DA9428CF50FB}">
      <dgm:prSet phldrT="[Texto]"/>
      <dgm:spPr/>
      <dgm:t>
        <a:bodyPr/>
        <a:lstStyle/>
        <a:p>
          <a:r>
            <a:rPr lang="es-ES" sz="2000" dirty="0" smtClean="0"/>
            <a:t>actividades </a:t>
          </a:r>
          <a:r>
            <a:rPr lang="es-ES" dirty="0" smtClean="0"/>
            <a:t>primarias</a:t>
          </a:r>
          <a:endParaRPr lang="es-ES" sz="2000" dirty="0"/>
        </a:p>
      </dgm:t>
    </dgm:pt>
    <dgm:pt modelId="{168262E9-3247-44F5-B189-80B7877361A8}" type="parTrans" cxnId="{8EBCABFA-4583-4C00-8BE5-DDDB76983DF6}">
      <dgm:prSet/>
      <dgm:spPr/>
      <dgm:t>
        <a:bodyPr/>
        <a:lstStyle/>
        <a:p>
          <a:endParaRPr lang="es-ES"/>
        </a:p>
      </dgm:t>
    </dgm:pt>
    <dgm:pt modelId="{3A0BAB74-7135-4E7E-9DBE-4107820E6B07}" type="sibTrans" cxnId="{8EBCABFA-4583-4C00-8BE5-DDDB76983DF6}">
      <dgm:prSet/>
      <dgm:spPr/>
      <dgm:t>
        <a:bodyPr/>
        <a:lstStyle/>
        <a:p>
          <a:endParaRPr lang="es-ES"/>
        </a:p>
      </dgm:t>
    </dgm:pt>
    <dgm:pt modelId="{AFBF3760-29BC-464D-A7C2-8A13403DA790}">
      <dgm:prSet phldrT="[Texto]" custT="1"/>
      <dgm:spPr/>
      <dgm:t>
        <a:bodyPr/>
        <a:lstStyle/>
        <a:p>
          <a:r>
            <a:rPr lang="es-ES" sz="1800" dirty="0" smtClean="0"/>
            <a:t>Compra de aceitunas</a:t>
          </a:r>
          <a:endParaRPr lang="es-ES" sz="1800" dirty="0"/>
        </a:p>
      </dgm:t>
    </dgm:pt>
    <dgm:pt modelId="{8E704648-FC5D-47E9-B03F-C50ABE129111}" type="parTrans" cxnId="{71AFC08A-3265-44C6-AF79-C4FBE8F37A72}">
      <dgm:prSet/>
      <dgm:spPr/>
      <dgm:t>
        <a:bodyPr/>
        <a:lstStyle/>
        <a:p>
          <a:endParaRPr lang="es-ES"/>
        </a:p>
      </dgm:t>
    </dgm:pt>
    <dgm:pt modelId="{949DBB83-8E5F-4FF9-943A-66290B295683}" type="sibTrans" cxnId="{71AFC08A-3265-44C6-AF79-C4FBE8F37A72}">
      <dgm:prSet/>
      <dgm:spPr/>
      <dgm:t>
        <a:bodyPr/>
        <a:lstStyle/>
        <a:p>
          <a:endParaRPr lang="es-ES"/>
        </a:p>
      </dgm:t>
    </dgm:pt>
    <dgm:pt modelId="{032A6AE5-0FA5-4740-B994-18F479AF4AFD}">
      <dgm:prSet phldrT="[Texto]" custT="1"/>
      <dgm:spPr/>
      <dgm:t>
        <a:bodyPr/>
        <a:lstStyle/>
        <a:p>
          <a:r>
            <a:rPr lang="es-ES" sz="1600" dirty="0" smtClean="0"/>
            <a:t>Almacenado de la aceituna</a:t>
          </a:r>
          <a:endParaRPr lang="es-ES" sz="1600" dirty="0"/>
        </a:p>
      </dgm:t>
    </dgm:pt>
    <dgm:pt modelId="{8E0ABD22-DDAD-40A0-B7F9-CB4F0FF44484}" type="parTrans" cxnId="{F4314512-92F3-4071-A458-B3F93261A5F9}">
      <dgm:prSet/>
      <dgm:spPr/>
      <dgm:t>
        <a:bodyPr/>
        <a:lstStyle/>
        <a:p>
          <a:endParaRPr lang="es-ES"/>
        </a:p>
      </dgm:t>
    </dgm:pt>
    <dgm:pt modelId="{50986FA6-4F68-4DBE-8CF3-732409CE2FDB}" type="sibTrans" cxnId="{F4314512-92F3-4071-A458-B3F93261A5F9}">
      <dgm:prSet/>
      <dgm:spPr/>
      <dgm:t>
        <a:bodyPr/>
        <a:lstStyle/>
        <a:p>
          <a:endParaRPr lang="es-ES"/>
        </a:p>
      </dgm:t>
    </dgm:pt>
    <dgm:pt modelId="{BD912BC6-9E5C-4F4C-AF65-1EAD80C61EF8}">
      <dgm:prSet phldrT="[Texto]"/>
      <dgm:spPr/>
      <dgm:t>
        <a:bodyPr/>
        <a:lstStyle/>
        <a:p>
          <a:r>
            <a:rPr lang="es-ES" dirty="0" smtClean="0"/>
            <a:t>Obtención del aceite</a:t>
          </a:r>
          <a:endParaRPr lang="es-ES" dirty="0"/>
        </a:p>
      </dgm:t>
    </dgm:pt>
    <dgm:pt modelId="{04FC6CF0-F110-465B-98FC-9F008D0C4789}" type="parTrans" cxnId="{101F9B5C-8D7C-424B-92B9-8EC6EA2551C9}">
      <dgm:prSet/>
      <dgm:spPr/>
      <dgm:t>
        <a:bodyPr/>
        <a:lstStyle/>
        <a:p>
          <a:endParaRPr lang="es-ES"/>
        </a:p>
      </dgm:t>
    </dgm:pt>
    <dgm:pt modelId="{E21901CC-7449-4719-9314-FF9216BFA667}" type="sibTrans" cxnId="{101F9B5C-8D7C-424B-92B9-8EC6EA2551C9}">
      <dgm:prSet/>
      <dgm:spPr/>
      <dgm:t>
        <a:bodyPr/>
        <a:lstStyle/>
        <a:p>
          <a:endParaRPr lang="es-ES"/>
        </a:p>
      </dgm:t>
    </dgm:pt>
    <dgm:pt modelId="{8C0F2F33-99FD-499D-A123-F60FC0D9CB23}">
      <dgm:prSet phldrT="[Texto]" custT="1"/>
      <dgm:spPr/>
      <dgm:t>
        <a:bodyPr/>
        <a:lstStyle/>
        <a:p>
          <a:r>
            <a:rPr lang="es-ES" sz="1600" dirty="0" smtClean="0"/>
            <a:t>Molturación de la aceituna</a:t>
          </a:r>
          <a:endParaRPr lang="es-ES" sz="1600" dirty="0"/>
        </a:p>
      </dgm:t>
    </dgm:pt>
    <dgm:pt modelId="{95F3E3E6-7FAA-4F8B-B0CB-DD9BB09EECE5}" type="parTrans" cxnId="{73CDB4B8-2E28-4684-BD56-BB442501DB7B}">
      <dgm:prSet/>
      <dgm:spPr/>
      <dgm:t>
        <a:bodyPr/>
        <a:lstStyle/>
        <a:p>
          <a:endParaRPr lang="es-ES"/>
        </a:p>
      </dgm:t>
    </dgm:pt>
    <dgm:pt modelId="{A6D68B95-0108-4BF3-BF4F-A3B36C9BAE4B}" type="sibTrans" cxnId="{73CDB4B8-2E28-4684-BD56-BB442501DB7B}">
      <dgm:prSet/>
      <dgm:spPr/>
      <dgm:t>
        <a:bodyPr/>
        <a:lstStyle/>
        <a:p>
          <a:endParaRPr lang="es-ES"/>
        </a:p>
      </dgm:t>
    </dgm:pt>
    <dgm:pt modelId="{73498013-B94D-43D2-BA7B-DB32336E9780}">
      <dgm:prSet phldrT="[Texto]" custT="1"/>
      <dgm:spPr/>
      <dgm:t>
        <a:bodyPr/>
        <a:lstStyle/>
        <a:p>
          <a:r>
            <a:rPr lang="es-ES" sz="1600" dirty="0" smtClean="0"/>
            <a:t>Sistema de batido</a:t>
          </a:r>
          <a:endParaRPr lang="es-ES" sz="1600" dirty="0"/>
        </a:p>
      </dgm:t>
    </dgm:pt>
    <dgm:pt modelId="{21C1993E-5D8C-4C6A-94A1-68980BA710B3}" type="parTrans" cxnId="{01056E8D-DDD1-4DC1-A7DA-463B9B85DEF9}">
      <dgm:prSet/>
      <dgm:spPr/>
      <dgm:t>
        <a:bodyPr/>
        <a:lstStyle/>
        <a:p>
          <a:endParaRPr lang="es-ES"/>
        </a:p>
      </dgm:t>
    </dgm:pt>
    <dgm:pt modelId="{5D3F87BA-8ED4-44DD-B0B5-7466B0994E66}" type="sibTrans" cxnId="{01056E8D-DDD1-4DC1-A7DA-463B9B85DEF9}">
      <dgm:prSet/>
      <dgm:spPr/>
      <dgm:t>
        <a:bodyPr/>
        <a:lstStyle/>
        <a:p>
          <a:endParaRPr lang="es-ES"/>
        </a:p>
      </dgm:t>
    </dgm:pt>
    <dgm:pt modelId="{F1DA8917-419E-4FE3-A4A6-05B856631AAB}">
      <dgm:prSet phldrT="[Texto]"/>
      <dgm:spPr/>
      <dgm:t>
        <a:bodyPr/>
        <a:lstStyle/>
        <a:p>
          <a:r>
            <a:rPr lang="es-ES" dirty="0" smtClean="0"/>
            <a:t>Reciclado del hueso y del orujo</a:t>
          </a:r>
          <a:endParaRPr lang="es-ES" dirty="0"/>
        </a:p>
      </dgm:t>
    </dgm:pt>
    <dgm:pt modelId="{F47E1993-D025-43F7-98BF-6A8DAAD9397C}" type="parTrans" cxnId="{559FF48A-3B4D-4DBA-A6EF-E46E0124D8D9}">
      <dgm:prSet/>
      <dgm:spPr/>
      <dgm:t>
        <a:bodyPr/>
        <a:lstStyle/>
        <a:p>
          <a:endParaRPr lang="es-ES"/>
        </a:p>
      </dgm:t>
    </dgm:pt>
    <dgm:pt modelId="{217A7805-FC03-4E5A-BB4B-8DF4C7471F3E}" type="sibTrans" cxnId="{559FF48A-3B4D-4DBA-A6EF-E46E0124D8D9}">
      <dgm:prSet/>
      <dgm:spPr/>
      <dgm:t>
        <a:bodyPr/>
        <a:lstStyle/>
        <a:p>
          <a:endParaRPr lang="es-ES"/>
        </a:p>
      </dgm:t>
    </dgm:pt>
    <dgm:pt modelId="{4C0FD4D8-F4E7-4341-8F8E-E024ECF9B2D5}">
      <dgm:prSet phldrT="[Texto]" custT="1"/>
      <dgm:spPr/>
      <dgm:t>
        <a:bodyPr/>
        <a:lstStyle/>
        <a:p>
          <a:r>
            <a:rPr lang="es-ES" sz="1600" dirty="0" smtClean="0"/>
            <a:t>Limpieza del orujo y extracción de su aceite</a:t>
          </a:r>
          <a:endParaRPr lang="es-ES" sz="1600" dirty="0"/>
        </a:p>
      </dgm:t>
    </dgm:pt>
    <dgm:pt modelId="{E18E9736-02E6-4B5B-BABC-DF57D1D8C890}" type="parTrans" cxnId="{40BB251B-2A8E-4C18-A70E-03E103C884C8}">
      <dgm:prSet/>
      <dgm:spPr/>
      <dgm:t>
        <a:bodyPr/>
        <a:lstStyle/>
        <a:p>
          <a:endParaRPr lang="es-ES"/>
        </a:p>
      </dgm:t>
    </dgm:pt>
    <dgm:pt modelId="{4803EC41-9C6E-409D-BAF7-76F821589C55}" type="sibTrans" cxnId="{40BB251B-2A8E-4C18-A70E-03E103C884C8}">
      <dgm:prSet/>
      <dgm:spPr/>
      <dgm:t>
        <a:bodyPr/>
        <a:lstStyle/>
        <a:p>
          <a:endParaRPr lang="es-ES"/>
        </a:p>
      </dgm:t>
    </dgm:pt>
    <dgm:pt modelId="{02F884E6-26B7-4C78-9859-602777F88CBE}">
      <dgm:prSet phldrT="[Texto]" custT="1"/>
      <dgm:spPr/>
      <dgm:t>
        <a:bodyPr/>
        <a:lstStyle/>
        <a:p>
          <a:r>
            <a:rPr lang="es-ES" sz="1400" dirty="0" smtClean="0"/>
            <a:t>Extracción del hueso y secado </a:t>
          </a:r>
          <a:endParaRPr lang="es-ES" sz="1400" dirty="0"/>
        </a:p>
      </dgm:t>
    </dgm:pt>
    <dgm:pt modelId="{8AF7A30B-BD19-494A-8DBE-D160E4631A49}" type="parTrans" cxnId="{F62BB60E-EB80-4EC9-81B5-A688391F7B60}">
      <dgm:prSet/>
      <dgm:spPr/>
      <dgm:t>
        <a:bodyPr/>
        <a:lstStyle/>
        <a:p>
          <a:endParaRPr lang="es-ES"/>
        </a:p>
      </dgm:t>
    </dgm:pt>
    <dgm:pt modelId="{E7DE5A0A-785E-4B9C-A66F-3EA2B33CC665}" type="sibTrans" cxnId="{F62BB60E-EB80-4EC9-81B5-A688391F7B60}">
      <dgm:prSet/>
      <dgm:spPr/>
      <dgm:t>
        <a:bodyPr/>
        <a:lstStyle/>
        <a:p>
          <a:endParaRPr lang="es-ES"/>
        </a:p>
      </dgm:t>
    </dgm:pt>
    <dgm:pt modelId="{047B5EB1-6D24-4C68-B059-A1E497322C04}">
      <dgm:prSet custT="1"/>
      <dgm:spPr/>
      <dgm:t>
        <a:bodyPr/>
        <a:lstStyle/>
        <a:p>
          <a:r>
            <a:rPr lang="es-ES" sz="1400" dirty="0" smtClean="0"/>
            <a:t>Fabricación del biocombustible</a:t>
          </a:r>
          <a:endParaRPr lang="es-ES" sz="1400" dirty="0"/>
        </a:p>
      </dgm:t>
    </dgm:pt>
    <dgm:pt modelId="{B4000367-514E-4D1B-8093-452DF3D92E7E}" type="parTrans" cxnId="{0C1D9E84-79E4-4338-9FB5-9DB8A6AF0193}">
      <dgm:prSet/>
      <dgm:spPr/>
      <dgm:t>
        <a:bodyPr/>
        <a:lstStyle/>
        <a:p>
          <a:endParaRPr lang="es-ES"/>
        </a:p>
      </dgm:t>
    </dgm:pt>
    <dgm:pt modelId="{E3DB7293-8F25-4B8F-B829-20A704E7C2C5}" type="sibTrans" cxnId="{0C1D9E84-79E4-4338-9FB5-9DB8A6AF0193}">
      <dgm:prSet/>
      <dgm:spPr/>
      <dgm:t>
        <a:bodyPr/>
        <a:lstStyle/>
        <a:p>
          <a:endParaRPr lang="es-ES"/>
        </a:p>
      </dgm:t>
    </dgm:pt>
    <dgm:pt modelId="{661D6BAC-6C45-473B-80BB-FE7423CDBA2F}">
      <dgm:prSet custT="1"/>
      <dgm:spPr/>
      <dgm:t>
        <a:bodyPr/>
        <a:lstStyle/>
        <a:p>
          <a:r>
            <a:rPr lang="es-ES" sz="1800" dirty="0" smtClean="0"/>
            <a:t>Limpiado de la aceituna</a:t>
          </a:r>
          <a:endParaRPr lang="es-ES" sz="1800" dirty="0"/>
        </a:p>
      </dgm:t>
    </dgm:pt>
    <dgm:pt modelId="{850B7FD3-D603-41DD-A2E0-DDAB0E83C016}" type="parTrans" cxnId="{062A04C9-8FB5-4C5E-8006-94E7D620D91B}">
      <dgm:prSet/>
      <dgm:spPr/>
      <dgm:t>
        <a:bodyPr/>
        <a:lstStyle/>
        <a:p>
          <a:endParaRPr lang="es-ES"/>
        </a:p>
      </dgm:t>
    </dgm:pt>
    <dgm:pt modelId="{BDA25AC2-41BB-4BE3-8C31-A3D4E963A66A}" type="sibTrans" cxnId="{062A04C9-8FB5-4C5E-8006-94E7D620D91B}">
      <dgm:prSet/>
      <dgm:spPr/>
      <dgm:t>
        <a:bodyPr/>
        <a:lstStyle/>
        <a:p>
          <a:endParaRPr lang="es-ES"/>
        </a:p>
      </dgm:t>
    </dgm:pt>
    <dgm:pt modelId="{2D6F9BC4-9EC0-4B31-848F-F74F1162B2A3}">
      <dgm:prSet custT="1"/>
      <dgm:spPr/>
      <dgm:t>
        <a:bodyPr/>
        <a:lstStyle/>
        <a:p>
          <a:r>
            <a:rPr lang="es-ES" sz="1600" dirty="0" smtClean="0"/>
            <a:t>Recolección de la muestra y pesado</a:t>
          </a:r>
          <a:endParaRPr lang="es-ES" sz="1600" dirty="0"/>
        </a:p>
      </dgm:t>
    </dgm:pt>
    <dgm:pt modelId="{20E382F1-E859-4501-8E0D-8E8D3423E09D}" type="parTrans" cxnId="{F62A49E6-02E7-4A3F-93ED-C4D9A4E1A10C}">
      <dgm:prSet/>
      <dgm:spPr/>
      <dgm:t>
        <a:bodyPr/>
        <a:lstStyle/>
        <a:p>
          <a:endParaRPr lang="es-ES"/>
        </a:p>
      </dgm:t>
    </dgm:pt>
    <dgm:pt modelId="{6379D94D-09D1-48AC-8919-1758B1A418D2}" type="sibTrans" cxnId="{F62A49E6-02E7-4A3F-93ED-C4D9A4E1A10C}">
      <dgm:prSet/>
      <dgm:spPr/>
      <dgm:t>
        <a:bodyPr/>
        <a:lstStyle/>
        <a:p>
          <a:endParaRPr lang="es-ES"/>
        </a:p>
      </dgm:t>
    </dgm:pt>
    <dgm:pt modelId="{8DC3DE1B-39F4-4631-AF65-8F056A655AF1}">
      <dgm:prSet custT="1"/>
      <dgm:spPr/>
      <dgm:t>
        <a:bodyPr/>
        <a:lstStyle/>
        <a:p>
          <a:r>
            <a:rPr lang="es-ES" sz="1400" dirty="0" smtClean="0"/>
            <a:t>Separación del aceite de las demás sustancias</a:t>
          </a:r>
          <a:endParaRPr lang="es-ES" sz="1400" dirty="0"/>
        </a:p>
      </dgm:t>
    </dgm:pt>
    <dgm:pt modelId="{50788ED0-62A0-427C-950E-91FC10D6E847}" type="parTrans" cxnId="{72011669-DF78-4674-8656-332E3F6F1345}">
      <dgm:prSet/>
      <dgm:spPr/>
      <dgm:t>
        <a:bodyPr/>
        <a:lstStyle/>
        <a:p>
          <a:endParaRPr lang="es-ES"/>
        </a:p>
      </dgm:t>
    </dgm:pt>
    <dgm:pt modelId="{B90DAF4E-2C27-4EDB-AC00-13BAE764A9FF}" type="sibTrans" cxnId="{72011669-DF78-4674-8656-332E3F6F1345}">
      <dgm:prSet/>
      <dgm:spPr/>
      <dgm:t>
        <a:bodyPr/>
        <a:lstStyle/>
        <a:p>
          <a:endParaRPr lang="es-ES"/>
        </a:p>
      </dgm:t>
    </dgm:pt>
    <dgm:pt modelId="{2D0D6A15-D5C6-4C2D-8B47-3E15CB1AAEEC}">
      <dgm:prSet custT="1"/>
      <dgm:spPr/>
      <dgm:t>
        <a:bodyPr/>
        <a:lstStyle/>
        <a:p>
          <a:r>
            <a:rPr lang="es-ES" sz="1400" dirty="0" smtClean="0"/>
            <a:t>decantación del aceite</a:t>
          </a:r>
          <a:endParaRPr lang="es-ES" sz="1400" dirty="0"/>
        </a:p>
      </dgm:t>
    </dgm:pt>
    <dgm:pt modelId="{C47391D5-69EE-4EF3-AFB5-0230264FD623}" type="parTrans" cxnId="{AAF28259-741F-406C-A414-7FCDB48119D7}">
      <dgm:prSet/>
      <dgm:spPr/>
      <dgm:t>
        <a:bodyPr/>
        <a:lstStyle/>
        <a:p>
          <a:endParaRPr lang="es-ES"/>
        </a:p>
      </dgm:t>
    </dgm:pt>
    <dgm:pt modelId="{2E9BAF9C-EC28-4E41-890E-993662D39F3A}" type="sibTrans" cxnId="{AAF28259-741F-406C-A414-7FCDB48119D7}">
      <dgm:prSet/>
      <dgm:spPr/>
      <dgm:t>
        <a:bodyPr/>
        <a:lstStyle/>
        <a:p>
          <a:endParaRPr lang="es-ES"/>
        </a:p>
      </dgm:t>
    </dgm:pt>
    <dgm:pt modelId="{45990F98-89C3-4A0F-978E-5BA09DFDB031}">
      <dgm:prSet custT="1"/>
      <dgm:spPr/>
      <dgm:t>
        <a:bodyPr/>
        <a:lstStyle/>
        <a:p>
          <a:r>
            <a:rPr lang="es-ES" sz="1600" dirty="0" smtClean="0"/>
            <a:t>Secado del aceite de orujo</a:t>
          </a:r>
          <a:endParaRPr lang="es-ES" sz="1600" dirty="0"/>
        </a:p>
      </dgm:t>
    </dgm:pt>
    <dgm:pt modelId="{AEA7F0BF-6FE7-429C-BB93-6E9ED8B0313B}" type="parTrans" cxnId="{E0BA6FF4-CF93-4897-B76F-E79B04F7836B}">
      <dgm:prSet/>
      <dgm:spPr/>
      <dgm:t>
        <a:bodyPr/>
        <a:lstStyle/>
        <a:p>
          <a:endParaRPr lang="es-ES"/>
        </a:p>
      </dgm:t>
    </dgm:pt>
    <dgm:pt modelId="{5E3BDCE4-E584-45AA-94A3-8C7136C627C0}" type="sibTrans" cxnId="{E0BA6FF4-CF93-4897-B76F-E79B04F7836B}">
      <dgm:prSet/>
      <dgm:spPr/>
      <dgm:t>
        <a:bodyPr/>
        <a:lstStyle/>
        <a:p>
          <a:endParaRPr lang="es-ES"/>
        </a:p>
      </dgm:t>
    </dgm:pt>
    <dgm:pt modelId="{D732EA19-BD48-4982-90B3-3D6E2D798B65}">
      <dgm:prSet/>
      <dgm:spPr/>
      <dgm:t>
        <a:bodyPr/>
        <a:lstStyle/>
        <a:p>
          <a:r>
            <a:rPr lang="es-ES" dirty="0" smtClean="0"/>
            <a:t>Envasado del aceite</a:t>
          </a:r>
          <a:endParaRPr lang="es-ES" dirty="0"/>
        </a:p>
      </dgm:t>
    </dgm:pt>
    <dgm:pt modelId="{BA0614F2-53E3-4509-9350-531472EBA693}" type="parTrans" cxnId="{C097E010-132F-46CC-85E5-40B267C05A1B}">
      <dgm:prSet/>
      <dgm:spPr/>
      <dgm:t>
        <a:bodyPr/>
        <a:lstStyle/>
        <a:p>
          <a:endParaRPr lang="es-ES"/>
        </a:p>
      </dgm:t>
    </dgm:pt>
    <dgm:pt modelId="{7A4A89CE-29FA-4261-BEEF-2E2E2E17E940}" type="sibTrans" cxnId="{C097E010-132F-46CC-85E5-40B267C05A1B}">
      <dgm:prSet/>
      <dgm:spPr/>
      <dgm:t>
        <a:bodyPr/>
        <a:lstStyle/>
        <a:p>
          <a:endParaRPr lang="es-ES"/>
        </a:p>
      </dgm:t>
    </dgm:pt>
    <dgm:pt modelId="{0F5F16DB-5C19-4189-B9E8-17517C24E915}">
      <dgm:prSet custT="1"/>
      <dgm:spPr/>
      <dgm:t>
        <a:bodyPr/>
        <a:lstStyle/>
        <a:p>
          <a:r>
            <a:rPr lang="es-ES" sz="1400" dirty="0" smtClean="0"/>
            <a:t>Filtrado del aceite</a:t>
          </a:r>
          <a:endParaRPr lang="es-ES" sz="1400" dirty="0"/>
        </a:p>
      </dgm:t>
    </dgm:pt>
    <dgm:pt modelId="{24C88FBC-6A56-4B30-BB8B-65743B00C905}" type="parTrans" cxnId="{BD01A231-A2DE-4CA1-88B8-96ACF5E5BDE2}">
      <dgm:prSet/>
      <dgm:spPr/>
      <dgm:t>
        <a:bodyPr/>
        <a:lstStyle/>
        <a:p>
          <a:endParaRPr lang="es-ES"/>
        </a:p>
      </dgm:t>
    </dgm:pt>
    <dgm:pt modelId="{84D03FD9-006F-4CE5-9E4C-0A3539F2F2CC}" type="sibTrans" cxnId="{BD01A231-A2DE-4CA1-88B8-96ACF5E5BDE2}">
      <dgm:prSet/>
      <dgm:spPr/>
      <dgm:t>
        <a:bodyPr/>
        <a:lstStyle/>
        <a:p>
          <a:endParaRPr lang="es-ES"/>
        </a:p>
      </dgm:t>
    </dgm:pt>
    <dgm:pt modelId="{D9094002-DD18-46B1-AC35-06C5FFBB1EFA}">
      <dgm:prSet custT="1"/>
      <dgm:spPr/>
      <dgm:t>
        <a:bodyPr/>
        <a:lstStyle/>
        <a:p>
          <a:r>
            <a:rPr lang="es-ES" sz="1400" dirty="0" smtClean="0"/>
            <a:t>Proceso de embotellado y taponado</a:t>
          </a:r>
          <a:endParaRPr lang="es-ES" sz="1400" dirty="0"/>
        </a:p>
      </dgm:t>
    </dgm:pt>
    <dgm:pt modelId="{28A20A7E-F668-4526-A93E-41F57FC8CB76}" type="parTrans" cxnId="{D9016917-73D7-46DA-9AC1-63F8799B52F8}">
      <dgm:prSet/>
      <dgm:spPr/>
      <dgm:t>
        <a:bodyPr/>
        <a:lstStyle/>
        <a:p>
          <a:endParaRPr lang="es-ES"/>
        </a:p>
      </dgm:t>
    </dgm:pt>
    <dgm:pt modelId="{38E4E0FE-C510-491A-A88B-E9C1CA39EBA6}" type="sibTrans" cxnId="{D9016917-73D7-46DA-9AC1-63F8799B52F8}">
      <dgm:prSet/>
      <dgm:spPr/>
      <dgm:t>
        <a:bodyPr/>
        <a:lstStyle/>
        <a:p>
          <a:endParaRPr lang="es-ES"/>
        </a:p>
      </dgm:t>
    </dgm:pt>
    <dgm:pt modelId="{819759FD-4C1B-4571-9450-B55D19191BFB}">
      <dgm:prSet custT="1"/>
      <dgm:spPr/>
      <dgm:t>
        <a:bodyPr/>
        <a:lstStyle/>
        <a:p>
          <a:r>
            <a:rPr lang="es-ES" sz="1400" dirty="0" smtClean="0"/>
            <a:t>Encajado </a:t>
          </a:r>
          <a:r>
            <a:rPr lang="es-ES" sz="1400" dirty="0" err="1" smtClean="0"/>
            <a:t>paletizado</a:t>
          </a:r>
          <a:r>
            <a:rPr lang="es-ES" sz="1400" dirty="0" smtClean="0"/>
            <a:t> y retractilado</a:t>
          </a:r>
          <a:endParaRPr lang="es-ES" sz="1400" dirty="0"/>
        </a:p>
      </dgm:t>
    </dgm:pt>
    <dgm:pt modelId="{297FA141-DC64-469F-AEDD-76C7986C3171}" type="parTrans" cxnId="{26EB2D82-D39D-41FE-BD79-CFE581051B7E}">
      <dgm:prSet/>
      <dgm:spPr/>
      <dgm:t>
        <a:bodyPr/>
        <a:lstStyle/>
        <a:p>
          <a:endParaRPr lang="es-ES"/>
        </a:p>
      </dgm:t>
    </dgm:pt>
    <dgm:pt modelId="{C4C014D6-84C4-4EE7-9EE7-EFAE55A9C8B5}" type="sibTrans" cxnId="{26EB2D82-D39D-41FE-BD79-CFE581051B7E}">
      <dgm:prSet/>
      <dgm:spPr/>
      <dgm:t>
        <a:bodyPr/>
        <a:lstStyle/>
        <a:p>
          <a:endParaRPr lang="es-ES"/>
        </a:p>
      </dgm:t>
    </dgm:pt>
    <dgm:pt modelId="{960A2214-D9C3-4DB9-AF40-BF663DD22668}">
      <dgm:prSet custT="1"/>
      <dgm:spPr/>
      <dgm:t>
        <a:bodyPr/>
        <a:lstStyle/>
        <a:p>
          <a:r>
            <a:rPr lang="es-ES" sz="1400" dirty="0" smtClean="0"/>
            <a:t>Almacenaje de producto terminado</a:t>
          </a:r>
          <a:endParaRPr lang="es-ES" sz="1400" dirty="0"/>
        </a:p>
      </dgm:t>
    </dgm:pt>
    <dgm:pt modelId="{2748C358-BFDA-464F-8419-34713C9C2CB9}" type="parTrans" cxnId="{65C2C24D-5DDE-4F79-8088-91C941F698E3}">
      <dgm:prSet/>
      <dgm:spPr/>
      <dgm:t>
        <a:bodyPr/>
        <a:lstStyle/>
        <a:p>
          <a:endParaRPr lang="es-ES"/>
        </a:p>
      </dgm:t>
    </dgm:pt>
    <dgm:pt modelId="{E6711E92-7A9B-4A7C-A62B-F5818EAB32DF}" type="sibTrans" cxnId="{65C2C24D-5DDE-4F79-8088-91C941F698E3}">
      <dgm:prSet/>
      <dgm:spPr/>
      <dgm:t>
        <a:bodyPr/>
        <a:lstStyle/>
        <a:p>
          <a:endParaRPr lang="es-ES"/>
        </a:p>
      </dgm:t>
    </dgm:pt>
    <dgm:pt modelId="{08813FF5-EFFB-4CC6-984B-0CF78577B9FC}">
      <dgm:prSet/>
      <dgm:spPr/>
      <dgm:t>
        <a:bodyPr/>
        <a:lstStyle/>
        <a:p>
          <a:r>
            <a:rPr lang="es-ES" dirty="0" smtClean="0"/>
            <a:t>ventas</a:t>
          </a:r>
          <a:endParaRPr lang="es-ES" dirty="0"/>
        </a:p>
      </dgm:t>
    </dgm:pt>
    <dgm:pt modelId="{97ACFDA5-F4A4-4367-9092-6A1229A29031}" type="parTrans" cxnId="{B94493AB-7DD4-437A-8EEE-DE937F610B04}">
      <dgm:prSet/>
      <dgm:spPr/>
      <dgm:t>
        <a:bodyPr/>
        <a:lstStyle/>
        <a:p>
          <a:endParaRPr lang="es-ES"/>
        </a:p>
      </dgm:t>
    </dgm:pt>
    <dgm:pt modelId="{F943EAE5-0682-4CCD-93AB-CC19D7574900}" type="sibTrans" cxnId="{B94493AB-7DD4-437A-8EEE-DE937F610B04}">
      <dgm:prSet/>
      <dgm:spPr/>
      <dgm:t>
        <a:bodyPr/>
        <a:lstStyle/>
        <a:p>
          <a:endParaRPr lang="es-ES"/>
        </a:p>
      </dgm:t>
    </dgm:pt>
    <dgm:pt modelId="{C6BAD5D7-A42D-4F33-A6DF-23719B0091CB}">
      <dgm:prSet custT="1"/>
      <dgm:spPr/>
      <dgm:t>
        <a:bodyPr/>
        <a:lstStyle/>
        <a:p>
          <a:r>
            <a:rPr lang="es-ES" sz="1400" dirty="0" smtClean="0"/>
            <a:t>Recepción de los encargos </a:t>
          </a:r>
          <a:endParaRPr lang="es-ES" sz="1400" dirty="0"/>
        </a:p>
      </dgm:t>
    </dgm:pt>
    <dgm:pt modelId="{64647F73-367E-472B-88D3-81BDBB95CAF4}" type="sibTrans" cxnId="{BFCFE298-46CC-4511-8918-E6D85B7C91A2}">
      <dgm:prSet/>
      <dgm:spPr/>
      <dgm:t>
        <a:bodyPr/>
        <a:lstStyle/>
        <a:p>
          <a:endParaRPr lang="es-ES"/>
        </a:p>
      </dgm:t>
    </dgm:pt>
    <dgm:pt modelId="{C3B6F941-0CE6-433C-90A6-D15064F299BA}" type="parTrans" cxnId="{BFCFE298-46CC-4511-8918-E6D85B7C91A2}">
      <dgm:prSet/>
      <dgm:spPr/>
      <dgm:t>
        <a:bodyPr/>
        <a:lstStyle/>
        <a:p>
          <a:endParaRPr lang="es-ES"/>
        </a:p>
      </dgm:t>
    </dgm:pt>
    <dgm:pt modelId="{3981CEC2-018B-407D-9927-7B807BA024B5}">
      <dgm:prSet custT="1"/>
      <dgm:spPr/>
      <dgm:t>
        <a:bodyPr/>
        <a:lstStyle/>
        <a:p>
          <a:r>
            <a:rPr lang="es-ES" sz="1400" dirty="0" smtClean="0"/>
            <a:t>Transporte del producto </a:t>
          </a:r>
          <a:endParaRPr lang="es-ES" sz="1400" dirty="0"/>
        </a:p>
      </dgm:t>
    </dgm:pt>
    <dgm:pt modelId="{E765330D-1AE6-4B2D-8C22-DC40B68C7D96}" type="sibTrans" cxnId="{3B673754-1B9A-4D82-8126-FAFB631BD12E}">
      <dgm:prSet/>
      <dgm:spPr/>
      <dgm:t>
        <a:bodyPr/>
        <a:lstStyle/>
        <a:p>
          <a:endParaRPr lang="es-ES"/>
        </a:p>
      </dgm:t>
    </dgm:pt>
    <dgm:pt modelId="{EA446CE9-CE65-4D1D-9004-305E21AE2DAF}" type="parTrans" cxnId="{3B673754-1B9A-4D82-8126-FAFB631BD12E}">
      <dgm:prSet/>
      <dgm:spPr/>
      <dgm:t>
        <a:bodyPr/>
        <a:lstStyle/>
        <a:p>
          <a:endParaRPr lang="es-ES"/>
        </a:p>
      </dgm:t>
    </dgm:pt>
    <dgm:pt modelId="{B84DA4C1-723F-426B-BBAD-98CC554CC6AD}">
      <dgm:prSet custT="1"/>
      <dgm:spPr/>
      <dgm:t>
        <a:bodyPr/>
        <a:lstStyle/>
        <a:p>
          <a:r>
            <a:rPr lang="es-ES" sz="1400" dirty="0" smtClean="0"/>
            <a:t>Venta directa al público</a:t>
          </a:r>
          <a:endParaRPr lang="es-ES" sz="1400" dirty="0"/>
        </a:p>
      </dgm:t>
    </dgm:pt>
    <dgm:pt modelId="{23542FEA-C215-4BD1-B957-4960C1BE5DB5}" type="sibTrans" cxnId="{606AD3C1-8BD1-4AF9-8632-A8E82733DF1B}">
      <dgm:prSet/>
      <dgm:spPr/>
      <dgm:t>
        <a:bodyPr/>
        <a:lstStyle/>
        <a:p>
          <a:endParaRPr lang="es-ES"/>
        </a:p>
      </dgm:t>
    </dgm:pt>
    <dgm:pt modelId="{E5BC340B-438B-4930-BB87-88D18F379083}" type="parTrans" cxnId="{606AD3C1-8BD1-4AF9-8632-A8E82733DF1B}">
      <dgm:prSet/>
      <dgm:spPr/>
      <dgm:t>
        <a:bodyPr/>
        <a:lstStyle/>
        <a:p>
          <a:endParaRPr lang="es-ES"/>
        </a:p>
      </dgm:t>
    </dgm:pt>
    <dgm:pt modelId="{1D21B09B-4269-4D9D-8535-1F225F747356}">
      <dgm:prSet custT="1"/>
      <dgm:spPr/>
      <dgm:t>
        <a:bodyPr/>
        <a:lstStyle/>
        <a:p>
          <a:r>
            <a:rPr lang="es-ES" sz="1600" dirty="0" smtClean="0"/>
            <a:t>facturación</a:t>
          </a:r>
          <a:endParaRPr lang="es-ES" sz="1600" dirty="0"/>
        </a:p>
      </dgm:t>
    </dgm:pt>
    <dgm:pt modelId="{72A65593-745B-49F8-94EB-FE879B6A9033}" type="parTrans" cxnId="{8E3E28E7-709A-4740-9CE3-184F7987E96D}">
      <dgm:prSet/>
      <dgm:spPr/>
      <dgm:t>
        <a:bodyPr/>
        <a:lstStyle/>
        <a:p>
          <a:endParaRPr lang="es-ES"/>
        </a:p>
      </dgm:t>
    </dgm:pt>
    <dgm:pt modelId="{8E165A0D-9DCF-4E51-B961-6D4E1B8A6CA8}" type="sibTrans" cxnId="{8E3E28E7-709A-4740-9CE3-184F7987E96D}">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16CCA934-0963-4934-9BF2-836FB129C277}" type="pres">
      <dgm:prSet presAssocID="{03F86818-6CA7-4523-AB5F-DA9428CF50FB}" presName="horFlow" presStyleCnt="0"/>
      <dgm:spPr/>
    </dgm:pt>
    <dgm:pt modelId="{86FB6F5C-79B3-41B2-B43E-07555DA9D6B2}" type="pres">
      <dgm:prSet presAssocID="{03F86818-6CA7-4523-AB5F-DA9428CF50FB}" presName="bigChev" presStyleLbl="node1" presStyleIdx="0" presStyleCnt="5" custLinFactNeighborX="-385" custLinFactNeighborY="1827"/>
      <dgm:spPr/>
      <dgm:t>
        <a:bodyPr/>
        <a:lstStyle/>
        <a:p>
          <a:endParaRPr lang="es-ES"/>
        </a:p>
      </dgm:t>
    </dgm:pt>
    <dgm:pt modelId="{F5B193FC-97C3-4D13-9FAF-4DD82E139107}" type="pres">
      <dgm:prSet presAssocID="{8E704648-FC5D-47E9-B03F-C50ABE129111}" presName="parTrans" presStyleCnt="0"/>
      <dgm:spPr/>
    </dgm:pt>
    <dgm:pt modelId="{08742C78-DFD9-4397-B0D5-6043D2255A40}" type="pres">
      <dgm:prSet presAssocID="{AFBF3760-29BC-464D-A7C2-8A13403DA790}" presName="node" presStyleLbl="alignAccFollowNode1" presStyleIdx="0" presStyleCnt="20">
        <dgm:presLayoutVars>
          <dgm:bulletEnabled val="1"/>
        </dgm:presLayoutVars>
      </dgm:prSet>
      <dgm:spPr/>
      <dgm:t>
        <a:bodyPr/>
        <a:lstStyle/>
        <a:p>
          <a:endParaRPr lang="es-ES"/>
        </a:p>
      </dgm:t>
    </dgm:pt>
    <dgm:pt modelId="{8E56FA49-3CC8-472E-B55C-7C39DCDAE705}" type="pres">
      <dgm:prSet presAssocID="{949DBB83-8E5F-4FF9-943A-66290B295683}" presName="sibTrans" presStyleCnt="0"/>
      <dgm:spPr/>
    </dgm:pt>
    <dgm:pt modelId="{58F21242-A591-46FA-B2B5-5F456638DFB2}" type="pres">
      <dgm:prSet presAssocID="{661D6BAC-6C45-473B-80BB-FE7423CDBA2F}" presName="node" presStyleLbl="alignAccFollowNode1" presStyleIdx="1" presStyleCnt="20">
        <dgm:presLayoutVars>
          <dgm:bulletEnabled val="1"/>
        </dgm:presLayoutVars>
      </dgm:prSet>
      <dgm:spPr/>
      <dgm:t>
        <a:bodyPr/>
        <a:lstStyle/>
        <a:p>
          <a:endParaRPr lang="es-ES"/>
        </a:p>
      </dgm:t>
    </dgm:pt>
    <dgm:pt modelId="{DF558EE2-600D-4C81-8907-5091658BEB66}" type="pres">
      <dgm:prSet presAssocID="{BDA25AC2-41BB-4BE3-8C31-A3D4E963A66A}" presName="sibTrans" presStyleCnt="0"/>
      <dgm:spPr/>
    </dgm:pt>
    <dgm:pt modelId="{A9EC3ACB-2082-4BC2-AA46-770D1EAE0BE7}" type="pres">
      <dgm:prSet presAssocID="{2D6F9BC4-9EC0-4B31-848F-F74F1162B2A3}" presName="node" presStyleLbl="alignAccFollowNode1" presStyleIdx="2" presStyleCnt="20">
        <dgm:presLayoutVars>
          <dgm:bulletEnabled val="1"/>
        </dgm:presLayoutVars>
      </dgm:prSet>
      <dgm:spPr/>
      <dgm:t>
        <a:bodyPr/>
        <a:lstStyle/>
        <a:p>
          <a:endParaRPr lang="es-ES"/>
        </a:p>
      </dgm:t>
    </dgm:pt>
    <dgm:pt modelId="{EEFB42E9-D30F-43FC-B82F-6EEA48DE6E18}" type="pres">
      <dgm:prSet presAssocID="{6379D94D-09D1-48AC-8919-1758B1A418D2}" presName="sibTrans" presStyleCnt="0"/>
      <dgm:spPr/>
    </dgm:pt>
    <dgm:pt modelId="{4D3E8828-4F1C-4558-8D06-E44B0423F6C0}" type="pres">
      <dgm:prSet presAssocID="{032A6AE5-0FA5-4740-B994-18F479AF4AFD}" presName="node" presStyleLbl="alignAccFollowNode1" presStyleIdx="3" presStyleCnt="20">
        <dgm:presLayoutVars>
          <dgm:bulletEnabled val="1"/>
        </dgm:presLayoutVars>
      </dgm:prSet>
      <dgm:spPr/>
      <dgm:t>
        <a:bodyPr/>
        <a:lstStyle/>
        <a:p>
          <a:endParaRPr lang="es-ES"/>
        </a:p>
      </dgm:t>
    </dgm:pt>
    <dgm:pt modelId="{CFD9616A-FFB6-4008-AAAC-2EF252B427D2}" type="pres">
      <dgm:prSet presAssocID="{03F86818-6CA7-4523-AB5F-DA9428CF50FB}" presName="vSp" presStyleCnt="0"/>
      <dgm:spPr/>
    </dgm:pt>
    <dgm:pt modelId="{8596F37D-6DBF-499B-838B-F31F58E82CDF}" type="pres">
      <dgm:prSet presAssocID="{BD912BC6-9E5C-4F4C-AF65-1EAD80C61EF8}" presName="horFlow" presStyleCnt="0"/>
      <dgm:spPr/>
    </dgm:pt>
    <dgm:pt modelId="{BC1D74BF-9ADD-4069-A6A7-99E8B5ADDB1D}" type="pres">
      <dgm:prSet presAssocID="{BD912BC6-9E5C-4F4C-AF65-1EAD80C61EF8}" presName="bigChev" presStyleLbl="node1" presStyleIdx="1" presStyleCnt="5"/>
      <dgm:spPr/>
      <dgm:t>
        <a:bodyPr/>
        <a:lstStyle/>
        <a:p>
          <a:endParaRPr lang="es-ES"/>
        </a:p>
      </dgm:t>
    </dgm:pt>
    <dgm:pt modelId="{72849D08-C128-464B-BA96-8110084F054B}" type="pres">
      <dgm:prSet presAssocID="{95F3E3E6-7FAA-4F8B-B0CB-DD9BB09EECE5}" presName="parTrans" presStyleCnt="0"/>
      <dgm:spPr/>
    </dgm:pt>
    <dgm:pt modelId="{58711F6C-7998-45D0-9879-FBF099A0AE0D}" type="pres">
      <dgm:prSet presAssocID="{8C0F2F33-99FD-499D-A123-F60FC0D9CB23}" presName="node" presStyleLbl="alignAccFollowNode1" presStyleIdx="4" presStyleCnt="20">
        <dgm:presLayoutVars>
          <dgm:bulletEnabled val="1"/>
        </dgm:presLayoutVars>
      </dgm:prSet>
      <dgm:spPr/>
      <dgm:t>
        <a:bodyPr/>
        <a:lstStyle/>
        <a:p>
          <a:endParaRPr lang="es-ES"/>
        </a:p>
      </dgm:t>
    </dgm:pt>
    <dgm:pt modelId="{C817B6A6-18D4-41CE-874C-E66F4C10AE75}" type="pres">
      <dgm:prSet presAssocID="{A6D68B95-0108-4BF3-BF4F-A3B36C9BAE4B}" presName="sibTrans" presStyleCnt="0"/>
      <dgm:spPr/>
    </dgm:pt>
    <dgm:pt modelId="{D40E3AAB-A617-47CA-861F-74CA0BB02275}" type="pres">
      <dgm:prSet presAssocID="{73498013-B94D-43D2-BA7B-DB32336E9780}" presName="node" presStyleLbl="alignAccFollowNode1" presStyleIdx="5" presStyleCnt="20">
        <dgm:presLayoutVars>
          <dgm:bulletEnabled val="1"/>
        </dgm:presLayoutVars>
      </dgm:prSet>
      <dgm:spPr/>
      <dgm:t>
        <a:bodyPr/>
        <a:lstStyle/>
        <a:p>
          <a:endParaRPr lang="es-ES"/>
        </a:p>
      </dgm:t>
    </dgm:pt>
    <dgm:pt modelId="{EA6494BE-02A0-4CA4-8B66-EE8FED8F3CF2}" type="pres">
      <dgm:prSet presAssocID="{5D3F87BA-8ED4-44DD-B0B5-7466B0994E66}" presName="sibTrans" presStyleCnt="0"/>
      <dgm:spPr/>
    </dgm:pt>
    <dgm:pt modelId="{7B8A6BD4-FA17-4F76-8217-4D38ECE73974}" type="pres">
      <dgm:prSet presAssocID="{8DC3DE1B-39F4-4631-AF65-8F056A655AF1}" presName="node" presStyleLbl="alignAccFollowNode1" presStyleIdx="6" presStyleCnt="20">
        <dgm:presLayoutVars>
          <dgm:bulletEnabled val="1"/>
        </dgm:presLayoutVars>
      </dgm:prSet>
      <dgm:spPr/>
      <dgm:t>
        <a:bodyPr/>
        <a:lstStyle/>
        <a:p>
          <a:endParaRPr lang="es-ES"/>
        </a:p>
      </dgm:t>
    </dgm:pt>
    <dgm:pt modelId="{3FD11D4B-0C34-4F11-8517-525E3D9961D8}" type="pres">
      <dgm:prSet presAssocID="{B90DAF4E-2C27-4EDB-AC00-13BAE764A9FF}" presName="sibTrans" presStyleCnt="0"/>
      <dgm:spPr/>
    </dgm:pt>
    <dgm:pt modelId="{A0863875-58BB-441D-91C4-AD1C1DD27809}" type="pres">
      <dgm:prSet presAssocID="{2D0D6A15-D5C6-4C2D-8B47-3E15CB1AAEEC}" presName="node" presStyleLbl="alignAccFollowNode1" presStyleIdx="7" presStyleCnt="20">
        <dgm:presLayoutVars>
          <dgm:bulletEnabled val="1"/>
        </dgm:presLayoutVars>
      </dgm:prSet>
      <dgm:spPr/>
      <dgm:t>
        <a:bodyPr/>
        <a:lstStyle/>
        <a:p>
          <a:endParaRPr lang="es-ES"/>
        </a:p>
      </dgm:t>
    </dgm:pt>
    <dgm:pt modelId="{92E492A7-E57E-486E-9D30-D88582BAEA77}" type="pres">
      <dgm:prSet presAssocID="{BD912BC6-9E5C-4F4C-AF65-1EAD80C61EF8}" presName="vSp" presStyleCnt="0"/>
      <dgm:spPr/>
    </dgm:pt>
    <dgm:pt modelId="{42F1DEF2-CE24-4C5E-B746-D5D84BE8A00C}" type="pres">
      <dgm:prSet presAssocID="{F1DA8917-419E-4FE3-A4A6-05B856631AAB}" presName="horFlow" presStyleCnt="0"/>
      <dgm:spPr/>
    </dgm:pt>
    <dgm:pt modelId="{58F3F7C5-361C-48FC-B236-4DD5C4EB1924}" type="pres">
      <dgm:prSet presAssocID="{F1DA8917-419E-4FE3-A4A6-05B856631AAB}" presName="bigChev" presStyleLbl="node1" presStyleIdx="2" presStyleCnt="5"/>
      <dgm:spPr/>
      <dgm:t>
        <a:bodyPr/>
        <a:lstStyle/>
        <a:p>
          <a:endParaRPr lang="es-ES"/>
        </a:p>
      </dgm:t>
    </dgm:pt>
    <dgm:pt modelId="{ADE19671-F139-4C59-AC1E-765512671B82}" type="pres">
      <dgm:prSet presAssocID="{E18E9736-02E6-4B5B-BABC-DF57D1D8C890}" presName="parTrans" presStyleCnt="0"/>
      <dgm:spPr/>
    </dgm:pt>
    <dgm:pt modelId="{83D35EEF-2A9B-489A-A5E5-3851BC41E755}" type="pres">
      <dgm:prSet presAssocID="{4C0FD4D8-F4E7-4341-8F8E-E024ECF9B2D5}" presName="node" presStyleLbl="alignAccFollowNode1" presStyleIdx="8" presStyleCnt="20">
        <dgm:presLayoutVars>
          <dgm:bulletEnabled val="1"/>
        </dgm:presLayoutVars>
      </dgm:prSet>
      <dgm:spPr/>
      <dgm:t>
        <a:bodyPr/>
        <a:lstStyle/>
        <a:p>
          <a:endParaRPr lang="es-ES"/>
        </a:p>
      </dgm:t>
    </dgm:pt>
    <dgm:pt modelId="{A488512D-C841-44EF-9F52-9AF6EB5D5F41}" type="pres">
      <dgm:prSet presAssocID="{4803EC41-9C6E-409D-BAF7-76F821589C55}" presName="sibTrans" presStyleCnt="0"/>
      <dgm:spPr/>
    </dgm:pt>
    <dgm:pt modelId="{E21C2307-000D-4D62-B87E-3ED36AB53995}" type="pres">
      <dgm:prSet presAssocID="{45990F98-89C3-4A0F-978E-5BA09DFDB031}" presName="node" presStyleLbl="alignAccFollowNode1" presStyleIdx="9" presStyleCnt="20">
        <dgm:presLayoutVars>
          <dgm:bulletEnabled val="1"/>
        </dgm:presLayoutVars>
      </dgm:prSet>
      <dgm:spPr/>
      <dgm:t>
        <a:bodyPr/>
        <a:lstStyle/>
        <a:p>
          <a:endParaRPr lang="es-ES"/>
        </a:p>
      </dgm:t>
    </dgm:pt>
    <dgm:pt modelId="{687A7184-591E-4F0E-A90D-A0F02B0172E2}" type="pres">
      <dgm:prSet presAssocID="{5E3BDCE4-E584-45AA-94A3-8C7136C627C0}" presName="sibTrans" presStyleCnt="0"/>
      <dgm:spPr/>
    </dgm:pt>
    <dgm:pt modelId="{A83BF36D-6BBD-4708-927F-E822D228F2D1}" type="pres">
      <dgm:prSet presAssocID="{02F884E6-26B7-4C78-9859-602777F88CBE}" presName="node" presStyleLbl="alignAccFollowNode1" presStyleIdx="10" presStyleCnt="20">
        <dgm:presLayoutVars>
          <dgm:bulletEnabled val="1"/>
        </dgm:presLayoutVars>
      </dgm:prSet>
      <dgm:spPr/>
      <dgm:t>
        <a:bodyPr/>
        <a:lstStyle/>
        <a:p>
          <a:endParaRPr lang="es-ES"/>
        </a:p>
      </dgm:t>
    </dgm:pt>
    <dgm:pt modelId="{FC7B46E9-E25B-44DD-AFD2-D61853822143}" type="pres">
      <dgm:prSet presAssocID="{E7DE5A0A-785E-4B9C-A66F-3EA2B33CC665}" presName="sibTrans" presStyleCnt="0"/>
      <dgm:spPr/>
    </dgm:pt>
    <dgm:pt modelId="{753BC558-949D-40C1-B542-5A194E22F203}" type="pres">
      <dgm:prSet presAssocID="{047B5EB1-6D24-4C68-B059-A1E497322C04}" presName="node" presStyleLbl="alignAccFollowNode1" presStyleIdx="11" presStyleCnt="20">
        <dgm:presLayoutVars>
          <dgm:bulletEnabled val="1"/>
        </dgm:presLayoutVars>
      </dgm:prSet>
      <dgm:spPr/>
      <dgm:t>
        <a:bodyPr/>
        <a:lstStyle/>
        <a:p>
          <a:endParaRPr lang="es-ES"/>
        </a:p>
      </dgm:t>
    </dgm:pt>
    <dgm:pt modelId="{8651E546-092C-4C05-8D5A-DEB33ABA9005}" type="pres">
      <dgm:prSet presAssocID="{F1DA8917-419E-4FE3-A4A6-05B856631AAB}" presName="vSp" presStyleCnt="0"/>
      <dgm:spPr/>
    </dgm:pt>
    <dgm:pt modelId="{0A60F3CA-5BC6-4ED0-909D-C9CFE2F20E07}" type="pres">
      <dgm:prSet presAssocID="{D732EA19-BD48-4982-90B3-3D6E2D798B65}" presName="horFlow" presStyleCnt="0"/>
      <dgm:spPr/>
    </dgm:pt>
    <dgm:pt modelId="{813583E5-CB2C-4FD8-93A3-155E2182D803}" type="pres">
      <dgm:prSet presAssocID="{D732EA19-BD48-4982-90B3-3D6E2D798B65}" presName="bigChev" presStyleLbl="node1" presStyleIdx="3" presStyleCnt="5"/>
      <dgm:spPr/>
      <dgm:t>
        <a:bodyPr/>
        <a:lstStyle/>
        <a:p>
          <a:endParaRPr lang="es-ES"/>
        </a:p>
      </dgm:t>
    </dgm:pt>
    <dgm:pt modelId="{255C398F-6862-4B1B-B1D6-6EAD1FFBFE3C}" type="pres">
      <dgm:prSet presAssocID="{24C88FBC-6A56-4B30-BB8B-65743B00C905}" presName="parTrans" presStyleCnt="0"/>
      <dgm:spPr/>
    </dgm:pt>
    <dgm:pt modelId="{2B937DCC-104D-4C10-A35F-720D4C4B8AAB}" type="pres">
      <dgm:prSet presAssocID="{0F5F16DB-5C19-4189-B9E8-17517C24E915}" presName="node" presStyleLbl="alignAccFollowNode1" presStyleIdx="12" presStyleCnt="20">
        <dgm:presLayoutVars>
          <dgm:bulletEnabled val="1"/>
        </dgm:presLayoutVars>
      </dgm:prSet>
      <dgm:spPr/>
      <dgm:t>
        <a:bodyPr/>
        <a:lstStyle/>
        <a:p>
          <a:endParaRPr lang="es-ES"/>
        </a:p>
      </dgm:t>
    </dgm:pt>
    <dgm:pt modelId="{D8C4A96D-7BD6-4432-8392-45AD84E11836}" type="pres">
      <dgm:prSet presAssocID="{84D03FD9-006F-4CE5-9E4C-0A3539F2F2CC}" presName="sibTrans" presStyleCnt="0"/>
      <dgm:spPr/>
    </dgm:pt>
    <dgm:pt modelId="{A7FEEE86-61FA-478F-88E1-A6CCD4282594}" type="pres">
      <dgm:prSet presAssocID="{D9094002-DD18-46B1-AC35-06C5FFBB1EFA}" presName="node" presStyleLbl="alignAccFollowNode1" presStyleIdx="13" presStyleCnt="20">
        <dgm:presLayoutVars>
          <dgm:bulletEnabled val="1"/>
        </dgm:presLayoutVars>
      </dgm:prSet>
      <dgm:spPr/>
      <dgm:t>
        <a:bodyPr/>
        <a:lstStyle/>
        <a:p>
          <a:endParaRPr lang="es-ES"/>
        </a:p>
      </dgm:t>
    </dgm:pt>
    <dgm:pt modelId="{56055B87-74E6-47AF-BC0F-1F17C0A3E6CD}" type="pres">
      <dgm:prSet presAssocID="{38E4E0FE-C510-491A-A88B-E9C1CA39EBA6}" presName="sibTrans" presStyleCnt="0"/>
      <dgm:spPr/>
    </dgm:pt>
    <dgm:pt modelId="{51AFC78C-4C3E-4A07-9AD1-1D4AFCBE9D49}" type="pres">
      <dgm:prSet presAssocID="{819759FD-4C1B-4571-9450-B55D19191BFB}" presName="node" presStyleLbl="alignAccFollowNode1" presStyleIdx="14" presStyleCnt="20">
        <dgm:presLayoutVars>
          <dgm:bulletEnabled val="1"/>
        </dgm:presLayoutVars>
      </dgm:prSet>
      <dgm:spPr/>
      <dgm:t>
        <a:bodyPr/>
        <a:lstStyle/>
        <a:p>
          <a:endParaRPr lang="es-ES"/>
        </a:p>
      </dgm:t>
    </dgm:pt>
    <dgm:pt modelId="{99415689-AE85-4571-9883-4E6716E95716}" type="pres">
      <dgm:prSet presAssocID="{C4C014D6-84C4-4EE7-9EE7-EFAE55A9C8B5}" presName="sibTrans" presStyleCnt="0"/>
      <dgm:spPr/>
    </dgm:pt>
    <dgm:pt modelId="{328783C6-20E3-4A06-8D64-21269061940E}" type="pres">
      <dgm:prSet presAssocID="{960A2214-D9C3-4DB9-AF40-BF663DD22668}" presName="node" presStyleLbl="alignAccFollowNode1" presStyleIdx="15" presStyleCnt="20">
        <dgm:presLayoutVars>
          <dgm:bulletEnabled val="1"/>
        </dgm:presLayoutVars>
      </dgm:prSet>
      <dgm:spPr/>
      <dgm:t>
        <a:bodyPr/>
        <a:lstStyle/>
        <a:p>
          <a:endParaRPr lang="es-ES"/>
        </a:p>
      </dgm:t>
    </dgm:pt>
    <dgm:pt modelId="{3623F81D-5DFC-4934-ADB1-7CD970FDA5D2}" type="pres">
      <dgm:prSet presAssocID="{D732EA19-BD48-4982-90B3-3D6E2D798B65}" presName="vSp" presStyleCnt="0"/>
      <dgm:spPr/>
    </dgm:pt>
    <dgm:pt modelId="{A98AB1EA-6C03-45C1-969F-2B66A2DAC61F}" type="pres">
      <dgm:prSet presAssocID="{08813FF5-EFFB-4CC6-984B-0CF78577B9FC}" presName="horFlow" presStyleCnt="0"/>
      <dgm:spPr/>
    </dgm:pt>
    <dgm:pt modelId="{F991B7A5-8195-40E5-835B-F0A6025C77B2}" type="pres">
      <dgm:prSet presAssocID="{08813FF5-EFFB-4CC6-984B-0CF78577B9FC}" presName="bigChev" presStyleLbl="node1" presStyleIdx="4" presStyleCnt="5"/>
      <dgm:spPr/>
      <dgm:t>
        <a:bodyPr/>
        <a:lstStyle/>
        <a:p>
          <a:endParaRPr lang="es-ES"/>
        </a:p>
      </dgm:t>
    </dgm:pt>
    <dgm:pt modelId="{83BD8171-5BED-48E1-9BF2-CCE500C4A075}" type="pres">
      <dgm:prSet presAssocID="{C3B6F941-0CE6-433C-90A6-D15064F299BA}" presName="parTrans" presStyleCnt="0"/>
      <dgm:spPr/>
    </dgm:pt>
    <dgm:pt modelId="{158C5E89-0133-465C-A73E-4806D9364DBA}" type="pres">
      <dgm:prSet presAssocID="{C6BAD5D7-A42D-4F33-A6DF-23719B0091CB}" presName="node" presStyleLbl="alignAccFollowNode1" presStyleIdx="16" presStyleCnt="20">
        <dgm:presLayoutVars>
          <dgm:bulletEnabled val="1"/>
        </dgm:presLayoutVars>
      </dgm:prSet>
      <dgm:spPr/>
      <dgm:t>
        <a:bodyPr/>
        <a:lstStyle/>
        <a:p>
          <a:endParaRPr lang="es-ES"/>
        </a:p>
      </dgm:t>
    </dgm:pt>
    <dgm:pt modelId="{876F0861-F3BF-4ACD-B590-5DB7A850A43D}" type="pres">
      <dgm:prSet presAssocID="{64647F73-367E-472B-88D3-81BDBB95CAF4}" presName="sibTrans" presStyleCnt="0"/>
      <dgm:spPr/>
    </dgm:pt>
    <dgm:pt modelId="{B8A6FA5D-4F4E-4130-B15B-2F156352A59D}" type="pres">
      <dgm:prSet presAssocID="{3981CEC2-018B-407D-9927-7B807BA024B5}" presName="node" presStyleLbl="alignAccFollowNode1" presStyleIdx="17" presStyleCnt="20">
        <dgm:presLayoutVars>
          <dgm:bulletEnabled val="1"/>
        </dgm:presLayoutVars>
      </dgm:prSet>
      <dgm:spPr/>
      <dgm:t>
        <a:bodyPr/>
        <a:lstStyle/>
        <a:p>
          <a:endParaRPr lang="es-ES"/>
        </a:p>
      </dgm:t>
    </dgm:pt>
    <dgm:pt modelId="{CEBA5FA6-D54A-40A4-81CD-58EB162236CA}" type="pres">
      <dgm:prSet presAssocID="{E765330D-1AE6-4B2D-8C22-DC40B68C7D96}" presName="sibTrans" presStyleCnt="0"/>
      <dgm:spPr/>
    </dgm:pt>
    <dgm:pt modelId="{4DF96293-C437-4525-8DF6-F89A17A02372}" type="pres">
      <dgm:prSet presAssocID="{B84DA4C1-723F-426B-BBAD-98CC554CC6AD}" presName="node" presStyleLbl="alignAccFollowNode1" presStyleIdx="18" presStyleCnt="20">
        <dgm:presLayoutVars>
          <dgm:bulletEnabled val="1"/>
        </dgm:presLayoutVars>
      </dgm:prSet>
      <dgm:spPr/>
      <dgm:t>
        <a:bodyPr/>
        <a:lstStyle/>
        <a:p>
          <a:endParaRPr lang="es-ES"/>
        </a:p>
      </dgm:t>
    </dgm:pt>
    <dgm:pt modelId="{F2EFFC55-82C8-48B6-BFB0-0908CF9184C3}" type="pres">
      <dgm:prSet presAssocID="{23542FEA-C215-4BD1-B957-4960C1BE5DB5}" presName="sibTrans" presStyleCnt="0"/>
      <dgm:spPr/>
    </dgm:pt>
    <dgm:pt modelId="{F83E656A-D389-423D-978C-541EEB62E365}" type="pres">
      <dgm:prSet presAssocID="{1D21B09B-4269-4D9D-8535-1F225F747356}" presName="node" presStyleLbl="alignAccFollowNode1" presStyleIdx="19" presStyleCnt="20">
        <dgm:presLayoutVars>
          <dgm:bulletEnabled val="1"/>
        </dgm:presLayoutVars>
      </dgm:prSet>
      <dgm:spPr/>
      <dgm:t>
        <a:bodyPr/>
        <a:lstStyle/>
        <a:p>
          <a:endParaRPr lang="es-ES"/>
        </a:p>
      </dgm:t>
    </dgm:pt>
  </dgm:ptLst>
  <dgm:cxnLst>
    <dgm:cxn modelId="{F23F5545-B29A-4CF2-8EA6-0E6BD960151A}" type="presOf" srcId="{AFBF3760-29BC-464D-A7C2-8A13403DA790}" destId="{08742C78-DFD9-4397-B0D5-6043D2255A40}" srcOrd="0" destOrd="0" presId="urn:microsoft.com/office/officeart/2005/8/layout/lProcess3"/>
    <dgm:cxn modelId="{9632EDE9-1FDD-4D53-8AE1-08D3BBB35763}" type="presOf" srcId="{08813FF5-EFFB-4CC6-984B-0CF78577B9FC}" destId="{F991B7A5-8195-40E5-835B-F0A6025C77B2}" srcOrd="0" destOrd="0" presId="urn:microsoft.com/office/officeart/2005/8/layout/lProcess3"/>
    <dgm:cxn modelId="{062A04C9-8FB5-4C5E-8006-94E7D620D91B}" srcId="{03F86818-6CA7-4523-AB5F-DA9428CF50FB}" destId="{661D6BAC-6C45-473B-80BB-FE7423CDBA2F}" srcOrd="1" destOrd="0" parTransId="{850B7FD3-D603-41DD-A2E0-DDAB0E83C016}" sibTransId="{BDA25AC2-41BB-4BE3-8C31-A3D4E963A66A}"/>
    <dgm:cxn modelId="{762CF558-B6DF-442D-A8D0-8146B9B69B25}" type="presOf" srcId="{0F5F16DB-5C19-4189-B9E8-17517C24E915}" destId="{2B937DCC-104D-4C10-A35F-720D4C4B8AAB}" srcOrd="0" destOrd="0" presId="urn:microsoft.com/office/officeart/2005/8/layout/lProcess3"/>
    <dgm:cxn modelId="{C67E8DD2-B52F-46C3-BA51-345854F7C8E6}" type="presOf" srcId="{819759FD-4C1B-4571-9450-B55D19191BFB}" destId="{51AFC78C-4C3E-4A07-9AD1-1D4AFCBE9D49}" srcOrd="0" destOrd="0" presId="urn:microsoft.com/office/officeart/2005/8/layout/lProcess3"/>
    <dgm:cxn modelId="{F62A49E6-02E7-4A3F-93ED-C4D9A4E1A10C}" srcId="{03F86818-6CA7-4523-AB5F-DA9428CF50FB}" destId="{2D6F9BC4-9EC0-4B31-848F-F74F1162B2A3}" srcOrd="2" destOrd="0" parTransId="{20E382F1-E859-4501-8E0D-8E8D3423E09D}" sibTransId="{6379D94D-09D1-48AC-8919-1758B1A418D2}"/>
    <dgm:cxn modelId="{3B4A72B0-AB96-4189-87A6-38DC7D382BAD}" type="presOf" srcId="{CC543783-FAED-4071-B2D8-FB29C592E664}" destId="{B5034A3F-EF62-446E-B779-A4775DF2D51D}" srcOrd="0" destOrd="0" presId="urn:microsoft.com/office/officeart/2005/8/layout/lProcess3"/>
    <dgm:cxn modelId="{F62BB60E-EB80-4EC9-81B5-A688391F7B60}" srcId="{F1DA8917-419E-4FE3-A4A6-05B856631AAB}" destId="{02F884E6-26B7-4C78-9859-602777F88CBE}" srcOrd="2" destOrd="0" parTransId="{8AF7A30B-BD19-494A-8DBE-D160E4631A49}" sibTransId="{E7DE5A0A-785E-4B9C-A66F-3EA2B33CC665}"/>
    <dgm:cxn modelId="{71AFC08A-3265-44C6-AF79-C4FBE8F37A72}" srcId="{03F86818-6CA7-4523-AB5F-DA9428CF50FB}" destId="{AFBF3760-29BC-464D-A7C2-8A13403DA790}" srcOrd="0" destOrd="0" parTransId="{8E704648-FC5D-47E9-B03F-C50ABE129111}" sibTransId="{949DBB83-8E5F-4FF9-943A-66290B295683}"/>
    <dgm:cxn modelId="{8CC6D6E4-2EDC-4A04-BEF0-50F6D14078FC}" type="presOf" srcId="{4C0FD4D8-F4E7-4341-8F8E-E024ECF9B2D5}" destId="{83D35EEF-2A9B-489A-A5E5-3851BC41E755}" srcOrd="0" destOrd="0" presId="urn:microsoft.com/office/officeart/2005/8/layout/lProcess3"/>
    <dgm:cxn modelId="{40BB251B-2A8E-4C18-A70E-03E103C884C8}" srcId="{F1DA8917-419E-4FE3-A4A6-05B856631AAB}" destId="{4C0FD4D8-F4E7-4341-8F8E-E024ECF9B2D5}" srcOrd="0" destOrd="0" parTransId="{E18E9736-02E6-4B5B-BABC-DF57D1D8C890}" sibTransId="{4803EC41-9C6E-409D-BAF7-76F821589C55}"/>
    <dgm:cxn modelId="{BFCFE298-46CC-4511-8918-E6D85B7C91A2}" srcId="{08813FF5-EFFB-4CC6-984B-0CF78577B9FC}" destId="{C6BAD5D7-A42D-4F33-A6DF-23719B0091CB}" srcOrd="0" destOrd="0" parTransId="{C3B6F941-0CE6-433C-90A6-D15064F299BA}" sibTransId="{64647F73-367E-472B-88D3-81BDBB95CAF4}"/>
    <dgm:cxn modelId="{F232975E-D4E9-4130-8107-59E6FDC964B3}" type="presOf" srcId="{3981CEC2-018B-407D-9927-7B807BA024B5}" destId="{B8A6FA5D-4F4E-4130-B15B-2F156352A59D}" srcOrd="0" destOrd="0" presId="urn:microsoft.com/office/officeart/2005/8/layout/lProcess3"/>
    <dgm:cxn modelId="{0B5A3C16-ECCD-4843-A1C5-3C6157770CC2}" type="presOf" srcId="{661D6BAC-6C45-473B-80BB-FE7423CDBA2F}" destId="{58F21242-A591-46FA-B2B5-5F456638DFB2}" srcOrd="0" destOrd="0" presId="urn:microsoft.com/office/officeart/2005/8/layout/lProcess3"/>
    <dgm:cxn modelId="{43E14698-3473-4B3B-8EBD-8F4AC8447AB3}" type="presOf" srcId="{B84DA4C1-723F-426B-BBAD-98CC554CC6AD}" destId="{4DF96293-C437-4525-8DF6-F89A17A02372}" srcOrd="0" destOrd="0" presId="urn:microsoft.com/office/officeart/2005/8/layout/lProcess3"/>
    <dgm:cxn modelId="{8032B9FB-815E-484A-8736-8BD85EC02045}" type="presOf" srcId="{8DC3DE1B-39F4-4631-AF65-8F056A655AF1}" destId="{7B8A6BD4-FA17-4F76-8217-4D38ECE73974}" srcOrd="0" destOrd="0" presId="urn:microsoft.com/office/officeart/2005/8/layout/lProcess3"/>
    <dgm:cxn modelId="{7605F705-AE6A-49ED-A72F-31646B2CD7D4}" type="presOf" srcId="{F1DA8917-419E-4FE3-A4A6-05B856631AAB}" destId="{58F3F7C5-361C-48FC-B236-4DD5C4EB1924}" srcOrd="0" destOrd="0" presId="urn:microsoft.com/office/officeart/2005/8/layout/lProcess3"/>
    <dgm:cxn modelId="{72011669-DF78-4674-8656-332E3F6F1345}" srcId="{BD912BC6-9E5C-4F4C-AF65-1EAD80C61EF8}" destId="{8DC3DE1B-39F4-4631-AF65-8F056A655AF1}" srcOrd="2" destOrd="0" parTransId="{50788ED0-62A0-427C-950E-91FC10D6E847}" sibTransId="{B90DAF4E-2C27-4EDB-AC00-13BAE764A9FF}"/>
    <dgm:cxn modelId="{5D8724BB-CC95-487F-B9B8-2648AD12A4A1}" type="presOf" srcId="{1D21B09B-4269-4D9D-8535-1F225F747356}" destId="{F83E656A-D389-423D-978C-541EEB62E365}" srcOrd="0" destOrd="0" presId="urn:microsoft.com/office/officeart/2005/8/layout/lProcess3"/>
    <dgm:cxn modelId="{BD01A231-A2DE-4CA1-88B8-96ACF5E5BDE2}" srcId="{D732EA19-BD48-4982-90B3-3D6E2D798B65}" destId="{0F5F16DB-5C19-4189-B9E8-17517C24E915}" srcOrd="0" destOrd="0" parTransId="{24C88FBC-6A56-4B30-BB8B-65743B00C905}" sibTransId="{84D03FD9-006F-4CE5-9E4C-0A3539F2F2CC}"/>
    <dgm:cxn modelId="{73CDB4B8-2E28-4684-BD56-BB442501DB7B}" srcId="{BD912BC6-9E5C-4F4C-AF65-1EAD80C61EF8}" destId="{8C0F2F33-99FD-499D-A123-F60FC0D9CB23}" srcOrd="0" destOrd="0" parTransId="{95F3E3E6-7FAA-4F8B-B0CB-DD9BB09EECE5}" sibTransId="{A6D68B95-0108-4BF3-BF4F-A3B36C9BAE4B}"/>
    <dgm:cxn modelId="{A41E9CAF-6319-43E2-963C-1980341CDCA5}" type="presOf" srcId="{032A6AE5-0FA5-4740-B994-18F479AF4AFD}" destId="{4D3E8828-4F1C-4558-8D06-E44B0423F6C0}" srcOrd="0" destOrd="0" presId="urn:microsoft.com/office/officeart/2005/8/layout/lProcess3"/>
    <dgm:cxn modelId="{06781D05-6389-4C3C-936F-09EF1AA0833F}" type="presOf" srcId="{C6BAD5D7-A42D-4F33-A6DF-23719B0091CB}" destId="{158C5E89-0133-465C-A73E-4806D9364DBA}" srcOrd="0" destOrd="0" presId="urn:microsoft.com/office/officeart/2005/8/layout/lProcess3"/>
    <dgm:cxn modelId="{089FE17B-9055-49FD-82FA-7EC5E414079D}" type="presOf" srcId="{03F86818-6CA7-4523-AB5F-DA9428CF50FB}" destId="{86FB6F5C-79B3-41B2-B43E-07555DA9D6B2}" srcOrd="0" destOrd="0" presId="urn:microsoft.com/office/officeart/2005/8/layout/lProcess3"/>
    <dgm:cxn modelId="{6511CAA6-4050-45AB-99CB-19B5670D4CFC}" type="presOf" srcId="{D9094002-DD18-46B1-AC35-06C5FFBB1EFA}" destId="{A7FEEE86-61FA-478F-88E1-A6CCD4282594}" srcOrd="0" destOrd="0" presId="urn:microsoft.com/office/officeart/2005/8/layout/lProcess3"/>
    <dgm:cxn modelId="{EA68F453-72E3-4611-8346-E2772C55A8CB}" type="presOf" srcId="{73498013-B94D-43D2-BA7B-DB32336E9780}" destId="{D40E3AAB-A617-47CA-861F-74CA0BB02275}" srcOrd="0" destOrd="0" presId="urn:microsoft.com/office/officeart/2005/8/layout/lProcess3"/>
    <dgm:cxn modelId="{65C2C24D-5DDE-4F79-8088-91C941F698E3}" srcId="{D732EA19-BD48-4982-90B3-3D6E2D798B65}" destId="{960A2214-D9C3-4DB9-AF40-BF663DD22668}" srcOrd="3" destOrd="0" parTransId="{2748C358-BFDA-464F-8419-34713C9C2CB9}" sibTransId="{E6711E92-7A9B-4A7C-A62B-F5818EAB32DF}"/>
    <dgm:cxn modelId="{88D55618-8041-478D-A255-EB45271CB19E}" type="presOf" srcId="{BD912BC6-9E5C-4F4C-AF65-1EAD80C61EF8}" destId="{BC1D74BF-9ADD-4069-A6A7-99E8B5ADDB1D}" srcOrd="0" destOrd="0" presId="urn:microsoft.com/office/officeart/2005/8/layout/lProcess3"/>
    <dgm:cxn modelId="{4F3027C8-9CF1-4AEB-ADB9-532B15157C22}" type="presOf" srcId="{2D6F9BC4-9EC0-4B31-848F-F74F1162B2A3}" destId="{A9EC3ACB-2082-4BC2-AA46-770D1EAE0BE7}" srcOrd="0" destOrd="0" presId="urn:microsoft.com/office/officeart/2005/8/layout/lProcess3"/>
    <dgm:cxn modelId="{559FF48A-3B4D-4DBA-A6EF-E46E0124D8D9}" srcId="{CC543783-FAED-4071-B2D8-FB29C592E664}" destId="{F1DA8917-419E-4FE3-A4A6-05B856631AAB}" srcOrd="2" destOrd="0" parTransId="{F47E1993-D025-43F7-98BF-6A8DAAD9397C}" sibTransId="{217A7805-FC03-4E5A-BB4B-8DF4C7471F3E}"/>
    <dgm:cxn modelId="{D31171C0-A58A-4D8B-A678-892384E6DDB0}" type="presOf" srcId="{02F884E6-26B7-4C78-9859-602777F88CBE}" destId="{A83BF36D-6BBD-4708-927F-E822D228F2D1}" srcOrd="0" destOrd="0" presId="urn:microsoft.com/office/officeart/2005/8/layout/lProcess3"/>
    <dgm:cxn modelId="{D3C60B4A-358C-4FED-8A8F-2AC47DBBB26C}" type="presOf" srcId="{2D0D6A15-D5C6-4C2D-8B47-3E15CB1AAEEC}" destId="{A0863875-58BB-441D-91C4-AD1C1DD27809}" srcOrd="0" destOrd="0" presId="urn:microsoft.com/office/officeart/2005/8/layout/lProcess3"/>
    <dgm:cxn modelId="{101F9B5C-8D7C-424B-92B9-8EC6EA2551C9}" srcId="{CC543783-FAED-4071-B2D8-FB29C592E664}" destId="{BD912BC6-9E5C-4F4C-AF65-1EAD80C61EF8}" srcOrd="1" destOrd="0" parTransId="{04FC6CF0-F110-465B-98FC-9F008D0C4789}" sibTransId="{E21901CC-7449-4719-9314-FF9216BFA667}"/>
    <dgm:cxn modelId="{01056E8D-DDD1-4DC1-A7DA-463B9B85DEF9}" srcId="{BD912BC6-9E5C-4F4C-AF65-1EAD80C61EF8}" destId="{73498013-B94D-43D2-BA7B-DB32336E9780}" srcOrd="1" destOrd="0" parTransId="{21C1993E-5D8C-4C6A-94A1-68980BA710B3}" sibTransId="{5D3F87BA-8ED4-44DD-B0B5-7466B0994E66}"/>
    <dgm:cxn modelId="{46461108-C712-47FA-85D0-17AFD71FB045}" type="presOf" srcId="{8C0F2F33-99FD-499D-A123-F60FC0D9CB23}" destId="{58711F6C-7998-45D0-9879-FBF099A0AE0D}" srcOrd="0" destOrd="0" presId="urn:microsoft.com/office/officeart/2005/8/layout/lProcess3"/>
    <dgm:cxn modelId="{0C1D9E84-79E4-4338-9FB5-9DB8A6AF0193}" srcId="{F1DA8917-419E-4FE3-A4A6-05B856631AAB}" destId="{047B5EB1-6D24-4C68-B059-A1E497322C04}" srcOrd="3" destOrd="0" parTransId="{B4000367-514E-4D1B-8093-452DF3D92E7E}" sibTransId="{E3DB7293-8F25-4B8F-B829-20A704E7C2C5}"/>
    <dgm:cxn modelId="{AAF28259-741F-406C-A414-7FCDB48119D7}" srcId="{BD912BC6-9E5C-4F4C-AF65-1EAD80C61EF8}" destId="{2D0D6A15-D5C6-4C2D-8B47-3E15CB1AAEEC}" srcOrd="3" destOrd="0" parTransId="{C47391D5-69EE-4EF3-AFB5-0230264FD623}" sibTransId="{2E9BAF9C-EC28-4E41-890E-993662D39F3A}"/>
    <dgm:cxn modelId="{74D35F84-185F-475B-858F-567C16E59D7C}" type="presOf" srcId="{45990F98-89C3-4A0F-978E-5BA09DFDB031}" destId="{E21C2307-000D-4D62-B87E-3ED36AB53995}" srcOrd="0" destOrd="0" presId="urn:microsoft.com/office/officeart/2005/8/layout/lProcess3"/>
    <dgm:cxn modelId="{3E195A48-1491-40FB-802B-61283AE1428D}" type="presOf" srcId="{047B5EB1-6D24-4C68-B059-A1E497322C04}" destId="{753BC558-949D-40C1-B542-5A194E22F203}" srcOrd="0" destOrd="0" presId="urn:microsoft.com/office/officeart/2005/8/layout/lProcess3"/>
    <dgm:cxn modelId="{B94493AB-7DD4-437A-8EEE-DE937F610B04}" srcId="{CC543783-FAED-4071-B2D8-FB29C592E664}" destId="{08813FF5-EFFB-4CC6-984B-0CF78577B9FC}" srcOrd="4" destOrd="0" parTransId="{97ACFDA5-F4A4-4367-9092-6A1229A29031}" sibTransId="{F943EAE5-0682-4CCD-93AB-CC19D7574900}"/>
    <dgm:cxn modelId="{8E3E28E7-709A-4740-9CE3-184F7987E96D}" srcId="{08813FF5-EFFB-4CC6-984B-0CF78577B9FC}" destId="{1D21B09B-4269-4D9D-8535-1F225F747356}" srcOrd="3" destOrd="0" parTransId="{72A65593-745B-49F8-94EB-FE879B6A9033}" sibTransId="{8E165A0D-9DCF-4E51-B961-6D4E1B8A6CA8}"/>
    <dgm:cxn modelId="{8EBCABFA-4583-4C00-8BE5-DDDB76983DF6}" srcId="{CC543783-FAED-4071-B2D8-FB29C592E664}" destId="{03F86818-6CA7-4523-AB5F-DA9428CF50FB}" srcOrd="0" destOrd="0" parTransId="{168262E9-3247-44F5-B189-80B7877361A8}" sibTransId="{3A0BAB74-7135-4E7E-9DBE-4107820E6B07}"/>
    <dgm:cxn modelId="{606AD3C1-8BD1-4AF9-8632-A8E82733DF1B}" srcId="{08813FF5-EFFB-4CC6-984B-0CF78577B9FC}" destId="{B84DA4C1-723F-426B-BBAD-98CC554CC6AD}" srcOrd="2" destOrd="0" parTransId="{E5BC340B-438B-4930-BB87-88D18F379083}" sibTransId="{23542FEA-C215-4BD1-B957-4960C1BE5DB5}"/>
    <dgm:cxn modelId="{F4314512-92F3-4071-A458-B3F93261A5F9}" srcId="{03F86818-6CA7-4523-AB5F-DA9428CF50FB}" destId="{032A6AE5-0FA5-4740-B994-18F479AF4AFD}" srcOrd="3" destOrd="0" parTransId="{8E0ABD22-DDAD-40A0-B7F9-CB4F0FF44484}" sibTransId="{50986FA6-4F68-4DBE-8CF3-732409CE2FDB}"/>
    <dgm:cxn modelId="{31DCE1FA-C628-4711-B107-2089A5442841}" type="presOf" srcId="{D732EA19-BD48-4982-90B3-3D6E2D798B65}" destId="{813583E5-CB2C-4FD8-93A3-155E2182D803}" srcOrd="0" destOrd="0" presId="urn:microsoft.com/office/officeart/2005/8/layout/lProcess3"/>
    <dgm:cxn modelId="{3B673754-1B9A-4D82-8126-FAFB631BD12E}" srcId="{08813FF5-EFFB-4CC6-984B-0CF78577B9FC}" destId="{3981CEC2-018B-407D-9927-7B807BA024B5}" srcOrd="1" destOrd="0" parTransId="{EA446CE9-CE65-4D1D-9004-305E21AE2DAF}" sibTransId="{E765330D-1AE6-4B2D-8C22-DC40B68C7D96}"/>
    <dgm:cxn modelId="{E0BA6FF4-CF93-4897-B76F-E79B04F7836B}" srcId="{F1DA8917-419E-4FE3-A4A6-05B856631AAB}" destId="{45990F98-89C3-4A0F-978E-5BA09DFDB031}" srcOrd="1" destOrd="0" parTransId="{AEA7F0BF-6FE7-429C-BB93-6E9ED8B0313B}" sibTransId="{5E3BDCE4-E584-45AA-94A3-8C7136C627C0}"/>
    <dgm:cxn modelId="{3FDD0D24-4C07-4CDE-8359-676BFAF38E55}" type="presOf" srcId="{960A2214-D9C3-4DB9-AF40-BF663DD22668}" destId="{328783C6-20E3-4A06-8D64-21269061940E}" srcOrd="0" destOrd="0" presId="urn:microsoft.com/office/officeart/2005/8/layout/lProcess3"/>
    <dgm:cxn modelId="{D9016917-73D7-46DA-9AC1-63F8799B52F8}" srcId="{D732EA19-BD48-4982-90B3-3D6E2D798B65}" destId="{D9094002-DD18-46B1-AC35-06C5FFBB1EFA}" srcOrd="1" destOrd="0" parTransId="{28A20A7E-F668-4526-A93E-41F57FC8CB76}" sibTransId="{38E4E0FE-C510-491A-A88B-E9C1CA39EBA6}"/>
    <dgm:cxn modelId="{26EB2D82-D39D-41FE-BD79-CFE581051B7E}" srcId="{D732EA19-BD48-4982-90B3-3D6E2D798B65}" destId="{819759FD-4C1B-4571-9450-B55D19191BFB}" srcOrd="2" destOrd="0" parTransId="{297FA141-DC64-469F-AEDD-76C7986C3171}" sibTransId="{C4C014D6-84C4-4EE7-9EE7-EFAE55A9C8B5}"/>
    <dgm:cxn modelId="{C097E010-132F-46CC-85E5-40B267C05A1B}" srcId="{CC543783-FAED-4071-B2D8-FB29C592E664}" destId="{D732EA19-BD48-4982-90B3-3D6E2D798B65}" srcOrd="3" destOrd="0" parTransId="{BA0614F2-53E3-4509-9350-531472EBA693}" sibTransId="{7A4A89CE-29FA-4261-BEEF-2E2E2E17E940}"/>
    <dgm:cxn modelId="{A215AD0E-C1D4-4F5C-9CF1-9B5ACB2B5673}" type="presParOf" srcId="{B5034A3F-EF62-446E-B779-A4775DF2D51D}" destId="{16CCA934-0963-4934-9BF2-836FB129C277}" srcOrd="0" destOrd="0" presId="urn:microsoft.com/office/officeart/2005/8/layout/lProcess3"/>
    <dgm:cxn modelId="{73012985-BAC2-4706-B6FC-301E072D7194}" type="presParOf" srcId="{16CCA934-0963-4934-9BF2-836FB129C277}" destId="{86FB6F5C-79B3-41B2-B43E-07555DA9D6B2}" srcOrd="0" destOrd="0" presId="urn:microsoft.com/office/officeart/2005/8/layout/lProcess3"/>
    <dgm:cxn modelId="{E408DB68-B18B-4777-A780-421244FEB686}" type="presParOf" srcId="{16CCA934-0963-4934-9BF2-836FB129C277}" destId="{F5B193FC-97C3-4D13-9FAF-4DD82E139107}" srcOrd="1" destOrd="0" presId="urn:microsoft.com/office/officeart/2005/8/layout/lProcess3"/>
    <dgm:cxn modelId="{6FD8732B-644D-4AD0-8E4E-BA061B4C6E66}" type="presParOf" srcId="{16CCA934-0963-4934-9BF2-836FB129C277}" destId="{08742C78-DFD9-4397-B0D5-6043D2255A40}" srcOrd="2" destOrd="0" presId="urn:microsoft.com/office/officeart/2005/8/layout/lProcess3"/>
    <dgm:cxn modelId="{3E6B50D8-34A2-40DF-B4CA-BC1636A768B8}" type="presParOf" srcId="{16CCA934-0963-4934-9BF2-836FB129C277}" destId="{8E56FA49-3CC8-472E-B55C-7C39DCDAE705}" srcOrd="3" destOrd="0" presId="urn:microsoft.com/office/officeart/2005/8/layout/lProcess3"/>
    <dgm:cxn modelId="{E4FD745D-2D32-48FF-972F-1C938F9659EC}" type="presParOf" srcId="{16CCA934-0963-4934-9BF2-836FB129C277}" destId="{58F21242-A591-46FA-B2B5-5F456638DFB2}" srcOrd="4" destOrd="0" presId="urn:microsoft.com/office/officeart/2005/8/layout/lProcess3"/>
    <dgm:cxn modelId="{006896B3-67A9-4727-9FDF-651002AC856B}" type="presParOf" srcId="{16CCA934-0963-4934-9BF2-836FB129C277}" destId="{DF558EE2-600D-4C81-8907-5091658BEB66}" srcOrd="5" destOrd="0" presId="urn:microsoft.com/office/officeart/2005/8/layout/lProcess3"/>
    <dgm:cxn modelId="{B6E8A1F9-0BA2-47A0-826E-9EAA6B0A0622}" type="presParOf" srcId="{16CCA934-0963-4934-9BF2-836FB129C277}" destId="{A9EC3ACB-2082-4BC2-AA46-770D1EAE0BE7}" srcOrd="6" destOrd="0" presId="urn:microsoft.com/office/officeart/2005/8/layout/lProcess3"/>
    <dgm:cxn modelId="{442F3C15-23F6-4C64-8027-41189A6D1874}" type="presParOf" srcId="{16CCA934-0963-4934-9BF2-836FB129C277}" destId="{EEFB42E9-D30F-43FC-B82F-6EEA48DE6E18}" srcOrd="7" destOrd="0" presId="urn:microsoft.com/office/officeart/2005/8/layout/lProcess3"/>
    <dgm:cxn modelId="{4E7CBE64-A354-48F2-9B99-86B4E8B76475}" type="presParOf" srcId="{16CCA934-0963-4934-9BF2-836FB129C277}" destId="{4D3E8828-4F1C-4558-8D06-E44B0423F6C0}" srcOrd="8" destOrd="0" presId="urn:microsoft.com/office/officeart/2005/8/layout/lProcess3"/>
    <dgm:cxn modelId="{20B75A69-4184-44AC-AF17-F28709DA0F52}" type="presParOf" srcId="{B5034A3F-EF62-446E-B779-A4775DF2D51D}" destId="{CFD9616A-FFB6-4008-AAAC-2EF252B427D2}" srcOrd="1" destOrd="0" presId="urn:microsoft.com/office/officeart/2005/8/layout/lProcess3"/>
    <dgm:cxn modelId="{04B623B9-72D1-46EF-B71D-03B4B30DCA73}" type="presParOf" srcId="{B5034A3F-EF62-446E-B779-A4775DF2D51D}" destId="{8596F37D-6DBF-499B-838B-F31F58E82CDF}" srcOrd="2" destOrd="0" presId="urn:microsoft.com/office/officeart/2005/8/layout/lProcess3"/>
    <dgm:cxn modelId="{6E329C04-C522-420E-94B3-319DEDAD5494}" type="presParOf" srcId="{8596F37D-6DBF-499B-838B-F31F58E82CDF}" destId="{BC1D74BF-9ADD-4069-A6A7-99E8B5ADDB1D}" srcOrd="0" destOrd="0" presId="urn:microsoft.com/office/officeart/2005/8/layout/lProcess3"/>
    <dgm:cxn modelId="{822811CF-826C-4DB8-AFC3-00B2AC4969C6}" type="presParOf" srcId="{8596F37D-6DBF-499B-838B-F31F58E82CDF}" destId="{72849D08-C128-464B-BA96-8110084F054B}" srcOrd="1" destOrd="0" presId="urn:microsoft.com/office/officeart/2005/8/layout/lProcess3"/>
    <dgm:cxn modelId="{97C72A4D-912A-4E13-8478-16B17088194A}" type="presParOf" srcId="{8596F37D-6DBF-499B-838B-F31F58E82CDF}" destId="{58711F6C-7998-45D0-9879-FBF099A0AE0D}" srcOrd="2" destOrd="0" presId="urn:microsoft.com/office/officeart/2005/8/layout/lProcess3"/>
    <dgm:cxn modelId="{0501C3CA-D5B4-48CF-92C5-455D3521E83F}" type="presParOf" srcId="{8596F37D-6DBF-499B-838B-F31F58E82CDF}" destId="{C817B6A6-18D4-41CE-874C-E66F4C10AE75}" srcOrd="3" destOrd="0" presId="urn:microsoft.com/office/officeart/2005/8/layout/lProcess3"/>
    <dgm:cxn modelId="{75C21AF5-54E5-4B2C-9807-B61EC04EEC19}" type="presParOf" srcId="{8596F37D-6DBF-499B-838B-F31F58E82CDF}" destId="{D40E3AAB-A617-47CA-861F-74CA0BB02275}" srcOrd="4" destOrd="0" presId="urn:microsoft.com/office/officeart/2005/8/layout/lProcess3"/>
    <dgm:cxn modelId="{048DC8E1-6F45-40F7-86D8-FD8CF10C264A}" type="presParOf" srcId="{8596F37D-6DBF-499B-838B-F31F58E82CDF}" destId="{EA6494BE-02A0-4CA4-8B66-EE8FED8F3CF2}" srcOrd="5" destOrd="0" presId="urn:microsoft.com/office/officeart/2005/8/layout/lProcess3"/>
    <dgm:cxn modelId="{1F318E23-C5EE-481F-B37B-28EDDDE0AD4C}" type="presParOf" srcId="{8596F37D-6DBF-499B-838B-F31F58E82CDF}" destId="{7B8A6BD4-FA17-4F76-8217-4D38ECE73974}" srcOrd="6" destOrd="0" presId="urn:microsoft.com/office/officeart/2005/8/layout/lProcess3"/>
    <dgm:cxn modelId="{609DCB13-248A-46BA-8BCD-74414F3A9B0A}" type="presParOf" srcId="{8596F37D-6DBF-499B-838B-F31F58E82CDF}" destId="{3FD11D4B-0C34-4F11-8517-525E3D9961D8}" srcOrd="7" destOrd="0" presId="urn:microsoft.com/office/officeart/2005/8/layout/lProcess3"/>
    <dgm:cxn modelId="{8C4A5645-F9F9-458E-87A6-A7FF0B4E2843}" type="presParOf" srcId="{8596F37D-6DBF-499B-838B-F31F58E82CDF}" destId="{A0863875-58BB-441D-91C4-AD1C1DD27809}" srcOrd="8" destOrd="0" presId="urn:microsoft.com/office/officeart/2005/8/layout/lProcess3"/>
    <dgm:cxn modelId="{F99BA412-77D8-4896-BD88-2BF418C9FF3D}" type="presParOf" srcId="{B5034A3F-EF62-446E-B779-A4775DF2D51D}" destId="{92E492A7-E57E-486E-9D30-D88582BAEA77}" srcOrd="3" destOrd="0" presId="urn:microsoft.com/office/officeart/2005/8/layout/lProcess3"/>
    <dgm:cxn modelId="{08D2FD0A-F98A-4716-BEF3-DEFC58E2F303}" type="presParOf" srcId="{B5034A3F-EF62-446E-B779-A4775DF2D51D}" destId="{42F1DEF2-CE24-4C5E-B746-D5D84BE8A00C}" srcOrd="4" destOrd="0" presId="urn:microsoft.com/office/officeart/2005/8/layout/lProcess3"/>
    <dgm:cxn modelId="{5E6D7877-6741-43D7-A7EF-463ED5CB0B44}" type="presParOf" srcId="{42F1DEF2-CE24-4C5E-B746-D5D84BE8A00C}" destId="{58F3F7C5-361C-48FC-B236-4DD5C4EB1924}" srcOrd="0" destOrd="0" presId="urn:microsoft.com/office/officeart/2005/8/layout/lProcess3"/>
    <dgm:cxn modelId="{AECBA2EF-A227-4C1F-AF5C-64C25C586C45}" type="presParOf" srcId="{42F1DEF2-CE24-4C5E-B746-D5D84BE8A00C}" destId="{ADE19671-F139-4C59-AC1E-765512671B82}" srcOrd="1" destOrd="0" presId="urn:microsoft.com/office/officeart/2005/8/layout/lProcess3"/>
    <dgm:cxn modelId="{2810AEB9-9CFA-4D7F-8227-DF7A4E120E01}" type="presParOf" srcId="{42F1DEF2-CE24-4C5E-B746-D5D84BE8A00C}" destId="{83D35EEF-2A9B-489A-A5E5-3851BC41E755}" srcOrd="2" destOrd="0" presId="urn:microsoft.com/office/officeart/2005/8/layout/lProcess3"/>
    <dgm:cxn modelId="{C7B444D1-2E68-4688-B4B4-B8B3388D7129}" type="presParOf" srcId="{42F1DEF2-CE24-4C5E-B746-D5D84BE8A00C}" destId="{A488512D-C841-44EF-9F52-9AF6EB5D5F41}" srcOrd="3" destOrd="0" presId="urn:microsoft.com/office/officeart/2005/8/layout/lProcess3"/>
    <dgm:cxn modelId="{6216C314-F0D3-4688-BA89-2E11ABE378AB}" type="presParOf" srcId="{42F1DEF2-CE24-4C5E-B746-D5D84BE8A00C}" destId="{E21C2307-000D-4D62-B87E-3ED36AB53995}" srcOrd="4" destOrd="0" presId="urn:microsoft.com/office/officeart/2005/8/layout/lProcess3"/>
    <dgm:cxn modelId="{4D5E816C-20C7-421B-A50C-C0DFBD333AFF}" type="presParOf" srcId="{42F1DEF2-CE24-4C5E-B746-D5D84BE8A00C}" destId="{687A7184-591E-4F0E-A90D-A0F02B0172E2}" srcOrd="5" destOrd="0" presId="urn:microsoft.com/office/officeart/2005/8/layout/lProcess3"/>
    <dgm:cxn modelId="{FCC1A8F5-3366-4C57-AAE0-89F9A7DA37C8}" type="presParOf" srcId="{42F1DEF2-CE24-4C5E-B746-D5D84BE8A00C}" destId="{A83BF36D-6BBD-4708-927F-E822D228F2D1}" srcOrd="6" destOrd="0" presId="urn:microsoft.com/office/officeart/2005/8/layout/lProcess3"/>
    <dgm:cxn modelId="{B1891AA6-59F4-4A41-AD6C-C5C5D25F30C0}" type="presParOf" srcId="{42F1DEF2-CE24-4C5E-B746-D5D84BE8A00C}" destId="{FC7B46E9-E25B-44DD-AFD2-D61853822143}" srcOrd="7" destOrd="0" presId="urn:microsoft.com/office/officeart/2005/8/layout/lProcess3"/>
    <dgm:cxn modelId="{7756E07C-26A8-4419-9EF0-86092B822F74}" type="presParOf" srcId="{42F1DEF2-CE24-4C5E-B746-D5D84BE8A00C}" destId="{753BC558-949D-40C1-B542-5A194E22F203}" srcOrd="8" destOrd="0" presId="urn:microsoft.com/office/officeart/2005/8/layout/lProcess3"/>
    <dgm:cxn modelId="{ECC24A17-5859-47FA-8E95-DF4F42DDC160}" type="presParOf" srcId="{B5034A3F-EF62-446E-B779-A4775DF2D51D}" destId="{8651E546-092C-4C05-8D5A-DEB33ABA9005}" srcOrd="5" destOrd="0" presId="urn:microsoft.com/office/officeart/2005/8/layout/lProcess3"/>
    <dgm:cxn modelId="{27B10412-172B-43EF-8468-0C4D2B696994}" type="presParOf" srcId="{B5034A3F-EF62-446E-B779-A4775DF2D51D}" destId="{0A60F3CA-5BC6-4ED0-909D-C9CFE2F20E07}" srcOrd="6" destOrd="0" presId="urn:microsoft.com/office/officeart/2005/8/layout/lProcess3"/>
    <dgm:cxn modelId="{80A6C4F9-4900-4F07-A66E-3EF83A3B67B7}" type="presParOf" srcId="{0A60F3CA-5BC6-4ED0-909D-C9CFE2F20E07}" destId="{813583E5-CB2C-4FD8-93A3-155E2182D803}" srcOrd="0" destOrd="0" presId="urn:microsoft.com/office/officeart/2005/8/layout/lProcess3"/>
    <dgm:cxn modelId="{A209C63A-5AF9-4525-9B50-EDC2DCEEF9CD}" type="presParOf" srcId="{0A60F3CA-5BC6-4ED0-909D-C9CFE2F20E07}" destId="{255C398F-6862-4B1B-B1D6-6EAD1FFBFE3C}" srcOrd="1" destOrd="0" presId="urn:microsoft.com/office/officeart/2005/8/layout/lProcess3"/>
    <dgm:cxn modelId="{919710B9-CA93-455E-B172-33DD7652BDAA}" type="presParOf" srcId="{0A60F3CA-5BC6-4ED0-909D-C9CFE2F20E07}" destId="{2B937DCC-104D-4C10-A35F-720D4C4B8AAB}" srcOrd="2" destOrd="0" presId="urn:microsoft.com/office/officeart/2005/8/layout/lProcess3"/>
    <dgm:cxn modelId="{3FC97BE0-59C9-4DC0-847D-82356114C2FA}" type="presParOf" srcId="{0A60F3CA-5BC6-4ED0-909D-C9CFE2F20E07}" destId="{D8C4A96D-7BD6-4432-8392-45AD84E11836}" srcOrd="3" destOrd="0" presId="urn:microsoft.com/office/officeart/2005/8/layout/lProcess3"/>
    <dgm:cxn modelId="{90D663AB-D8BA-4BCD-9E8B-716270AE1AB3}" type="presParOf" srcId="{0A60F3CA-5BC6-4ED0-909D-C9CFE2F20E07}" destId="{A7FEEE86-61FA-478F-88E1-A6CCD4282594}" srcOrd="4" destOrd="0" presId="urn:microsoft.com/office/officeart/2005/8/layout/lProcess3"/>
    <dgm:cxn modelId="{02268F17-B24C-4D3F-9560-051FE4DFEDBD}" type="presParOf" srcId="{0A60F3CA-5BC6-4ED0-909D-C9CFE2F20E07}" destId="{56055B87-74E6-47AF-BC0F-1F17C0A3E6CD}" srcOrd="5" destOrd="0" presId="urn:microsoft.com/office/officeart/2005/8/layout/lProcess3"/>
    <dgm:cxn modelId="{D5CBCF61-B1D4-42FD-9DD5-4554391063AC}" type="presParOf" srcId="{0A60F3CA-5BC6-4ED0-909D-C9CFE2F20E07}" destId="{51AFC78C-4C3E-4A07-9AD1-1D4AFCBE9D49}" srcOrd="6" destOrd="0" presId="urn:microsoft.com/office/officeart/2005/8/layout/lProcess3"/>
    <dgm:cxn modelId="{13607758-9988-4FD0-9147-99FDC49A3C44}" type="presParOf" srcId="{0A60F3CA-5BC6-4ED0-909D-C9CFE2F20E07}" destId="{99415689-AE85-4571-9883-4E6716E95716}" srcOrd="7" destOrd="0" presId="urn:microsoft.com/office/officeart/2005/8/layout/lProcess3"/>
    <dgm:cxn modelId="{86989D70-9DBD-4752-8BF2-357B0FE82E00}" type="presParOf" srcId="{0A60F3CA-5BC6-4ED0-909D-C9CFE2F20E07}" destId="{328783C6-20E3-4A06-8D64-21269061940E}" srcOrd="8" destOrd="0" presId="urn:microsoft.com/office/officeart/2005/8/layout/lProcess3"/>
    <dgm:cxn modelId="{F96385D1-FC8F-447B-A9F3-2770E0305B97}" type="presParOf" srcId="{B5034A3F-EF62-446E-B779-A4775DF2D51D}" destId="{3623F81D-5DFC-4934-ADB1-7CD970FDA5D2}" srcOrd="7" destOrd="0" presId="urn:microsoft.com/office/officeart/2005/8/layout/lProcess3"/>
    <dgm:cxn modelId="{F5CFFC9E-C37D-478F-9CAE-657D14517149}" type="presParOf" srcId="{B5034A3F-EF62-446E-B779-A4775DF2D51D}" destId="{A98AB1EA-6C03-45C1-969F-2B66A2DAC61F}" srcOrd="8" destOrd="0" presId="urn:microsoft.com/office/officeart/2005/8/layout/lProcess3"/>
    <dgm:cxn modelId="{D652439A-9803-4889-878D-172EA5D7D850}" type="presParOf" srcId="{A98AB1EA-6C03-45C1-969F-2B66A2DAC61F}" destId="{F991B7A5-8195-40E5-835B-F0A6025C77B2}" srcOrd="0" destOrd="0" presId="urn:microsoft.com/office/officeart/2005/8/layout/lProcess3"/>
    <dgm:cxn modelId="{46903BA5-A5B9-41AF-97E8-3144B16A5FA5}" type="presParOf" srcId="{A98AB1EA-6C03-45C1-969F-2B66A2DAC61F}" destId="{83BD8171-5BED-48E1-9BF2-CCE500C4A075}" srcOrd="1" destOrd="0" presId="urn:microsoft.com/office/officeart/2005/8/layout/lProcess3"/>
    <dgm:cxn modelId="{0B20CED5-4643-48F1-96AD-C01192DDB48A}" type="presParOf" srcId="{A98AB1EA-6C03-45C1-969F-2B66A2DAC61F}" destId="{158C5E89-0133-465C-A73E-4806D9364DBA}" srcOrd="2" destOrd="0" presId="urn:microsoft.com/office/officeart/2005/8/layout/lProcess3"/>
    <dgm:cxn modelId="{D6B26E63-61C3-45D5-BFB7-879D94C2EDFD}" type="presParOf" srcId="{A98AB1EA-6C03-45C1-969F-2B66A2DAC61F}" destId="{876F0861-F3BF-4ACD-B590-5DB7A850A43D}" srcOrd="3" destOrd="0" presId="urn:microsoft.com/office/officeart/2005/8/layout/lProcess3"/>
    <dgm:cxn modelId="{8ADC29FA-CEB8-407B-A131-769F5AD811B9}" type="presParOf" srcId="{A98AB1EA-6C03-45C1-969F-2B66A2DAC61F}" destId="{B8A6FA5D-4F4E-4130-B15B-2F156352A59D}" srcOrd="4" destOrd="0" presId="urn:microsoft.com/office/officeart/2005/8/layout/lProcess3"/>
    <dgm:cxn modelId="{F6A05B5D-47D7-4098-BC41-EFA337B7DFF7}" type="presParOf" srcId="{A98AB1EA-6C03-45C1-969F-2B66A2DAC61F}" destId="{CEBA5FA6-D54A-40A4-81CD-58EB162236CA}" srcOrd="5" destOrd="0" presId="urn:microsoft.com/office/officeart/2005/8/layout/lProcess3"/>
    <dgm:cxn modelId="{9A3E490C-A408-4E13-8D24-705B6FE9817C}" type="presParOf" srcId="{A98AB1EA-6C03-45C1-969F-2B66A2DAC61F}" destId="{4DF96293-C437-4525-8DF6-F89A17A02372}" srcOrd="6" destOrd="0" presId="urn:microsoft.com/office/officeart/2005/8/layout/lProcess3"/>
    <dgm:cxn modelId="{DB422F71-77FB-453C-A713-AD172843CFCF}" type="presParOf" srcId="{A98AB1EA-6C03-45C1-969F-2B66A2DAC61F}" destId="{F2EFFC55-82C8-48B6-BFB0-0908CF9184C3}" srcOrd="7" destOrd="0" presId="urn:microsoft.com/office/officeart/2005/8/layout/lProcess3"/>
    <dgm:cxn modelId="{1F139C42-70B6-446F-A090-483F69208C5B}" type="presParOf" srcId="{A98AB1EA-6C03-45C1-969F-2B66A2DAC61F}" destId="{F83E656A-D389-423D-978C-541EEB62E365}" srcOrd="8" destOrd="0" presId="urn:microsoft.com/office/officeart/2005/8/layout/lProcess3"/>
  </dgm:cxnLst>
  <dgm:bg/>
  <dgm:whole/>
</dgm:dataModel>
</file>

<file path=ppt/diagrams/data6.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03F86818-6CA7-4523-AB5F-DA9428CF50FB}">
      <dgm:prSet phldrT="[Texto]"/>
      <dgm:spPr/>
      <dgm:t>
        <a:bodyPr/>
        <a:lstStyle/>
        <a:p>
          <a:r>
            <a:rPr lang="es-ES" sz="2000" dirty="0" smtClean="0"/>
            <a:t>actividades </a:t>
          </a:r>
          <a:r>
            <a:rPr lang="es-ES" dirty="0" smtClean="0"/>
            <a:t>primarias</a:t>
          </a:r>
          <a:endParaRPr lang="es-ES" sz="2000" dirty="0"/>
        </a:p>
      </dgm:t>
    </dgm:pt>
    <dgm:pt modelId="{168262E9-3247-44F5-B189-80B7877361A8}" type="parTrans" cxnId="{8EBCABFA-4583-4C00-8BE5-DDDB76983DF6}">
      <dgm:prSet/>
      <dgm:spPr/>
      <dgm:t>
        <a:bodyPr/>
        <a:lstStyle/>
        <a:p>
          <a:endParaRPr lang="es-ES"/>
        </a:p>
      </dgm:t>
    </dgm:pt>
    <dgm:pt modelId="{3A0BAB74-7135-4E7E-9DBE-4107820E6B07}" type="sibTrans" cxnId="{8EBCABFA-4583-4C00-8BE5-DDDB76983DF6}">
      <dgm:prSet/>
      <dgm:spPr/>
      <dgm:t>
        <a:bodyPr/>
        <a:lstStyle/>
        <a:p>
          <a:endParaRPr lang="es-ES"/>
        </a:p>
      </dgm:t>
    </dgm:pt>
    <dgm:pt modelId="{AFBF3760-29BC-464D-A7C2-8A13403DA790}">
      <dgm:prSet phldrT="[Texto]" custT="1"/>
      <dgm:spPr/>
      <dgm:t>
        <a:bodyPr/>
        <a:lstStyle/>
        <a:p>
          <a:r>
            <a:rPr lang="es-ES" sz="1800" dirty="0" smtClean="0"/>
            <a:t>Compra de aceitunas</a:t>
          </a:r>
          <a:endParaRPr lang="es-ES" sz="1800" dirty="0"/>
        </a:p>
      </dgm:t>
    </dgm:pt>
    <dgm:pt modelId="{8E704648-FC5D-47E9-B03F-C50ABE129111}" type="parTrans" cxnId="{71AFC08A-3265-44C6-AF79-C4FBE8F37A72}">
      <dgm:prSet/>
      <dgm:spPr/>
      <dgm:t>
        <a:bodyPr/>
        <a:lstStyle/>
        <a:p>
          <a:endParaRPr lang="es-ES"/>
        </a:p>
      </dgm:t>
    </dgm:pt>
    <dgm:pt modelId="{949DBB83-8E5F-4FF9-943A-66290B295683}" type="sibTrans" cxnId="{71AFC08A-3265-44C6-AF79-C4FBE8F37A72}">
      <dgm:prSet/>
      <dgm:spPr/>
      <dgm:t>
        <a:bodyPr/>
        <a:lstStyle/>
        <a:p>
          <a:endParaRPr lang="es-ES"/>
        </a:p>
      </dgm:t>
    </dgm:pt>
    <dgm:pt modelId="{032A6AE5-0FA5-4740-B994-18F479AF4AFD}">
      <dgm:prSet phldrT="[Texto]" custT="1"/>
      <dgm:spPr/>
      <dgm:t>
        <a:bodyPr/>
        <a:lstStyle/>
        <a:p>
          <a:r>
            <a:rPr lang="es-ES" sz="1600" dirty="0" smtClean="0"/>
            <a:t>Almacenado de la aceituna</a:t>
          </a:r>
          <a:endParaRPr lang="es-ES" sz="1600" dirty="0"/>
        </a:p>
      </dgm:t>
    </dgm:pt>
    <dgm:pt modelId="{8E0ABD22-DDAD-40A0-B7F9-CB4F0FF44484}" type="parTrans" cxnId="{F4314512-92F3-4071-A458-B3F93261A5F9}">
      <dgm:prSet/>
      <dgm:spPr/>
      <dgm:t>
        <a:bodyPr/>
        <a:lstStyle/>
        <a:p>
          <a:endParaRPr lang="es-ES"/>
        </a:p>
      </dgm:t>
    </dgm:pt>
    <dgm:pt modelId="{50986FA6-4F68-4DBE-8CF3-732409CE2FDB}" type="sibTrans" cxnId="{F4314512-92F3-4071-A458-B3F93261A5F9}">
      <dgm:prSet/>
      <dgm:spPr/>
      <dgm:t>
        <a:bodyPr/>
        <a:lstStyle/>
        <a:p>
          <a:endParaRPr lang="es-ES"/>
        </a:p>
      </dgm:t>
    </dgm:pt>
    <dgm:pt modelId="{661D6BAC-6C45-473B-80BB-FE7423CDBA2F}">
      <dgm:prSet custT="1"/>
      <dgm:spPr/>
      <dgm:t>
        <a:bodyPr/>
        <a:lstStyle/>
        <a:p>
          <a:r>
            <a:rPr lang="es-ES" sz="1800" dirty="0" smtClean="0"/>
            <a:t>Limpiado de la aceituna</a:t>
          </a:r>
          <a:endParaRPr lang="es-ES" sz="1800" dirty="0"/>
        </a:p>
      </dgm:t>
    </dgm:pt>
    <dgm:pt modelId="{850B7FD3-D603-41DD-A2E0-DDAB0E83C016}" type="parTrans" cxnId="{062A04C9-8FB5-4C5E-8006-94E7D620D91B}">
      <dgm:prSet/>
      <dgm:spPr/>
      <dgm:t>
        <a:bodyPr/>
        <a:lstStyle/>
        <a:p>
          <a:endParaRPr lang="es-ES"/>
        </a:p>
      </dgm:t>
    </dgm:pt>
    <dgm:pt modelId="{BDA25AC2-41BB-4BE3-8C31-A3D4E963A66A}" type="sibTrans" cxnId="{062A04C9-8FB5-4C5E-8006-94E7D620D91B}">
      <dgm:prSet/>
      <dgm:spPr/>
      <dgm:t>
        <a:bodyPr/>
        <a:lstStyle/>
        <a:p>
          <a:endParaRPr lang="es-ES"/>
        </a:p>
      </dgm:t>
    </dgm:pt>
    <dgm:pt modelId="{2D6F9BC4-9EC0-4B31-848F-F74F1162B2A3}">
      <dgm:prSet custT="1"/>
      <dgm:spPr/>
      <dgm:t>
        <a:bodyPr/>
        <a:lstStyle/>
        <a:p>
          <a:r>
            <a:rPr lang="es-ES" sz="1600" dirty="0" smtClean="0"/>
            <a:t>Recolección de la muestra y pesado</a:t>
          </a:r>
          <a:endParaRPr lang="es-ES" sz="1600" dirty="0"/>
        </a:p>
      </dgm:t>
    </dgm:pt>
    <dgm:pt modelId="{20E382F1-E859-4501-8E0D-8E8D3423E09D}" type="parTrans" cxnId="{F62A49E6-02E7-4A3F-93ED-C4D9A4E1A10C}">
      <dgm:prSet/>
      <dgm:spPr/>
      <dgm:t>
        <a:bodyPr/>
        <a:lstStyle/>
        <a:p>
          <a:endParaRPr lang="es-ES"/>
        </a:p>
      </dgm:t>
    </dgm:pt>
    <dgm:pt modelId="{6379D94D-09D1-48AC-8919-1758B1A418D2}" type="sibTrans" cxnId="{F62A49E6-02E7-4A3F-93ED-C4D9A4E1A10C}">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16CCA934-0963-4934-9BF2-836FB129C277}" type="pres">
      <dgm:prSet presAssocID="{03F86818-6CA7-4523-AB5F-DA9428CF50FB}" presName="horFlow" presStyleCnt="0"/>
      <dgm:spPr/>
    </dgm:pt>
    <dgm:pt modelId="{86FB6F5C-79B3-41B2-B43E-07555DA9D6B2}" type="pres">
      <dgm:prSet presAssocID="{03F86818-6CA7-4523-AB5F-DA9428CF50FB}" presName="bigChev" presStyleLbl="node1" presStyleIdx="0" presStyleCnt="1" custLinFactNeighborX="-385" custLinFactNeighborY="1827"/>
      <dgm:spPr/>
      <dgm:t>
        <a:bodyPr/>
        <a:lstStyle/>
        <a:p>
          <a:endParaRPr lang="es-ES"/>
        </a:p>
      </dgm:t>
    </dgm:pt>
    <dgm:pt modelId="{F5B193FC-97C3-4D13-9FAF-4DD82E139107}" type="pres">
      <dgm:prSet presAssocID="{8E704648-FC5D-47E9-B03F-C50ABE129111}" presName="parTrans" presStyleCnt="0"/>
      <dgm:spPr/>
    </dgm:pt>
    <dgm:pt modelId="{08742C78-DFD9-4397-B0D5-6043D2255A40}" type="pres">
      <dgm:prSet presAssocID="{AFBF3760-29BC-464D-A7C2-8A13403DA790}" presName="node" presStyleLbl="alignAccFollowNode1" presStyleIdx="0" presStyleCnt="4">
        <dgm:presLayoutVars>
          <dgm:bulletEnabled val="1"/>
        </dgm:presLayoutVars>
      </dgm:prSet>
      <dgm:spPr/>
      <dgm:t>
        <a:bodyPr/>
        <a:lstStyle/>
        <a:p>
          <a:endParaRPr lang="es-ES"/>
        </a:p>
      </dgm:t>
    </dgm:pt>
    <dgm:pt modelId="{8E56FA49-3CC8-472E-B55C-7C39DCDAE705}" type="pres">
      <dgm:prSet presAssocID="{949DBB83-8E5F-4FF9-943A-66290B295683}" presName="sibTrans" presStyleCnt="0"/>
      <dgm:spPr/>
    </dgm:pt>
    <dgm:pt modelId="{58F21242-A591-46FA-B2B5-5F456638DFB2}" type="pres">
      <dgm:prSet presAssocID="{661D6BAC-6C45-473B-80BB-FE7423CDBA2F}" presName="node" presStyleLbl="alignAccFollowNode1" presStyleIdx="1" presStyleCnt="4">
        <dgm:presLayoutVars>
          <dgm:bulletEnabled val="1"/>
        </dgm:presLayoutVars>
      </dgm:prSet>
      <dgm:spPr/>
      <dgm:t>
        <a:bodyPr/>
        <a:lstStyle/>
        <a:p>
          <a:endParaRPr lang="es-ES"/>
        </a:p>
      </dgm:t>
    </dgm:pt>
    <dgm:pt modelId="{DF558EE2-600D-4C81-8907-5091658BEB66}" type="pres">
      <dgm:prSet presAssocID="{BDA25AC2-41BB-4BE3-8C31-A3D4E963A66A}" presName="sibTrans" presStyleCnt="0"/>
      <dgm:spPr/>
    </dgm:pt>
    <dgm:pt modelId="{A9EC3ACB-2082-4BC2-AA46-770D1EAE0BE7}" type="pres">
      <dgm:prSet presAssocID="{2D6F9BC4-9EC0-4B31-848F-F74F1162B2A3}" presName="node" presStyleLbl="alignAccFollowNode1" presStyleIdx="2" presStyleCnt="4">
        <dgm:presLayoutVars>
          <dgm:bulletEnabled val="1"/>
        </dgm:presLayoutVars>
      </dgm:prSet>
      <dgm:spPr/>
      <dgm:t>
        <a:bodyPr/>
        <a:lstStyle/>
        <a:p>
          <a:endParaRPr lang="es-ES"/>
        </a:p>
      </dgm:t>
    </dgm:pt>
    <dgm:pt modelId="{EEFB42E9-D30F-43FC-B82F-6EEA48DE6E18}" type="pres">
      <dgm:prSet presAssocID="{6379D94D-09D1-48AC-8919-1758B1A418D2}" presName="sibTrans" presStyleCnt="0"/>
      <dgm:spPr/>
    </dgm:pt>
    <dgm:pt modelId="{4D3E8828-4F1C-4558-8D06-E44B0423F6C0}" type="pres">
      <dgm:prSet presAssocID="{032A6AE5-0FA5-4740-B994-18F479AF4AFD}" presName="node" presStyleLbl="alignAccFollowNode1" presStyleIdx="3" presStyleCnt="4">
        <dgm:presLayoutVars>
          <dgm:bulletEnabled val="1"/>
        </dgm:presLayoutVars>
      </dgm:prSet>
      <dgm:spPr/>
      <dgm:t>
        <a:bodyPr/>
        <a:lstStyle/>
        <a:p>
          <a:endParaRPr lang="es-ES"/>
        </a:p>
      </dgm:t>
    </dgm:pt>
  </dgm:ptLst>
  <dgm:cxnLst>
    <dgm:cxn modelId="{798F5AC0-B676-470F-8522-542AA586D6C3}" type="presOf" srcId="{AFBF3760-29BC-464D-A7C2-8A13403DA790}" destId="{08742C78-DFD9-4397-B0D5-6043D2255A40}" srcOrd="0" destOrd="0" presId="urn:microsoft.com/office/officeart/2005/8/layout/lProcess3"/>
    <dgm:cxn modelId="{71AFC08A-3265-44C6-AF79-C4FBE8F37A72}" srcId="{03F86818-6CA7-4523-AB5F-DA9428CF50FB}" destId="{AFBF3760-29BC-464D-A7C2-8A13403DA790}" srcOrd="0" destOrd="0" parTransId="{8E704648-FC5D-47E9-B03F-C50ABE129111}" sibTransId="{949DBB83-8E5F-4FF9-943A-66290B295683}"/>
    <dgm:cxn modelId="{3CC8D962-7808-4CF4-87E9-96FFFD106FAC}" type="presOf" srcId="{CC543783-FAED-4071-B2D8-FB29C592E664}" destId="{B5034A3F-EF62-446E-B779-A4775DF2D51D}" srcOrd="0" destOrd="0" presId="urn:microsoft.com/office/officeart/2005/8/layout/lProcess3"/>
    <dgm:cxn modelId="{ABD51A43-E9C0-46BF-9129-571EA69EDE1B}" type="presOf" srcId="{03F86818-6CA7-4523-AB5F-DA9428CF50FB}" destId="{86FB6F5C-79B3-41B2-B43E-07555DA9D6B2}" srcOrd="0" destOrd="0" presId="urn:microsoft.com/office/officeart/2005/8/layout/lProcess3"/>
    <dgm:cxn modelId="{F4314512-92F3-4071-A458-B3F93261A5F9}" srcId="{03F86818-6CA7-4523-AB5F-DA9428CF50FB}" destId="{032A6AE5-0FA5-4740-B994-18F479AF4AFD}" srcOrd="3" destOrd="0" parTransId="{8E0ABD22-DDAD-40A0-B7F9-CB4F0FF44484}" sibTransId="{50986FA6-4F68-4DBE-8CF3-732409CE2FDB}"/>
    <dgm:cxn modelId="{8EBCABFA-4583-4C00-8BE5-DDDB76983DF6}" srcId="{CC543783-FAED-4071-B2D8-FB29C592E664}" destId="{03F86818-6CA7-4523-AB5F-DA9428CF50FB}" srcOrd="0" destOrd="0" parTransId="{168262E9-3247-44F5-B189-80B7877361A8}" sibTransId="{3A0BAB74-7135-4E7E-9DBE-4107820E6B07}"/>
    <dgm:cxn modelId="{76A0A979-05E8-4AC8-9B03-780867A28DFD}" type="presOf" srcId="{2D6F9BC4-9EC0-4B31-848F-F74F1162B2A3}" destId="{A9EC3ACB-2082-4BC2-AA46-770D1EAE0BE7}" srcOrd="0" destOrd="0" presId="urn:microsoft.com/office/officeart/2005/8/layout/lProcess3"/>
    <dgm:cxn modelId="{F62A49E6-02E7-4A3F-93ED-C4D9A4E1A10C}" srcId="{03F86818-6CA7-4523-AB5F-DA9428CF50FB}" destId="{2D6F9BC4-9EC0-4B31-848F-F74F1162B2A3}" srcOrd="2" destOrd="0" parTransId="{20E382F1-E859-4501-8E0D-8E8D3423E09D}" sibTransId="{6379D94D-09D1-48AC-8919-1758B1A418D2}"/>
    <dgm:cxn modelId="{062A04C9-8FB5-4C5E-8006-94E7D620D91B}" srcId="{03F86818-6CA7-4523-AB5F-DA9428CF50FB}" destId="{661D6BAC-6C45-473B-80BB-FE7423CDBA2F}" srcOrd="1" destOrd="0" parTransId="{850B7FD3-D603-41DD-A2E0-DDAB0E83C016}" sibTransId="{BDA25AC2-41BB-4BE3-8C31-A3D4E963A66A}"/>
    <dgm:cxn modelId="{83AAA405-6839-46AC-A2F5-4C702AADCF29}" type="presOf" srcId="{032A6AE5-0FA5-4740-B994-18F479AF4AFD}" destId="{4D3E8828-4F1C-4558-8D06-E44B0423F6C0}" srcOrd="0" destOrd="0" presId="urn:microsoft.com/office/officeart/2005/8/layout/lProcess3"/>
    <dgm:cxn modelId="{B514A672-53DD-486B-8984-A58FC8D4347C}" type="presOf" srcId="{661D6BAC-6C45-473B-80BB-FE7423CDBA2F}" destId="{58F21242-A591-46FA-B2B5-5F456638DFB2}" srcOrd="0" destOrd="0" presId="urn:microsoft.com/office/officeart/2005/8/layout/lProcess3"/>
    <dgm:cxn modelId="{667DA1F5-BCED-4D27-9707-2B06BA1B8F57}" type="presParOf" srcId="{B5034A3F-EF62-446E-B779-A4775DF2D51D}" destId="{16CCA934-0963-4934-9BF2-836FB129C277}" srcOrd="0" destOrd="0" presId="urn:microsoft.com/office/officeart/2005/8/layout/lProcess3"/>
    <dgm:cxn modelId="{32A76834-3AB2-49A9-9D7B-685C4D0CAE31}" type="presParOf" srcId="{16CCA934-0963-4934-9BF2-836FB129C277}" destId="{86FB6F5C-79B3-41B2-B43E-07555DA9D6B2}" srcOrd="0" destOrd="0" presId="urn:microsoft.com/office/officeart/2005/8/layout/lProcess3"/>
    <dgm:cxn modelId="{5AE09B5B-6377-4884-8758-2F7613E97C47}" type="presParOf" srcId="{16CCA934-0963-4934-9BF2-836FB129C277}" destId="{F5B193FC-97C3-4D13-9FAF-4DD82E139107}" srcOrd="1" destOrd="0" presId="urn:microsoft.com/office/officeart/2005/8/layout/lProcess3"/>
    <dgm:cxn modelId="{6254D8E8-F50C-41F1-850E-ED01BCF93DA2}" type="presParOf" srcId="{16CCA934-0963-4934-9BF2-836FB129C277}" destId="{08742C78-DFD9-4397-B0D5-6043D2255A40}" srcOrd="2" destOrd="0" presId="urn:microsoft.com/office/officeart/2005/8/layout/lProcess3"/>
    <dgm:cxn modelId="{44CF07E9-887E-4B6D-865D-E48F728E99DC}" type="presParOf" srcId="{16CCA934-0963-4934-9BF2-836FB129C277}" destId="{8E56FA49-3CC8-472E-B55C-7C39DCDAE705}" srcOrd="3" destOrd="0" presId="urn:microsoft.com/office/officeart/2005/8/layout/lProcess3"/>
    <dgm:cxn modelId="{BE7256A5-7301-4529-8463-22F3F2E90B2F}" type="presParOf" srcId="{16CCA934-0963-4934-9BF2-836FB129C277}" destId="{58F21242-A591-46FA-B2B5-5F456638DFB2}" srcOrd="4" destOrd="0" presId="urn:microsoft.com/office/officeart/2005/8/layout/lProcess3"/>
    <dgm:cxn modelId="{9BC742C3-D404-42B9-B60B-7A2950258BAB}" type="presParOf" srcId="{16CCA934-0963-4934-9BF2-836FB129C277}" destId="{DF558EE2-600D-4C81-8907-5091658BEB66}" srcOrd="5" destOrd="0" presId="urn:microsoft.com/office/officeart/2005/8/layout/lProcess3"/>
    <dgm:cxn modelId="{BF8B4C01-FE53-407E-8F41-D986099FDC86}" type="presParOf" srcId="{16CCA934-0963-4934-9BF2-836FB129C277}" destId="{A9EC3ACB-2082-4BC2-AA46-770D1EAE0BE7}" srcOrd="6" destOrd="0" presId="urn:microsoft.com/office/officeart/2005/8/layout/lProcess3"/>
    <dgm:cxn modelId="{E26885F1-8FFE-4BC8-910D-2D568D5AE365}" type="presParOf" srcId="{16CCA934-0963-4934-9BF2-836FB129C277}" destId="{EEFB42E9-D30F-43FC-B82F-6EEA48DE6E18}" srcOrd="7" destOrd="0" presId="urn:microsoft.com/office/officeart/2005/8/layout/lProcess3"/>
    <dgm:cxn modelId="{A6DE6DD5-B9AF-4BE6-932D-ACB7FBA42112}" type="presParOf" srcId="{16CCA934-0963-4934-9BF2-836FB129C277}" destId="{4D3E8828-4F1C-4558-8D06-E44B0423F6C0}" srcOrd="8" destOrd="0" presId="urn:microsoft.com/office/officeart/2005/8/layout/lProcess3"/>
  </dgm:cxnLst>
  <dgm:bg/>
  <dgm:whole/>
</dgm:dataModel>
</file>

<file path=ppt/diagrams/data7.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8C0F2F33-99FD-499D-A123-F60FC0D9CB23}">
      <dgm:prSet phldrT="[Texto]" custT="1"/>
      <dgm:spPr/>
      <dgm:t>
        <a:bodyPr/>
        <a:lstStyle/>
        <a:p>
          <a:r>
            <a:rPr lang="es-ES" sz="1600" dirty="0" smtClean="0"/>
            <a:t>Molturación de la aceituna</a:t>
          </a:r>
          <a:endParaRPr lang="es-ES" sz="1600" dirty="0"/>
        </a:p>
      </dgm:t>
    </dgm:pt>
    <dgm:pt modelId="{95F3E3E6-7FAA-4F8B-B0CB-DD9BB09EECE5}" type="parTrans" cxnId="{73CDB4B8-2E28-4684-BD56-BB442501DB7B}">
      <dgm:prSet/>
      <dgm:spPr/>
      <dgm:t>
        <a:bodyPr/>
        <a:lstStyle/>
        <a:p>
          <a:endParaRPr lang="es-ES"/>
        </a:p>
      </dgm:t>
    </dgm:pt>
    <dgm:pt modelId="{A6D68B95-0108-4BF3-BF4F-A3B36C9BAE4B}" type="sibTrans" cxnId="{73CDB4B8-2E28-4684-BD56-BB442501DB7B}">
      <dgm:prSet/>
      <dgm:spPr/>
      <dgm:t>
        <a:bodyPr/>
        <a:lstStyle/>
        <a:p>
          <a:endParaRPr lang="es-ES"/>
        </a:p>
      </dgm:t>
    </dgm:pt>
    <dgm:pt modelId="{73498013-B94D-43D2-BA7B-DB32336E9780}">
      <dgm:prSet phldrT="[Texto]" custT="1"/>
      <dgm:spPr/>
      <dgm:t>
        <a:bodyPr/>
        <a:lstStyle/>
        <a:p>
          <a:r>
            <a:rPr lang="es-ES" sz="1600" dirty="0" smtClean="0"/>
            <a:t>Sistema de batido</a:t>
          </a:r>
          <a:endParaRPr lang="es-ES" sz="1600" dirty="0"/>
        </a:p>
      </dgm:t>
    </dgm:pt>
    <dgm:pt modelId="{21C1993E-5D8C-4C6A-94A1-68980BA710B3}" type="parTrans" cxnId="{01056E8D-DDD1-4DC1-A7DA-463B9B85DEF9}">
      <dgm:prSet/>
      <dgm:spPr/>
      <dgm:t>
        <a:bodyPr/>
        <a:lstStyle/>
        <a:p>
          <a:endParaRPr lang="es-ES"/>
        </a:p>
      </dgm:t>
    </dgm:pt>
    <dgm:pt modelId="{5D3F87BA-8ED4-44DD-B0B5-7466B0994E66}" type="sibTrans" cxnId="{01056E8D-DDD1-4DC1-A7DA-463B9B85DEF9}">
      <dgm:prSet/>
      <dgm:spPr/>
      <dgm:t>
        <a:bodyPr/>
        <a:lstStyle/>
        <a:p>
          <a:endParaRPr lang="es-ES"/>
        </a:p>
      </dgm:t>
    </dgm:pt>
    <dgm:pt modelId="{8DC3DE1B-39F4-4631-AF65-8F056A655AF1}">
      <dgm:prSet custT="1"/>
      <dgm:spPr/>
      <dgm:t>
        <a:bodyPr/>
        <a:lstStyle/>
        <a:p>
          <a:r>
            <a:rPr lang="es-ES" sz="1400" dirty="0" smtClean="0"/>
            <a:t>Separación del aceite de las demás sustancias</a:t>
          </a:r>
          <a:endParaRPr lang="es-ES" sz="1400" dirty="0"/>
        </a:p>
      </dgm:t>
    </dgm:pt>
    <dgm:pt modelId="{50788ED0-62A0-427C-950E-91FC10D6E847}" type="parTrans" cxnId="{72011669-DF78-4674-8656-332E3F6F1345}">
      <dgm:prSet/>
      <dgm:spPr/>
      <dgm:t>
        <a:bodyPr/>
        <a:lstStyle/>
        <a:p>
          <a:endParaRPr lang="es-ES"/>
        </a:p>
      </dgm:t>
    </dgm:pt>
    <dgm:pt modelId="{B90DAF4E-2C27-4EDB-AC00-13BAE764A9FF}" type="sibTrans" cxnId="{72011669-DF78-4674-8656-332E3F6F1345}">
      <dgm:prSet/>
      <dgm:spPr/>
      <dgm:t>
        <a:bodyPr/>
        <a:lstStyle/>
        <a:p>
          <a:endParaRPr lang="es-ES"/>
        </a:p>
      </dgm:t>
    </dgm:pt>
    <dgm:pt modelId="{2D0D6A15-D5C6-4C2D-8B47-3E15CB1AAEEC}">
      <dgm:prSet custT="1"/>
      <dgm:spPr/>
      <dgm:t>
        <a:bodyPr/>
        <a:lstStyle/>
        <a:p>
          <a:r>
            <a:rPr lang="es-ES" sz="1400" dirty="0" smtClean="0"/>
            <a:t>decantación del aceite</a:t>
          </a:r>
          <a:endParaRPr lang="es-ES" sz="1400" dirty="0"/>
        </a:p>
      </dgm:t>
    </dgm:pt>
    <dgm:pt modelId="{C47391D5-69EE-4EF3-AFB5-0230264FD623}" type="parTrans" cxnId="{AAF28259-741F-406C-A414-7FCDB48119D7}">
      <dgm:prSet/>
      <dgm:spPr/>
      <dgm:t>
        <a:bodyPr/>
        <a:lstStyle/>
        <a:p>
          <a:endParaRPr lang="es-ES"/>
        </a:p>
      </dgm:t>
    </dgm:pt>
    <dgm:pt modelId="{2E9BAF9C-EC28-4E41-890E-993662D39F3A}" type="sibTrans" cxnId="{AAF28259-741F-406C-A414-7FCDB48119D7}">
      <dgm:prSet/>
      <dgm:spPr/>
      <dgm:t>
        <a:bodyPr/>
        <a:lstStyle/>
        <a:p>
          <a:endParaRPr lang="es-ES"/>
        </a:p>
      </dgm:t>
    </dgm:pt>
    <dgm:pt modelId="{BD912BC6-9E5C-4F4C-AF65-1EAD80C61EF8}">
      <dgm:prSet phldrT="[Texto]"/>
      <dgm:spPr/>
      <dgm:t>
        <a:bodyPr/>
        <a:lstStyle/>
        <a:p>
          <a:r>
            <a:rPr lang="es-ES" dirty="0" smtClean="0"/>
            <a:t>Obtención del aceite</a:t>
          </a:r>
          <a:endParaRPr lang="es-ES" dirty="0"/>
        </a:p>
      </dgm:t>
    </dgm:pt>
    <dgm:pt modelId="{E21901CC-7449-4719-9314-FF9216BFA667}" type="sibTrans" cxnId="{101F9B5C-8D7C-424B-92B9-8EC6EA2551C9}">
      <dgm:prSet/>
      <dgm:spPr/>
      <dgm:t>
        <a:bodyPr/>
        <a:lstStyle/>
        <a:p>
          <a:endParaRPr lang="es-ES"/>
        </a:p>
      </dgm:t>
    </dgm:pt>
    <dgm:pt modelId="{04FC6CF0-F110-465B-98FC-9F008D0C4789}" type="parTrans" cxnId="{101F9B5C-8D7C-424B-92B9-8EC6EA2551C9}">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8596F37D-6DBF-499B-838B-F31F58E82CDF}" type="pres">
      <dgm:prSet presAssocID="{BD912BC6-9E5C-4F4C-AF65-1EAD80C61EF8}" presName="horFlow" presStyleCnt="0"/>
      <dgm:spPr/>
    </dgm:pt>
    <dgm:pt modelId="{BC1D74BF-9ADD-4069-A6A7-99E8B5ADDB1D}" type="pres">
      <dgm:prSet presAssocID="{BD912BC6-9E5C-4F4C-AF65-1EAD80C61EF8}" presName="bigChev" presStyleLbl="node1" presStyleIdx="0" presStyleCnt="1"/>
      <dgm:spPr/>
      <dgm:t>
        <a:bodyPr/>
        <a:lstStyle/>
        <a:p>
          <a:endParaRPr lang="es-ES"/>
        </a:p>
      </dgm:t>
    </dgm:pt>
    <dgm:pt modelId="{72849D08-C128-464B-BA96-8110084F054B}" type="pres">
      <dgm:prSet presAssocID="{95F3E3E6-7FAA-4F8B-B0CB-DD9BB09EECE5}" presName="parTrans" presStyleCnt="0"/>
      <dgm:spPr/>
    </dgm:pt>
    <dgm:pt modelId="{58711F6C-7998-45D0-9879-FBF099A0AE0D}" type="pres">
      <dgm:prSet presAssocID="{8C0F2F33-99FD-499D-A123-F60FC0D9CB23}" presName="node" presStyleLbl="alignAccFollowNode1" presStyleIdx="0" presStyleCnt="4">
        <dgm:presLayoutVars>
          <dgm:bulletEnabled val="1"/>
        </dgm:presLayoutVars>
      </dgm:prSet>
      <dgm:spPr/>
      <dgm:t>
        <a:bodyPr/>
        <a:lstStyle/>
        <a:p>
          <a:endParaRPr lang="es-ES"/>
        </a:p>
      </dgm:t>
    </dgm:pt>
    <dgm:pt modelId="{C817B6A6-18D4-41CE-874C-E66F4C10AE75}" type="pres">
      <dgm:prSet presAssocID="{A6D68B95-0108-4BF3-BF4F-A3B36C9BAE4B}" presName="sibTrans" presStyleCnt="0"/>
      <dgm:spPr/>
    </dgm:pt>
    <dgm:pt modelId="{D40E3AAB-A617-47CA-861F-74CA0BB02275}" type="pres">
      <dgm:prSet presAssocID="{73498013-B94D-43D2-BA7B-DB32336E9780}" presName="node" presStyleLbl="alignAccFollowNode1" presStyleIdx="1" presStyleCnt="4">
        <dgm:presLayoutVars>
          <dgm:bulletEnabled val="1"/>
        </dgm:presLayoutVars>
      </dgm:prSet>
      <dgm:spPr/>
      <dgm:t>
        <a:bodyPr/>
        <a:lstStyle/>
        <a:p>
          <a:endParaRPr lang="es-ES"/>
        </a:p>
      </dgm:t>
    </dgm:pt>
    <dgm:pt modelId="{EA6494BE-02A0-4CA4-8B66-EE8FED8F3CF2}" type="pres">
      <dgm:prSet presAssocID="{5D3F87BA-8ED4-44DD-B0B5-7466B0994E66}" presName="sibTrans" presStyleCnt="0"/>
      <dgm:spPr/>
    </dgm:pt>
    <dgm:pt modelId="{7B8A6BD4-FA17-4F76-8217-4D38ECE73974}" type="pres">
      <dgm:prSet presAssocID="{8DC3DE1B-39F4-4631-AF65-8F056A655AF1}" presName="node" presStyleLbl="alignAccFollowNode1" presStyleIdx="2" presStyleCnt="4">
        <dgm:presLayoutVars>
          <dgm:bulletEnabled val="1"/>
        </dgm:presLayoutVars>
      </dgm:prSet>
      <dgm:spPr/>
      <dgm:t>
        <a:bodyPr/>
        <a:lstStyle/>
        <a:p>
          <a:endParaRPr lang="es-ES"/>
        </a:p>
      </dgm:t>
    </dgm:pt>
    <dgm:pt modelId="{3FD11D4B-0C34-4F11-8517-525E3D9961D8}" type="pres">
      <dgm:prSet presAssocID="{B90DAF4E-2C27-4EDB-AC00-13BAE764A9FF}" presName="sibTrans" presStyleCnt="0"/>
      <dgm:spPr/>
    </dgm:pt>
    <dgm:pt modelId="{A0863875-58BB-441D-91C4-AD1C1DD27809}" type="pres">
      <dgm:prSet presAssocID="{2D0D6A15-D5C6-4C2D-8B47-3E15CB1AAEEC}" presName="node" presStyleLbl="alignAccFollowNode1" presStyleIdx="3" presStyleCnt="4">
        <dgm:presLayoutVars>
          <dgm:bulletEnabled val="1"/>
        </dgm:presLayoutVars>
      </dgm:prSet>
      <dgm:spPr/>
      <dgm:t>
        <a:bodyPr/>
        <a:lstStyle/>
        <a:p>
          <a:endParaRPr lang="es-ES"/>
        </a:p>
      </dgm:t>
    </dgm:pt>
  </dgm:ptLst>
  <dgm:cxnLst>
    <dgm:cxn modelId="{AAF28259-741F-406C-A414-7FCDB48119D7}" srcId="{BD912BC6-9E5C-4F4C-AF65-1EAD80C61EF8}" destId="{2D0D6A15-D5C6-4C2D-8B47-3E15CB1AAEEC}" srcOrd="3" destOrd="0" parTransId="{C47391D5-69EE-4EF3-AFB5-0230264FD623}" sibTransId="{2E9BAF9C-EC28-4E41-890E-993662D39F3A}"/>
    <dgm:cxn modelId="{D25C0A7A-1DFB-4F84-B553-5FAA96702FA2}" type="presOf" srcId="{BD912BC6-9E5C-4F4C-AF65-1EAD80C61EF8}" destId="{BC1D74BF-9ADD-4069-A6A7-99E8B5ADDB1D}" srcOrd="0" destOrd="0" presId="urn:microsoft.com/office/officeart/2005/8/layout/lProcess3"/>
    <dgm:cxn modelId="{101F9B5C-8D7C-424B-92B9-8EC6EA2551C9}" srcId="{CC543783-FAED-4071-B2D8-FB29C592E664}" destId="{BD912BC6-9E5C-4F4C-AF65-1EAD80C61EF8}" srcOrd="0" destOrd="0" parTransId="{04FC6CF0-F110-465B-98FC-9F008D0C4789}" sibTransId="{E21901CC-7449-4719-9314-FF9216BFA667}"/>
    <dgm:cxn modelId="{318C653E-879A-4FD7-BD0F-160A510B6947}" type="presOf" srcId="{2D0D6A15-D5C6-4C2D-8B47-3E15CB1AAEEC}" destId="{A0863875-58BB-441D-91C4-AD1C1DD27809}" srcOrd="0" destOrd="0" presId="urn:microsoft.com/office/officeart/2005/8/layout/lProcess3"/>
    <dgm:cxn modelId="{498F6E24-9639-4C40-A39A-74DDB4622525}" type="presOf" srcId="{8C0F2F33-99FD-499D-A123-F60FC0D9CB23}" destId="{58711F6C-7998-45D0-9879-FBF099A0AE0D}" srcOrd="0" destOrd="0" presId="urn:microsoft.com/office/officeart/2005/8/layout/lProcess3"/>
    <dgm:cxn modelId="{01056E8D-DDD1-4DC1-A7DA-463B9B85DEF9}" srcId="{BD912BC6-9E5C-4F4C-AF65-1EAD80C61EF8}" destId="{73498013-B94D-43D2-BA7B-DB32336E9780}" srcOrd="1" destOrd="0" parTransId="{21C1993E-5D8C-4C6A-94A1-68980BA710B3}" sibTransId="{5D3F87BA-8ED4-44DD-B0B5-7466B0994E66}"/>
    <dgm:cxn modelId="{72011669-DF78-4674-8656-332E3F6F1345}" srcId="{BD912BC6-9E5C-4F4C-AF65-1EAD80C61EF8}" destId="{8DC3DE1B-39F4-4631-AF65-8F056A655AF1}" srcOrd="2" destOrd="0" parTransId="{50788ED0-62A0-427C-950E-91FC10D6E847}" sibTransId="{B90DAF4E-2C27-4EDB-AC00-13BAE764A9FF}"/>
    <dgm:cxn modelId="{9192B669-1058-4679-A57B-CA5FF6E7C5D9}" type="presOf" srcId="{8DC3DE1B-39F4-4631-AF65-8F056A655AF1}" destId="{7B8A6BD4-FA17-4F76-8217-4D38ECE73974}" srcOrd="0" destOrd="0" presId="urn:microsoft.com/office/officeart/2005/8/layout/lProcess3"/>
    <dgm:cxn modelId="{73CDB4B8-2E28-4684-BD56-BB442501DB7B}" srcId="{BD912BC6-9E5C-4F4C-AF65-1EAD80C61EF8}" destId="{8C0F2F33-99FD-499D-A123-F60FC0D9CB23}" srcOrd="0" destOrd="0" parTransId="{95F3E3E6-7FAA-4F8B-B0CB-DD9BB09EECE5}" sibTransId="{A6D68B95-0108-4BF3-BF4F-A3B36C9BAE4B}"/>
    <dgm:cxn modelId="{39D1E58D-1856-4AB9-B73B-A0485548687F}" type="presOf" srcId="{CC543783-FAED-4071-B2D8-FB29C592E664}" destId="{B5034A3F-EF62-446E-B779-A4775DF2D51D}" srcOrd="0" destOrd="0" presId="urn:microsoft.com/office/officeart/2005/8/layout/lProcess3"/>
    <dgm:cxn modelId="{344B8D5F-6F13-495B-91FD-BF565EFFDB17}" type="presOf" srcId="{73498013-B94D-43D2-BA7B-DB32336E9780}" destId="{D40E3AAB-A617-47CA-861F-74CA0BB02275}" srcOrd="0" destOrd="0" presId="urn:microsoft.com/office/officeart/2005/8/layout/lProcess3"/>
    <dgm:cxn modelId="{0F82CEA2-64D9-4F79-9687-9409E1EDA1EA}" type="presParOf" srcId="{B5034A3F-EF62-446E-B779-A4775DF2D51D}" destId="{8596F37D-6DBF-499B-838B-F31F58E82CDF}" srcOrd="0" destOrd="0" presId="urn:microsoft.com/office/officeart/2005/8/layout/lProcess3"/>
    <dgm:cxn modelId="{0887FC1F-D9A3-4F3C-B042-DDD3B53850B8}" type="presParOf" srcId="{8596F37D-6DBF-499B-838B-F31F58E82CDF}" destId="{BC1D74BF-9ADD-4069-A6A7-99E8B5ADDB1D}" srcOrd="0" destOrd="0" presId="urn:microsoft.com/office/officeart/2005/8/layout/lProcess3"/>
    <dgm:cxn modelId="{05B2C0A0-8FD3-487E-B22A-B521785DABA7}" type="presParOf" srcId="{8596F37D-6DBF-499B-838B-F31F58E82CDF}" destId="{72849D08-C128-464B-BA96-8110084F054B}" srcOrd="1" destOrd="0" presId="urn:microsoft.com/office/officeart/2005/8/layout/lProcess3"/>
    <dgm:cxn modelId="{7BFA62F0-110D-4B56-9F45-37A6287E5695}" type="presParOf" srcId="{8596F37D-6DBF-499B-838B-F31F58E82CDF}" destId="{58711F6C-7998-45D0-9879-FBF099A0AE0D}" srcOrd="2" destOrd="0" presId="urn:microsoft.com/office/officeart/2005/8/layout/lProcess3"/>
    <dgm:cxn modelId="{0578330F-61A6-4422-AB7E-C82735F3FA6A}" type="presParOf" srcId="{8596F37D-6DBF-499B-838B-F31F58E82CDF}" destId="{C817B6A6-18D4-41CE-874C-E66F4C10AE75}" srcOrd="3" destOrd="0" presId="urn:microsoft.com/office/officeart/2005/8/layout/lProcess3"/>
    <dgm:cxn modelId="{6075B0AB-11BC-405C-A38B-573753C7F2FD}" type="presParOf" srcId="{8596F37D-6DBF-499B-838B-F31F58E82CDF}" destId="{D40E3AAB-A617-47CA-861F-74CA0BB02275}" srcOrd="4" destOrd="0" presId="urn:microsoft.com/office/officeart/2005/8/layout/lProcess3"/>
    <dgm:cxn modelId="{00E2873F-9754-4030-B1BF-F84067B66C92}" type="presParOf" srcId="{8596F37D-6DBF-499B-838B-F31F58E82CDF}" destId="{EA6494BE-02A0-4CA4-8B66-EE8FED8F3CF2}" srcOrd="5" destOrd="0" presId="urn:microsoft.com/office/officeart/2005/8/layout/lProcess3"/>
    <dgm:cxn modelId="{1AD69785-96FA-470F-BB15-A476307F7B37}" type="presParOf" srcId="{8596F37D-6DBF-499B-838B-F31F58E82CDF}" destId="{7B8A6BD4-FA17-4F76-8217-4D38ECE73974}" srcOrd="6" destOrd="0" presId="urn:microsoft.com/office/officeart/2005/8/layout/lProcess3"/>
    <dgm:cxn modelId="{E51837A1-853D-4681-98DB-F7941FED0619}" type="presParOf" srcId="{8596F37D-6DBF-499B-838B-F31F58E82CDF}" destId="{3FD11D4B-0C34-4F11-8517-525E3D9961D8}" srcOrd="7" destOrd="0" presId="urn:microsoft.com/office/officeart/2005/8/layout/lProcess3"/>
    <dgm:cxn modelId="{EAE8CE03-5426-41BF-A186-29EC1D7A3049}" type="presParOf" srcId="{8596F37D-6DBF-499B-838B-F31F58E82CDF}" destId="{A0863875-58BB-441D-91C4-AD1C1DD27809}" srcOrd="8" destOrd="0" presId="urn:microsoft.com/office/officeart/2005/8/layout/lProcess3"/>
  </dgm:cxnLst>
  <dgm:bg/>
  <dgm:whole/>
</dgm:dataModel>
</file>

<file path=ppt/diagrams/data8.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F1DA8917-419E-4FE3-A4A6-05B856631AAB}">
      <dgm:prSet phldrT="[Texto]"/>
      <dgm:spPr/>
      <dgm:t>
        <a:bodyPr/>
        <a:lstStyle/>
        <a:p>
          <a:r>
            <a:rPr lang="es-ES" dirty="0" smtClean="0"/>
            <a:t>Reciclado del hueso y del orujo</a:t>
          </a:r>
          <a:endParaRPr lang="es-ES" dirty="0"/>
        </a:p>
      </dgm:t>
    </dgm:pt>
    <dgm:pt modelId="{217A7805-FC03-4E5A-BB4B-8DF4C7471F3E}" type="sibTrans" cxnId="{559FF48A-3B4D-4DBA-A6EF-E46E0124D8D9}">
      <dgm:prSet/>
      <dgm:spPr/>
      <dgm:t>
        <a:bodyPr/>
        <a:lstStyle/>
        <a:p>
          <a:endParaRPr lang="es-ES"/>
        </a:p>
      </dgm:t>
    </dgm:pt>
    <dgm:pt modelId="{F47E1993-D025-43F7-98BF-6A8DAAD9397C}" type="parTrans" cxnId="{559FF48A-3B4D-4DBA-A6EF-E46E0124D8D9}">
      <dgm:prSet/>
      <dgm:spPr/>
      <dgm:t>
        <a:bodyPr/>
        <a:lstStyle/>
        <a:p>
          <a:endParaRPr lang="es-ES"/>
        </a:p>
      </dgm:t>
    </dgm:pt>
    <dgm:pt modelId="{4C0FD4D8-F4E7-4341-8F8E-E024ECF9B2D5}">
      <dgm:prSet phldrT="[Texto]" custT="1"/>
      <dgm:spPr/>
      <dgm:t>
        <a:bodyPr/>
        <a:lstStyle/>
        <a:p>
          <a:r>
            <a:rPr lang="es-ES" sz="1600" dirty="0" smtClean="0"/>
            <a:t>Limpieza del orujo y extracción de su aceite</a:t>
          </a:r>
          <a:endParaRPr lang="es-ES" sz="1600" dirty="0"/>
        </a:p>
      </dgm:t>
    </dgm:pt>
    <dgm:pt modelId="{4803EC41-9C6E-409D-BAF7-76F821589C55}" type="sibTrans" cxnId="{40BB251B-2A8E-4C18-A70E-03E103C884C8}">
      <dgm:prSet/>
      <dgm:spPr/>
      <dgm:t>
        <a:bodyPr/>
        <a:lstStyle/>
        <a:p>
          <a:endParaRPr lang="es-ES"/>
        </a:p>
      </dgm:t>
    </dgm:pt>
    <dgm:pt modelId="{E18E9736-02E6-4B5B-BABC-DF57D1D8C890}" type="parTrans" cxnId="{40BB251B-2A8E-4C18-A70E-03E103C884C8}">
      <dgm:prSet/>
      <dgm:spPr/>
      <dgm:t>
        <a:bodyPr/>
        <a:lstStyle/>
        <a:p>
          <a:endParaRPr lang="es-ES"/>
        </a:p>
      </dgm:t>
    </dgm:pt>
    <dgm:pt modelId="{45990F98-89C3-4A0F-978E-5BA09DFDB031}">
      <dgm:prSet custT="1"/>
      <dgm:spPr/>
      <dgm:t>
        <a:bodyPr/>
        <a:lstStyle/>
        <a:p>
          <a:r>
            <a:rPr lang="es-ES" sz="1600" dirty="0" smtClean="0"/>
            <a:t>Secado del aceite de orujo</a:t>
          </a:r>
          <a:endParaRPr lang="es-ES" sz="1600" dirty="0"/>
        </a:p>
      </dgm:t>
    </dgm:pt>
    <dgm:pt modelId="{5E3BDCE4-E584-45AA-94A3-8C7136C627C0}" type="sibTrans" cxnId="{E0BA6FF4-CF93-4897-B76F-E79B04F7836B}">
      <dgm:prSet/>
      <dgm:spPr/>
      <dgm:t>
        <a:bodyPr/>
        <a:lstStyle/>
        <a:p>
          <a:endParaRPr lang="es-ES"/>
        </a:p>
      </dgm:t>
    </dgm:pt>
    <dgm:pt modelId="{AEA7F0BF-6FE7-429C-BB93-6E9ED8B0313B}" type="parTrans" cxnId="{E0BA6FF4-CF93-4897-B76F-E79B04F7836B}">
      <dgm:prSet/>
      <dgm:spPr/>
      <dgm:t>
        <a:bodyPr/>
        <a:lstStyle/>
        <a:p>
          <a:endParaRPr lang="es-ES"/>
        </a:p>
      </dgm:t>
    </dgm:pt>
    <dgm:pt modelId="{02F884E6-26B7-4C78-9859-602777F88CBE}">
      <dgm:prSet phldrT="[Texto]" custT="1"/>
      <dgm:spPr/>
      <dgm:t>
        <a:bodyPr/>
        <a:lstStyle/>
        <a:p>
          <a:r>
            <a:rPr lang="es-ES" sz="1400" dirty="0" smtClean="0"/>
            <a:t>Extracción del hueso y secado </a:t>
          </a:r>
          <a:endParaRPr lang="es-ES" sz="1400" dirty="0"/>
        </a:p>
      </dgm:t>
    </dgm:pt>
    <dgm:pt modelId="{E7DE5A0A-785E-4B9C-A66F-3EA2B33CC665}" type="sibTrans" cxnId="{F62BB60E-EB80-4EC9-81B5-A688391F7B60}">
      <dgm:prSet/>
      <dgm:spPr/>
      <dgm:t>
        <a:bodyPr/>
        <a:lstStyle/>
        <a:p>
          <a:endParaRPr lang="es-ES"/>
        </a:p>
      </dgm:t>
    </dgm:pt>
    <dgm:pt modelId="{8AF7A30B-BD19-494A-8DBE-D160E4631A49}" type="parTrans" cxnId="{F62BB60E-EB80-4EC9-81B5-A688391F7B60}">
      <dgm:prSet/>
      <dgm:spPr/>
      <dgm:t>
        <a:bodyPr/>
        <a:lstStyle/>
        <a:p>
          <a:endParaRPr lang="es-ES"/>
        </a:p>
      </dgm:t>
    </dgm:pt>
    <dgm:pt modelId="{047B5EB1-6D24-4C68-B059-A1E497322C04}">
      <dgm:prSet custT="1"/>
      <dgm:spPr/>
      <dgm:t>
        <a:bodyPr/>
        <a:lstStyle/>
        <a:p>
          <a:r>
            <a:rPr lang="es-ES" sz="1400" dirty="0" smtClean="0"/>
            <a:t>Fabricación del biocombustible</a:t>
          </a:r>
          <a:endParaRPr lang="es-ES" sz="1400" dirty="0"/>
        </a:p>
      </dgm:t>
    </dgm:pt>
    <dgm:pt modelId="{E3DB7293-8F25-4B8F-B829-20A704E7C2C5}" type="sibTrans" cxnId="{0C1D9E84-79E4-4338-9FB5-9DB8A6AF0193}">
      <dgm:prSet/>
      <dgm:spPr/>
      <dgm:t>
        <a:bodyPr/>
        <a:lstStyle/>
        <a:p>
          <a:endParaRPr lang="es-ES"/>
        </a:p>
      </dgm:t>
    </dgm:pt>
    <dgm:pt modelId="{B4000367-514E-4D1B-8093-452DF3D92E7E}" type="parTrans" cxnId="{0C1D9E84-79E4-4338-9FB5-9DB8A6AF0193}">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42F1DEF2-CE24-4C5E-B746-D5D84BE8A00C}" type="pres">
      <dgm:prSet presAssocID="{F1DA8917-419E-4FE3-A4A6-05B856631AAB}" presName="horFlow" presStyleCnt="0"/>
      <dgm:spPr/>
    </dgm:pt>
    <dgm:pt modelId="{58F3F7C5-361C-48FC-B236-4DD5C4EB1924}" type="pres">
      <dgm:prSet presAssocID="{F1DA8917-419E-4FE3-A4A6-05B856631AAB}" presName="bigChev" presStyleLbl="node1" presStyleIdx="0" presStyleCnt="1"/>
      <dgm:spPr/>
      <dgm:t>
        <a:bodyPr/>
        <a:lstStyle/>
        <a:p>
          <a:endParaRPr lang="es-ES"/>
        </a:p>
      </dgm:t>
    </dgm:pt>
    <dgm:pt modelId="{ADE19671-F139-4C59-AC1E-765512671B82}" type="pres">
      <dgm:prSet presAssocID="{E18E9736-02E6-4B5B-BABC-DF57D1D8C890}" presName="parTrans" presStyleCnt="0"/>
      <dgm:spPr/>
    </dgm:pt>
    <dgm:pt modelId="{83D35EEF-2A9B-489A-A5E5-3851BC41E755}" type="pres">
      <dgm:prSet presAssocID="{4C0FD4D8-F4E7-4341-8F8E-E024ECF9B2D5}" presName="node" presStyleLbl="alignAccFollowNode1" presStyleIdx="0" presStyleCnt="4">
        <dgm:presLayoutVars>
          <dgm:bulletEnabled val="1"/>
        </dgm:presLayoutVars>
      </dgm:prSet>
      <dgm:spPr/>
      <dgm:t>
        <a:bodyPr/>
        <a:lstStyle/>
        <a:p>
          <a:endParaRPr lang="es-ES"/>
        </a:p>
      </dgm:t>
    </dgm:pt>
    <dgm:pt modelId="{A488512D-C841-44EF-9F52-9AF6EB5D5F41}" type="pres">
      <dgm:prSet presAssocID="{4803EC41-9C6E-409D-BAF7-76F821589C55}" presName="sibTrans" presStyleCnt="0"/>
      <dgm:spPr/>
    </dgm:pt>
    <dgm:pt modelId="{E21C2307-000D-4D62-B87E-3ED36AB53995}" type="pres">
      <dgm:prSet presAssocID="{45990F98-89C3-4A0F-978E-5BA09DFDB031}" presName="node" presStyleLbl="alignAccFollowNode1" presStyleIdx="1" presStyleCnt="4">
        <dgm:presLayoutVars>
          <dgm:bulletEnabled val="1"/>
        </dgm:presLayoutVars>
      </dgm:prSet>
      <dgm:spPr/>
      <dgm:t>
        <a:bodyPr/>
        <a:lstStyle/>
        <a:p>
          <a:endParaRPr lang="es-ES"/>
        </a:p>
      </dgm:t>
    </dgm:pt>
    <dgm:pt modelId="{687A7184-591E-4F0E-A90D-A0F02B0172E2}" type="pres">
      <dgm:prSet presAssocID="{5E3BDCE4-E584-45AA-94A3-8C7136C627C0}" presName="sibTrans" presStyleCnt="0"/>
      <dgm:spPr/>
    </dgm:pt>
    <dgm:pt modelId="{A83BF36D-6BBD-4708-927F-E822D228F2D1}" type="pres">
      <dgm:prSet presAssocID="{02F884E6-26B7-4C78-9859-602777F88CBE}" presName="node" presStyleLbl="alignAccFollowNode1" presStyleIdx="2" presStyleCnt="4">
        <dgm:presLayoutVars>
          <dgm:bulletEnabled val="1"/>
        </dgm:presLayoutVars>
      </dgm:prSet>
      <dgm:spPr/>
      <dgm:t>
        <a:bodyPr/>
        <a:lstStyle/>
        <a:p>
          <a:endParaRPr lang="es-ES"/>
        </a:p>
      </dgm:t>
    </dgm:pt>
    <dgm:pt modelId="{FC7B46E9-E25B-44DD-AFD2-D61853822143}" type="pres">
      <dgm:prSet presAssocID="{E7DE5A0A-785E-4B9C-A66F-3EA2B33CC665}" presName="sibTrans" presStyleCnt="0"/>
      <dgm:spPr/>
    </dgm:pt>
    <dgm:pt modelId="{753BC558-949D-40C1-B542-5A194E22F203}" type="pres">
      <dgm:prSet presAssocID="{047B5EB1-6D24-4C68-B059-A1E497322C04}" presName="node" presStyleLbl="alignAccFollowNode1" presStyleIdx="3" presStyleCnt="4" custLinFactNeighborY="720">
        <dgm:presLayoutVars>
          <dgm:bulletEnabled val="1"/>
        </dgm:presLayoutVars>
      </dgm:prSet>
      <dgm:spPr/>
      <dgm:t>
        <a:bodyPr/>
        <a:lstStyle/>
        <a:p>
          <a:endParaRPr lang="es-ES"/>
        </a:p>
      </dgm:t>
    </dgm:pt>
  </dgm:ptLst>
  <dgm:cxnLst>
    <dgm:cxn modelId="{F20A4560-0298-448A-B3B9-867BE8E0328A}" type="presOf" srcId="{45990F98-89C3-4A0F-978E-5BA09DFDB031}" destId="{E21C2307-000D-4D62-B87E-3ED36AB53995}" srcOrd="0" destOrd="0" presId="urn:microsoft.com/office/officeart/2005/8/layout/lProcess3"/>
    <dgm:cxn modelId="{78E6F71A-7234-434B-AE9B-EDCE39A09AB0}" type="presOf" srcId="{4C0FD4D8-F4E7-4341-8F8E-E024ECF9B2D5}" destId="{83D35EEF-2A9B-489A-A5E5-3851BC41E755}" srcOrd="0" destOrd="0" presId="urn:microsoft.com/office/officeart/2005/8/layout/lProcess3"/>
    <dgm:cxn modelId="{40BB251B-2A8E-4C18-A70E-03E103C884C8}" srcId="{F1DA8917-419E-4FE3-A4A6-05B856631AAB}" destId="{4C0FD4D8-F4E7-4341-8F8E-E024ECF9B2D5}" srcOrd="0" destOrd="0" parTransId="{E18E9736-02E6-4B5B-BABC-DF57D1D8C890}" sibTransId="{4803EC41-9C6E-409D-BAF7-76F821589C55}"/>
    <dgm:cxn modelId="{8F4246F2-041A-4F0F-952D-C564B1F57580}" type="presOf" srcId="{F1DA8917-419E-4FE3-A4A6-05B856631AAB}" destId="{58F3F7C5-361C-48FC-B236-4DD5C4EB1924}" srcOrd="0" destOrd="0" presId="urn:microsoft.com/office/officeart/2005/8/layout/lProcess3"/>
    <dgm:cxn modelId="{E8E98863-B2D8-481A-8C8B-AB73F2BB6A0E}" type="presOf" srcId="{CC543783-FAED-4071-B2D8-FB29C592E664}" destId="{B5034A3F-EF62-446E-B779-A4775DF2D51D}" srcOrd="0" destOrd="0" presId="urn:microsoft.com/office/officeart/2005/8/layout/lProcess3"/>
    <dgm:cxn modelId="{1B037E63-78D7-4F7E-8F74-1415AAA46C63}" type="presOf" srcId="{047B5EB1-6D24-4C68-B059-A1E497322C04}" destId="{753BC558-949D-40C1-B542-5A194E22F203}" srcOrd="0" destOrd="0" presId="urn:microsoft.com/office/officeart/2005/8/layout/lProcess3"/>
    <dgm:cxn modelId="{0C1D9E84-79E4-4338-9FB5-9DB8A6AF0193}" srcId="{F1DA8917-419E-4FE3-A4A6-05B856631AAB}" destId="{047B5EB1-6D24-4C68-B059-A1E497322C04}" srcOrd="3" destOrd="0" parTransId="{B4000367-514E-4D1B-8093-452DF3D92E7E}" sibTransId="{E3DB7293-8F25-4B8F-B829-20A704E7C2C5}"/>
    <dgm:cxn modelId="{EC3D67DA-2E31-4F90-84E6-D76B0E028A3A}" type="presOf" srcId="{02F884E6-26B7-4C78-9859-602777F88CBE}" destId="{A83BF36D-6BBD-4708-927F-E822D228F2D1}" srcOrd="0" destOrd="0" presId="urn:microsoft.com/office/officeart/2005/8/layout/lProcess3"/>
    <dgm:cxn modelId="{E0BA6FF4-CF93-4897-B76F-E79B04F7836B}" srcId="{F1DA8917-419E-4FE3-A4A6-05B856631AAB}" destId="{45990F98-89C3-4A0F-978E-5BA09DFDB031}" srcOrd="1" destOrd="0" parTransId="{AEA7F0BF-6FE7-429C-BB93-6E9ED8B0313B}" sibTransId="{5E3BDCE4-E584-45AA-94A3-8C7136C627C0}"/>
    <dgm:cxn modelId="{559FF48A-3B4D-4DBA-A6EF-E46E0124D8D9}" srcId="{CC543783-FAED-4071-B2D8-FB29C592E664}" destId="{F1DA8917-419E-4FE3-A4A6-05B856631AAB}" srcOrd="0" destOrd="0" parTransId="{F47E1993-D025-43F7-98BF-6A8DAAD9397C}" sibTransId="{217A7805-FC03-4E5A-BB4B-8DF4C7471F3E}"/>
    <dgm:cxn modelId="{F62BB60E-EB80-4EC9-81B5-A688391F7B60}" srcId="{F1DA8917-419E-4FE3-A4A6-05B856631AAB}" destId="{02F884E6-26B7-4C78-9859-602777F88CBE}" srcOrd="2" destOrd="0" parTransId="{8AF7A30B-BD19-494A-8DBE-D160E4631A49}" sibTransId="{E7DE5A0A-785E-4B9C-A66F-3EA2B33CC665}"/>
    <dgm:cxn modelId="{D4937471-79C5-42F1-96DE-8C1498CD8F53}" type="presParOf" srcId="{B5034A3F-EF62-446E-B779-A4775DF2D51D}" destId="{42F1DEF2-CE24-4C5E-B746-D5D84BE8A00C}" srcOrd="0" destOrd="0" presId="urn:microsoft.com/office/officeart/2005/8/layout/lProcess3"/>
    <dgm:cxn modelId="{2C58B01E-54B3-43F6-9D4B-900D9817A3B3}" type="presParOf" srcId="{42F1DEF2-CE24-4C5E-B746-D5D84BE8A00C}" destId="{58F3F7C5-361C-48FC-B236-4DD5C4EB1924}" srcOrd="0" destOrd="0" presId="urn:microsoft.com/office/officeart/2005/8/layout/lProcess3"/>
    <dgm:cxn modelId="{A96E6A81-D384-46C3-9087-0A110EEF96B7}" type="presParOf" srcId="{42F1DEF2-CE24-4C5E-B746-D5D84BE8A00C}" destId="{ADE19671-F139-4C59-AC1E-765512671B82}" srcOrd="1" destOrd="0" presId="urn:microsoft.com/office/officeart/2005/8/layout/lProcess3"/>
    <dgm:cxn modelId="{12FCC1ED-C4AF-45F9-9637-AA5512C93ACE}" type="presParOf" srcId="{42F1DEF2-CE24-4C5E-B746-D5D84BE8A00C}" destId="{83D35EEF-2A9B-489A-A5E5-3851BC41E755}" srcOrd="2" destOrd="0" presId="urn:microsoft.com/office/officeart/2005/8/layout/lProcess3"/>
    <dgm:cxn modelId="{2643FA3A-D42A-49C0-A13F-223046D15884}" type="presParOf" srcId="{42F1DEF2-CE24-4C5E-B746-D5D84BE8A00C}" destId="{A488512D-C841-44EF-9F52-9AF6EB5D5F41}" srcOrd="3" destOrd="0" presId="urn:microsoft.com/office/officeart/2005/8/layout/lProcess3"/>
    <dgm:cxn modelId="{9092E4FA-FD02-4B54-9418-D1148AE0D795}" type="presParOf" srcId="{42F1DEF2-CE24-4C5E-B746-D5D84BE8A00C}" destId="{E21C2307-000D-4D62-B87E-3ED36AB53995}" srcOrd="4" destOrd="0" presId="urn:microsoft.com/office/officeart/2005/8/layout/lProcess3"/>
    <dgm:cxn modelId="{63C35658-444A-45EA-853D-64865D9DCB7F}" type="presParOf" srcId="{42F1DEF2-CE24-4C5E-B746-D5D84BE8A00C}" destId="{687A7184-591E-4F0E-A90D-A0F02B0172E2}" srcOrd="5" destOrd="0" presId="urn:microsoft.com/office/officeart/2005/8/layout/lProcess3"/>
    <dgm:cxn modelId="{E9B2E7CC-4889-46C6-8493-4D4745A38805}" type="presParOf" srcId="{42F1DEF2-CE24-4C5E-B746-D5D84BE8A00C}" destId="{A83BF36D-6BBD-4708-927F-E822D228F2D1}" srcOrd="6" destOrd="0" presId="urn:microsoft.com/office/officeart/2005/8/layout/lProcess3"/>
    <dgm:cxn modelId="{E28419DF-9666-4FF4-A241-7CEBEE50BB36}" type="presParOf" srcId="{42F1DEF2-CE24-4C5E-B746-D5D84BE8A00C}" destId="{FC7B46E9-E25B-44DD-AFD2-D61853822143}" srcOrd="7" destOrd="0" presId="urn:microsoft.com/office/officeart/2005/8/layout/lProcess3"/>
    <dgm:cxn modelId="{8E82C0FA-C5CE-44CD-8B39-D1DBC81E7DBB}" type="presParOf" srcId="{42F1DEF2-CE24-4C5E-B746-D5D84BE8A00C}" destId="{753BC558-949D-40C1-B542-5A194E22F203}" srcOrd="8" destOrd="0" presId="urn:microsoft.com/office/officeart/2005/8/layout/lProcess3"/>
  </dgm:cxnLst>
  <dgm:bg/>
  <dgm:whole/>
</dgm:dataModel>
</file>

<file path=ppt/diagrams/data9.xml><?xml version="1.0" encoding="utf-8"?>
<dgm:dataModel xmlns:dgm="http://schemas.openxmlformats.org/drawingml/2006/diagram" xmlns:a="http://schemas.openxmlformats.org/drawingml/2006/main">
  <dgm:ptLst>
    <dgm:pt modelId="{CC543783-FAED-4071-B2D8-FB29C592E664}" type="doc">
      <dgm:prSet loTypeId="urn:microsoft.com/office/officeart/2005/8/layout/lProcess3" loCatId="process" qsTypeId="urn:microsoft.com/office/officeart/2005/8/quickstyle/simple1" qsCatId="simple" csTypeId="urn:microsoft.com/office/officeart/2005/8/colors/accent1_2" csCatId="accent1" phldr="1"/>
      <dgm:spPr/>
      <dgm:t>
        <a:bodyPr/>
        <a:lstStyle/>
        <a:p>
          <a:endParaRPr lang="es-ES"/>
        </a:p>
      </dgm:t>
    </dgm:pt>
    <dgm:pt modelId="{D732EA19-BD48-4982-90B3-3D6E2D798B65}">
      <dgm:prSet/>
      <dgm:spPr/>
      <dgm:t>
        <a:bodyPr/>
        <a:lstStyle/>
        <a:p>
          <a:r>
            <a:rPr lang="es-ES" dirty="0" smtClean="0"/>
            <a:t>Envasado del aceite</a:t>
          </a:r>
          <a:endParaRPr lang="es-ES" dirty="0"/>
        </a:p>
      </dgm:t>
    </dgm:pt>
    <dgm:pt modelId="{BA0614F2-53E3-4509-9350-531472EBA693}" type="parTrans" cxnId="{C097E010-132F-46CC-85E5-40B267C05A1B}">
      <dgm:prSet/>
      <dgm:spPr/>
      <dgm:t>
        <a:bodyPr/>
        <a:lstStyle/>
        <a:p>
          <a:endParaRPr lang="es-ES"/>
        </a:p>
      </dgm:t>
    </dgm:pt>
    <dgm:pt modelId="{7A4A89CE-29FA-4261-BEEF-2E2E2E17E940}" type="sibTrans" cxnId="{C097E010-132F-46CC-85E5-40B267C05A1B}">
      <dgm:prSet/>
      <dgm:spPr/>
      <dgm:t>
        <a:bodyPr/>
        <a:lstStyle/>
        <a:p>
          <a:endParaRPr lang="es-ES"/>
        </a:p>
      </dgm:t>
    </dgm:pt>
    <dgm:pt modelId="{0F5F16DB-5C19-4189-B9E8-17517C24E915}">
      <dgm:prSet custT="1"/>
      <dgm:spPr/>
      <dgm:t>
        <a:bodyPr/>
        <a:lstStyle/>
        <a:p>
          <a:r>
            <a:rPr lang="es-ES" sz="1400" dirty="0" smtClean="0"/>
            <a:t>Filtrado del aceite</a:t>
          </a:r>
          <a:endParaRPr lang="es-ES" sz="1400" dirty="0"/>
        </a:p>
      </dgm:t>
    </dgm:pt>
    <dgm:pt modelId="{24C88FBC-6A56-4B30-BB8B-65743B00C905}" type="parTrans" cxnId="{BD01A231-A2DE-4CA1-88B8-96ACF5E5BDE2}">
      <dgm:prSet/>
      <dgm:spPr/>
      <dgm:t>
        <a:bodyPr/>
        <a:lstStyle/>
        <a:p>
          <a:endParaRPr lang="es-ES"/>
        </a:p>
      </dgm:t>
    </dgm:pt>
    <dgm:pt modelId="{84D03FD9-006F-4CE5-9E4C-0A3539F2F2CC}" type="sibTrans" cxnId="{BD01A231-A2DE-4CA1-88B8-96ACF5E5BDE2}">
      <dgm:prSet/>
      <dgm:spPr/>
      <dgm:t>
        <a:bodyPr/>
        <a:lstStyle/>
        <a:p>
          <a:endParaRPr lang="es-ES"/>
        </a:p>
      </dgm:t>
    </dgm:pt>
    <dgm:pt modelId="{D9094002-DD18-46B1-AC35-06C5FFBB1EFA}">
      <dgm:prSet custT="1"/>
      <dgm:spPr/>
      <dgm:t>
        <a:bodyPr/>
        <a:lstStyle/>
        <a:p>
          <a:r>
            <a:rPr lang="es-ES" sz="1400" dirty="0" smtClean="0"/>
            <a:t>Proceso de embotellado</a:t>
          </a:r>
          <a:endParaRPr lang="es-ES" sz="1400" dirty="0"/>
        </a:p>
      </dgm:t>
    </dgm:pt>
    <dgm:pt modelId="{28A20A7E-F668-4526-A93E-41F57FC8CB76}" type="parTrans" cxnId="{D9016917-73D7-46DA-9AC1-63F8799B52F8}">
      <dgm:prSet/>
      <dgm:spPr/>
      <dgm:t>
        <a:bodyPr/>
        <a:lstStyle/>
        <a:p>
          <a:endParaRPr lang="es-ES"/>
        </a:p>
      </dgm:t>
    </dgm:pt>
    <dgm:pt modelId="{38E4E0FE-C510-491A-A88B-E9C1CA39EBA6}" type="sibTrans" cxnId="{D9016917-73D7-46DA-9AC1-63F8799B52F8}">
      <dgm:prSet/>
      <dgm:spPr/>
      <dgm:t>
        <a:bodyPr/>
        <a:lstStyle/>
        <a:p>
          <a:endParaRPr lang="es-ES"/>
        </a:p>
      </dgm:t>
    </dgm:pt>
    <dgm:pt modelId="{819759FD-4C1B-4571-9450-B55D19191BFB}">
      <dgm:prSet custT="1"/>
      <dgm:spPr/>
      <dgm:t>
        <a:bodyPr/>
        <a:lstStyle/>
        <a:p>
          <a:r>
            <a:rPr lang="es-ES" sz="1400" dirty="0" smtClean="0"/>
            <a:t>Encajado </a:t>
          </a:r>
          <a:r>
            <a:rPr lang="es-ES" sz="1400" dirty="0" err="1" smtClean="0"/>
            <a:t>paletizado</a:t>
          </a:r>
          <a:r>
            <a:rPr lang="es-ES" sz="1400" dirty="0" smtClean="0"/>
            <a:t> y retractilado</a:t>
          </a:r>
          <a:endParaRPr lang="es-ES" sz="1400" dirty="0"/>
        </a:p>
      </dgm:t>
    </dgm:pt>
    <dgm:pt modelId="{297FA141-DC64-469F-AEDD-76C7986C3171}" type="parTrans" cxnId="{26EB2D82-D39D-41FE-BD79-CFE581051B7E}">
      <dgm:prSet/>
      <dgm:spPr/>
      <dgm:t>
        <a:bodyPr/>
        <a:lstStyle/>
        <a:p>
          <a:endParaRPr lang="es-ES"/>
        </a:p>
      </dgm:t>
    </dgm:pt>
    <dgm:pt modelId="{C4C014D6-84C4-4EE7-9EE7-EFAE55A9C8B5}" type="sibTrans" cxnId="{26EB2D82-D39D-41FE-BD79-CFE581051B7E}">
      <dgm:prSet/>
      <dgm:spPr/>
      <dgm:t>
        <a:bodyPr/>
        <a:lstStyle/>
        <a:p>
          <a:endParaRPr lang="es-ES"/>
        </a:p>
      </dgm:t>
    </dgm:pt>
    <dgm:pt modelId="{960A2214-D9C3-4DB9-AF40-BF663DD22668}">
      <dgm:prSet custT="1"/>
      <dgm:spPr/>
      <dgm:t>
        <a:bodyPr/>
        <a:lstStyle/>
        <a:p>
          <a:r>
            <a:rPr lang="es-ES" sz="1400" dirty="0" smtClean="0"/>
            <a:t>Almacenaje de producto terminado</a:t>
          </a:r>
          <a:endParaRPr lang="es-ES" sz="1400" dirty="0"/>
        </a:p>
      </dgm:t>
    </dgm:pt>
    <dgm:pt modelId="{2748C358-BFDA-464F-8419-34713C9C2CB9}" type="parTrans" cxnId="{65C2C24D-5DDE-4F79-8088-91C941F698E3}">
      <dgm:prSet/>
      <dgm:spPr/>
      <dgm:t>
        <a:bodyPr/>
        <a:lstStyle/>
        <a:p>
          <a:endParaRPr lang="es-ES"/>
        </a:p>
      </dgm:t>
    </dgm:pt>
    <dgm:pt modelId="{E6711E92-7A9B-4A7C-A62B-F5818EAB32DF}" type="sibTrans" cxnId="{65C2C24D-5DDE-4F79-8088-91C941F698E3}">
      <dgm:prSet/>
      <dgm:spPr/>
      <dgm:t>
        <a:bodyPr/>
        <a:lstStyle/>
        <a:p>
          <a:endParaRPr lang="es-ES"/>
        </a:p>
      </dgm:t>
    </dgm:pt>
    <dgm:pt modelId="{B5034A3F-EF62-446E-B779-A4775DF2D51D}" type="pres">
      <dgm:prSet presAssocID="{CC543783-FAED-4071-B2D8-FB29C592E664}" presName="Name0" presStyleCnt="0">
        <dgm:presLayoutVars>
          <dgm:chPref val="3"/>
          <dgm:dir/>
          <dgm:animLvl val="lvl"/>
          <dgm:resizeHandles/>
        </dgm:presLayoutVars>
      </dgm:prSet>
      <dgm:spPr/>
      <dgm:t>
        <a:bodyPr/>
        <a:lstStyle/>
        <a:p>
          <a:endParaRPr lang="es-ES"/>
        </a:p>
      </dgm:t>
    </dgm:pt>
    <dgm:pt modelId="{0A60F3CA-5BC6-4ED0-909D-C9CFE2F20E07}" type="pres">
      <dgm:prSet presAssocID="{D732EA19-BD48-4982-90B3-3D6E2D798B65}" presName="horFlow" presStyleCnt="0"/>
      <dgm:spPr/>
    </dgm:pt>
    <dgm:pt modelId="{813583E5-CB2C-4FD8-93A3-155E2182D803}" type="pres">
      <dgm:prSet presAssocID="{D732EA19-BD48-4982-90B3-3D6E2D798B65}" presName="bigChev" presStyleLbl="node1" presStyleIdx="0" presStyleCnt="1"/>
      <dgm:spPr/>
      <dgm:t>
        <a:bodyPr/>
        <a:lstStyle/>
        <a:p>
          <a:endParaRPr lang="es-ES"/>
        </a:p>
      </dgm:t>
    </dgm:pt>
    <dgm:pt modelId="{255C398F-6862-4B1B-B1D6-6EAD1FFBFE3C}" type="pres">
      <dgm:prSet presAssocID="{24C88FBC-6A56-4B30-BB8B-65743B00C905}" presName="parTrans" presStyleCnt="0"/>
      <dgm:spPr/>
    </dgm:pt>
    <dgm:pt modelId="{2B937DCC-104D-4C10-A35F-720D4C4B8AAB}" type="pres">
      <dgm:prSet presAssocID="{0F5F16DB-5C19-4189-B9E8-17517C24E915}" presName="node" presStyleLbl="alignAccFollowNode1" presStyleIdx="0" presStyleCnt="4">
        <dgm:presLayoutVars>
          <dgm:bulletEnabled val="1"/>
        </dgm:presLayoutVars>
      </dgm:prSet>
      <dgm:spPr/>
      <dgm:t>
        <a:bodyPr/>
        <a:lstStyle/>
        <a:p>
          <a:endParaRPr lang="es-ES"/>
        </a:p>
      </dgm:t>
    </dgm:pt>
    <dgm:pt modelId="{D8C4A96D-7BD6-4432-8392-45AD84E11836}" type="pres">
      <dgm:prSet presAssocID="{84D03FD9-006F-4CE5-9E4C-0A3539F2F2CC}" presName="sibTrans" presStyleCnt="0"/>
      <dgm:spPr/>
    </dgm:pt>
    <dgm:pt modelId="{A7FEEE86-61FA-478F-88E1-A6CCD4282594}" type="pres">
      <dgm:prSet presAssocID="{D9094002-DD18-46B1-AC35-06C5FFBB1EFA}" presName="node" presStyleLbl="alignAccFollowNode1" presStyleIdx="1" presStyleCnt="4">
        <dgm:presLayoutVars>
          <dgm:bulletEnabled val="1"/>
        </dgm:presLayoutVars>
      </dgm:prSet>
      <dgm:spPr/>
      <dgm:t>
        <a:bodyPr/>
        <a:lstStyle/>
        <a:p>
          <a:endParaRPr lang="es-ES"/>
        </a:p>
      </dgm:t>
    </dgm:pt>
    <dgm:pt modelId="{56055B87-74E6-47AF-BC0F-1F17C0A3E6CD}" type="pres">
      <dgm:prSet presAssocID="{38E4E0FE-C510-491A-A88B-E9C1CA39EBA6}" presName="sibTrans" presStyleCnt="0"/>
      <dgm:spPr/>
    </dgm:pt>
    <dgm:pt modelId="{51AFC78C-4C3E-4A07-9AD1-1D4AFCBE9D49}" type="pres">
      <dgm:prSet presAssocID="{819759FD-4C1B-4571-9450-B55D19191BFB}" presName="node" presStyleLbl="alignAccFollowNode1" presStyleIdx="2" presStyleCnt="4">
        <dgm:presLayoutVars>
          <dgm:bulletEnabled val="1"/>
        </dgm:presLayoutVars>
      </dgm:prSet>
      <dgm:spPr/>
      <dgm:t>
        <a:bodyPr/>
        <a:lstStyle/>
        <a:p>
          <a:endParaRPr lang="es-ES"/>
        </a:p>
      </dgm:t>
    </dgm:pt>
    <dgm:pt modelId="{99415689-AE85-4571-9883-4E6716E95716}" type="pres">
      <dgm:prSet presAssocID="{C4C014D6-84C4-4EE7-9EE7-EFAE55A9C8B5}" presName="sibTrans" presStyleCnt="0"/>
      <dgm:spPr/>
    </dgm:pt>
    <dgm:pt modelId="{328783C6-20E3-4A06-8D64-21269061940E}" type="pres">
      <dgm:prSet presAssocID="{960A2214-D9C3-4DB9-AF40-BF663DD22668}" presName="node" presStyleLbl="alignAccFollowNode1" presStyleIdx="3" presStyleCnt="4">
        <dgm:presLayoutVars>
          <dgm:bulletEnabled val="1"/>
        </dgm:presLayoutVars>
      </dgm:prSet>
      <dgm:spPr/>
      <dgm:t>
        <a:bodyPr/>
        <a:lstStyle/>
        <a:p>
          <a:endParaRPr lang="es-ES"/>
        </a:p>
      </dgm:t>
    </dgm:pt>
  </dgm:ptLst>
  <dgm:cxnLst>
    <dgm:cxn modelId="{26EB2D82-D39D-41FE-BD79-CFE581051B7E}" srcId="{D732EA19-BD48-4982-90B3-3D6E2D798B65}" destId="{819759FD-4C1B-4571-9450-B55D19191BFB}" srcOrd="2" destOrd="0" parTransId="{297FA141-DC64-469F-AEDD-76C7986C3171}" sibTransId="{C4C014D6-84C4-4EE7-9EE7-EFAE55A9C8B5}"/>
    <dgm:cxn modelId="{65C2C24D-5DDE-4F79-8088-91C941F698E3}" srcId="{D732EA19-BD48-4982-90B3-3D6E2D798B65}" destId="{960A2214-D9C3-4DB9-AF40-BF663DD22668}" srcOrd="3" destOrd="0" parTransId="{2748C358-BFDA-464F-8419-34713C9C2CB9}" sibTransId="{E6711E92-7A9B-4A7C-A62B-F5818EAB32DF}"/>
    <dgm:cxn modelId="{046BC614-A980-43AA-8FAB-115812135B15}" type="presOf" srcId="{D732EA19-BD48-4982-90B3-3D6E2D798B65}" destId="{813583E5-CB2C-4FD8-93A3-155E2182D803}" srcOrd="0" destOrd="0" presId="urn:microsoft.com/office/officeart/2005/8/layout/lProcess3"/>
    <dgm:cxn modelId="{425B7CCF-4F23-4AA4-B2B7-7671BBFBB38F}" type="presOf" srcId="{CC543783-FAED-4071-B2D8-FB29C592E664}" destId="{B5034A3F-EF62-446E-B779-A4775DF2D51D}" srcOrd="0" destOrd="0" presId="urn:microsoft.com/office/officeart/2005/8/layout/lProcess3"/>
    <dgm:cxn modelId="{5548F1FA-3525-4D8C-AA43-ECAD89E23D70}" type="presOf" srcId="{D9094002-DD18-46B1-AC35-06C5FFBB1EFA}" destId="{A7FEEE86-61FA-478F-88E1-A6CCD4282594}" srcOrd="0" destOrd="0" presId="urn:microsoft.com/office/officeart/2005/8/layout/lProcess3"/>
    <dgm:cxn modelId="{C097E010-132F-46CC-85E5-40B267C05A1B}" srcId="{CC543783-FAED-4071-B2D8-FB29C592E664}" destId="{D732EA19-BD48-4982-90B3-3D6E2D798B65}" srcOrd="0" destOrd="0" parTransId="{BA0614F2-53E3-4509-9350-531472EBA693}" sibTransId="{7A4A89CE-29FA-4261-BEEF-2E2E2E17E940}"/>
    <dgm:cxn modelId="{CD6137C9-4228-4B9D-96D8-121261CD663F}" type="presOf" srcId="{960A2214-D9C3-4DB9-AF40-BF663DD22668}" destId="{328783C6-20E3-4A06-8D64-21269061940E}" srcOrd="0" destOrd="0" presId="urn:microsoft.com/office/officeart/2005/8/layout/lProcess3"/>
    <dgm:cxn modelId="{BD01A231-A2DE-4CA1-88B8-96ACF5E5BDE2}" srcId="{D732EA19-BD48-4982-90B3-3D6E2D798B65}" destId="{0F5F16DB-5C19-4189-B9E8-17517C24E915}" srcOrd="0" destOrd="0" parTransId="{24C88FBC-6A56-4B30-BB8B-65743B00C905}" sibTransId="{84D03FD9-006F-4CE5-9E4C-0A3539F2F2CC}"/>
    <dgm:cxn modelId="{D9016917-73D7-46DA-9AC1-63F8799B52F8}" srcId="{D732EA19-BD48-4982-90B3-3D6E2D798B65}" destId="{D9094002-DD18-46B1-AC35-06C5FFBB1EFA}" srcOrd="1" destOrd="0" parTransId="{28A20A7E-F668-4526-A93E-41F57FC8CB76}" sibTransId="{38E4E0FE-C510-491A-A88B-E9C1CA39EBA6}"/>
    <dgm:cxn modelId="{FE941099-A659-476A-9808-C4CF6B03AD3B}" type="presOf" srcId="{819759FD-4C1B-4571-9450-B55D19191BFB}" destId="{51AFC78C-4C3E-4A07-9AD1-1D4AFCBE9D49}" srcOrd="0" destOrd="0" presId="urn:microsoft.com/office/officeart/2005/8/layout/lProcess3"/>
    <dgm:cxn modelId="{CEB8E9F5-5406-4554-B62F-9549D1D74729}" type="presOf" srcId="{0F5F16DB-5C19-4189-B9E8-17517C24E915}" destId="{2B937DCC-104D-4C10-A35F-720D4C4B8AAB}" srcOrd="0" destOrd="0" presId="urn:microsoft.com/office/officeart/2005/8/layout/lProcess3"/>
    <dgm:cxn modelId="{AE1B2D4B-49EE-4873-BFAD-0C37630A6760}" type="presParOf" srcId="{B5034A3F-EF62-446E-B779-A4775DF2D51D}" destId="{0A60F3CA-5BC6-4ED0-909D-C9CFE2F20E07}" srcOrd="0" destOrd="0" presId="urn:microsoft.com/office/officeart/2005/8/layout/lProcess3"/>
    <dgm:cxn modelId="{16713F4B-4FDA-4481-9847-FAF8273BCAC8}" type="presParOf" srcId="{0A60F3CA-5BC6-4ED0-909D-C9CFE2F20E07}" destId="{813583E5-CB2C-4FD8-93A3-155E2182D803}" srcOrd="0" destOrd="0" presId="urn:microsoft.com/office/officeart/2005/8/layout/lProcess3"/>
    <dgm:cxn modelId="{72992CC5-5A0F-4FFF-B4C9-B50F2EB4FDC6}" type="presParOf" srcId="{0A60F3CA-5BC6-4ED0-909D-C9CFE2F20E07}" destId="{255C398F-6862-4B1B-B1D6-6EAD1FFBFE3C}" srcOrd="1" destOrd="0" presId="urn:microsoft.com/office/officeart/2005/8/layout/lProcess3"/>
    <dgm:cxn modelId="{A00E747A-16B9-4317-8953-27E58E3287E3}" type="presParOf" srcId="{0A60F3CA-5BC6-4ED0-909D-C9CFE2F20E07}" destId="{2B937DCC-104D-4C10-A35F-720D4C4B8AAB}" srcOrd="2" destOrd="0" presId="urn:microsoft.com/office/officeart/2005/8/layout/lProcess3"/>
    <dgm:cxn modelId="{0C6D7844-5FE9-40F0-B294-F84A49A0F365}" type="presParOf" srcId="{0A60F3CA-5BC6-4ED0-909D-C9CFE2F20E07}" destId="{D8C4A96D-7BD6-4432-8392-45AD84E11836}" srcOrd="3" destOrd="0" presId="urn:microsoft.com/office/officeart/2005/8/layout/lProcess3"/>
    <dgm:cxn modelId="{BF2CF7CE-E88C-4CA7-8D6B-40EB48E22C0B}" type="presParOf" srcId="{0A60F3CA-5BC6-4ED0-909D-C9CFE2F20E07}" destId="{A7FEEE86-61FA-478F-88E1-A6CCD4282594}" srcOrd="4" destOrd="0" presId="urn:microsoft.com/office/officeart/2005/8/layout/lProcess3"/>
    <dgm:cxn modelId="{D847C570-D096-4BD6-BCB3-AC2A7B4429FB}" type="presParOf" srcId="{0A60F3CA-5BC6-4ED0-909D-C9CFE2F20E07}" destId="{56055B87-74E6-47AF-BC0F-1F17C0A3E6CD}" srcOrd="5" destOrd="0" presId="urn:microsoft.com/office/officeart/2005/8/layout/lProcess3"/>
    <dgm:cxn modelId="{4CED57D4-F1BB-4C44-A718-E345630F441E}" type="presParOf" srcId="{0A60F3CA-5BC6-4ED0-909D-C9CFE2F20E07}" destId="{51AFC78C-4C3E-4A07-9AD1-1D4AFCBE9D49}" srcOrd="6" destOrd="0" presId="urn:microsoft.com/office/officeart/2005/8/layout/lProcess3"/>
    <dgm:cxn modelId="{6F313A0A-3A13-4D87-8FFA-3ABA1809832F}" type="presParOf" srcId="{0A60F3CA-5BC6-4ED0-909D-C9CFE2F20E07}" destId="{99415689-AE85-4571-9883-4E6716E95716}" srcOrd="7" destOrd="0" presId="urn:microsoft.com/office/officeart/2005/8/layout/lProcess3"/>
    <dgm:cxn modelId="{7A6E264B-99CD-4F9A-B163-0263980C9A90}" type="presParOf" srcId="{0A60F3CA-5BC6-4ED0-909D-C9CFE2F20E07}" destId="{328783C6-20E3-4A06-8D64-21269061940E}" srcOrd="8" destOrd="0" presId="urn:microsoft.com/office/officeart/2005/8/layout/lProcess3"/>
  </dgm:cxnLst>
  <dgm:bg/>
  <dgm:whole/>
</dgm:dataModel>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10.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6.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7.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8.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layout9.xml><?xml version="1.0" encoding="utf-8"?>
<dgm:layoutDef xmlns:dgm="http://schemas.openxmlformats.org/drawingml/2006/diagram" xmlns:a="http://schemas.openxmlformats.org/drawingml/2006/main" uniqueId="urn:microsoft.com/office/officeart/2005/8/layout/lProcess3">
  <dgm:title val=""/>
  <dgm:desc val=""/>
  <dgm:catLst>
    <dgm:cat type="process" pri="11000"/>
    <dgm:cat type="convert" pri="1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41" srcId="1" destId="11" srcOrd="0" destOrd="0"/>
        <dgm:cxn modelId="42" srcId="1" destId="12" srcOrd="1" destOrd="0"/>
        <dgm:cxn modelId="51" srcId="2" destId="21" srcOrd="0" destOrd="0"/>
        <dgm:cxn modelId="52" srcId="2" destId="22" srcOrd="1" destOrd="0"/>
        <dgm:cxn modelId="61" srcId="3" destId="31" srcOrd="0" destOrd="0"/>
        <dgm:cxn modelId="62" srcId="3" destId="32" srcOrd="1" destOrd="0"/>
      </dgm:cxnLst>
      <dgm:bg/>
      <dgm:whole/>
    </dgm:dataModel>
  </dgm:sampData>
  <dgm:styleData>
    <dgm:dataModel>
      <dgm:ptLst>
        <dgm:pt modelId="0" type="doc"/>
        <dgm:pt modelId="1"/>
        <dgm:pt modelId="2"/>
      </dgm:ptLst>
      <dgm:cxnLst>
        <dgm:cxn modelId="4" srcId="0" destId="1" srcOrd="0" destOrd="0"/>
        <dgm:cxn modelId="5" srcId="1" destId="2"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51" srcId="1" destId="11" srcOrd="0" destOrd="0"/>
        <dgm:cxn modelId="61" srcId="2" destId="21" srcOrd="0" destOrd="0"/>
        <dgm:cxn modelId="71" srcId="3" destId="31" srcOrd="0" destOrd="0"/>
        <dgm:cxn modelId="81" srcId="4" destId="41" srcOrd="0" destOrd="0"/>
      </dgm:cxnLst>
      <dgm:bg/>
      <dgm:whole/>
    </dgm:dataModel>
  </dgm:clrData>
  <dgm:layoutNode name="Name0">
    <dgm:varLst>
      <dgm:chPref val="3"/>
      <dgm:dir/>
      <dgm:animLvl val="lvl"/>
      <dgm:resizeHandles/>
    </dgm:varLst>
    <dgm:choose name="Name1">
      <dgm:if name="Name2" func="var" arg="dir" op="equ" val="norm">
        <dgm:alg type="lin">
          <dgm:param type="linDir" val="fromT"/>
          <dgm:param type="vertAlign" val="mid"/>
          <dgm:param type="nodeHorzAlign" val="l"/>
          <dgm:param type="nodeVertAlign" val="t"/>
          <dgm:param type="fallback" val="2D"/>
        </dgm:alg>
      </dgm:if>
      <dgm:else name="Name3">
        <dgm:alg type="lin">
          <dgm:param type="linDir" val="fromT"/>
          <dgm:param type="vertAlign" val="mid"/>
          <dgm:param type="nodeHorzAlign" val="r"/>
          <dgm:param type="nodeVertAlign" val="t"/>
          <dgm:param type="fallback" val="2D"/>
        </dgm:alg>
      </dgm:else>
    </dgm:choose>
    <dgm:shape xmlns:r="http://schemas.openxmlformats.org/officeDocument/2006/relationships" r:blip="">
      <dgm:adjLst/>
    </dgm:shape>
    <dgm:presOf/>
    <dgm:constrLst>
      <dgm:constr type="w" for="des" forName="bigChev" refType="w"/>
      <dgm:constr type="h" for="des" forName="bigChev" refType="w" refFor="des" refForName="bigChev" op="equ" fact="0.4"/>
      <dgm:constr type="w" for="des" forName="node" refType="w" refFor="des" refForName="bigChev" fact="0.83"/>
      <dgm:constr type="h" for="des" forName="node" refType="w" refFor="des" refForName="node" op="equ" fact="0.4"/>
      <dgm:constr type="w" for="des" forName="parTrans" refType="w" refFor="des" refForName="bigChev" op="equ" fact="-0.13"/>
      <dgm:constr type="w" for="des" forName="sibTrans" refType="w" refFor="des" refForName="node" op="equ" fact="-0.14"/>
      <dgm:constr type="h" for="ch" forName="vSp" refType="h" refFor="des" refForName="bigChev" op="equ" fact="0.14"/>
      <dgm:constr type="primFontSz" for="des" forName="node" op="equ"/>
      <dgm:constr type="primFontSz" for="des" forName="bigChev" op="equ"/>
    </dgm:constrLst>
    <dgm:ruleLst/>
    <dgm:forEach name="Name4" axis="ch" ptType="node">
      <dgm:layoutNode name="horFlow">
        <dgm:choose name="Name5">
          <dgm:if name="Name6" func="var" arg="dir" op="equ" val="norm">
            <dgm:alg type="lin">
              <dgm:param type="linDir" val="fromL"/>
              <dgm:param type="nodeHorzAlign" val="l"/>
              <dgm:param type="nodeVertAlign" val="mid"/>
              <dgm:param type="fallback" val="2D"/>
            </dgm:alg>
          </dgm:if>
          <dgm:else name="Name7">
            <dgm:alg type="lin">
              <dgm:param type="linDir" val="fromR"/>
              <dgm:param type="nodeHorzAlign" val="r"/>
              <dgm:param type="nodeVertAlign" val="mid"/>
              <dgm:param type="fallback" val="2D"/>
            </dgm:alg>
          </dgm:else>
        </dgm:choose>
        <dgm:shape xmlns:r="http://schemas.openxmlformats.org/officeDocument/2006/relationships" r:blip="">
          <dgm:adjLst/>
        </dgm:shape>
        <dgm:presOf/>
        <dgm:constrLst/>
        <dgm:ruleLst/>
        <dgm:layoutNode name="bigChev" styleLbl="node1">
          <dgm:alg type="tx"/>
          <dgm:choose name="Name8">
            <dgm:if name="Name9" func="var" arg="dir" op="equ" val="norm">
              <dgm:shape xmlns:r="http://schemas.openxmlformats.org/officeDocument/2006/relationships" type="chevron" r:blip="">
                <dgm:adjLst/>
              </dgm:shape>
              <dgm:presOf axis="self"/>
              <dgm:constrLst>
                <dgm:constr type="primFontSz" val="65"/>
                <dgm:constr type="rMarg"/>
                <dgm:constr type="lMarg" refType="primFontSz" fact="0.1"/>
                <dgm:constr type="tMarg" refType="primFontSz" fact="0.05"/>
                <dgm:constr type="bMarg" refType="primFontSz" fact="0.05"/>
              </dgm:constrLst>
            </dgm:if>
            <dgm:else name="Name10">
              <dgm:shape xmlns:r="http://schemas.openxmlformats.org/officeDocument/2006/relationships" rot="180" type="chevron" r:blip="">
                <dgm:adjLst/>
              </dgm:shape>
              <dgm:presOf axis="self"/>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parTransForEach" axis="ch" ptType="parTrans" cnt="1">
          <dgm:layoutNode name="parTrans">
            <dgm:alg type="sp"/>
            <dgm:shape xmlns:r="http://schemas.openxmlformats.org/officeDocument/2006/relationships" r:blip="">
              <dgm:adjLst/>
            </dgm:shape>
            <dgm:presOf/>
            <dgm:constrLst/>
            <dgm:ruleLst/>
          </dgm:layoutNode>
        </dgm:forEach>
        <dgm:forEach name="Name11" axis="ch" ptType="node">
          <dgm:layoutNode name="node" styleLbl="alignAccFollowNode1">
            <dgm:varLst>
              <dgm:bulletEnabled val="1"/>
            </dgm:varLst>
            <dgm:alg type="tx"/>
            <dgm:choose name="Name12">
              <dgm:if name="Name13" func="var" arg="dir" op="equ" val="norm">
                <dgm:shape xmlns:r="http://schemas.openxmlformats.org/officeDocument/2006/relationships" type="chevron" r:blip="">
                  <dgm:adjLst/>
                </dgm:shape>
                <dgm:presOf axis="desOrSelf" ptType="node"/>
                <dgm:constrLst>
                  <dgm:constr type="primFontSz" val="65"/>
                  <dgm:constr type="rMarg"/>
                  <dgm:constr type="lMarg" refType="primFontSz" fact="0.1"/>
                  <dgm:constr type="tMarg" refType="primFontSz" fact="0.05"/>
                  <dgm:constr type="bMarg" refType="primFontSz" fact="0.05"/>
                </dgm:constrLst>
              </dgm:if>
              <dgm:else name="Name14">
                <dgm:shape xmlns:r="http://schemas.openxmlformats.org/officeDocument/2006/relationships" rot="180" type="chevron" r:blip="">
                  <dgm:adjLst/>
                </dgm:shape>
                <dgm:presOf axis="desOrSelf" ptType="node"/>
                <dgm:constrLst>
                  <dgm:constr type="primFontSz" val="65"/>
                  <dgm:constr type="lMarg"/>
                  <dgm:constr type="rMarg" refType="primFontSz" fact="0.1"/>
                  <dgm:constr type="tMarg" refType="primFontSz" fact="0.05"/>
                  <dgm:constr type="bMarg" refType="primFontSz" fact="0.05"/>
                </dgm:constrLst>
              </dgm:else>
            </dgm:choose>
            <dgm:ruleLst>
              <dgm:rule type="primFontSz" val="5" fact="NaN" max="NaN"/>
            </dgm:ruleLst>
          </dgm:layoutNode>
          <dgm:forEach name="sibTransForEach" axis="followSib" ptType="sibTrans" cnt="1">
            <dgm:layoutNode name="sibTrans">
              <dgm:alg type="sp"/>
              <dgm:shape xmlns:r="http://schemas.openxmlformats.org/officeDocument/2006/relationships" r:blip="">
                <dgm:adjLst/>
              </dgm:shape>
              <dgm:presOf/>
              <dgm:constrLst/>
              <dgm:ruleLst/>
            </dgm:layoutNode>
          </dgm:forEach>
        </dgm:forEach>
      </dgm:layoutNode>
      <dgm:choose name="Name15">
        <dgm:if name="Name16" axis="self" ptType="node" func="revPos" op="gte" val="2">
          <dgm:layoutNode name="vSp">
            <dgm:alg type="sp"/>
            <dgm:shape xmlns:r="http://schemas.openxmlformats.org/officeDocument/2006/relationships" r:blip="">
              <dgm:adjLst/>
            </dgm:shape>
            <dgm:presOf/>
            <dgm:constrLst/>
            <dgm:ruleLst/>
          </dgm:layoutNode>
        </dgm:if>
        <dgm:else name="Name17"/>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10.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8.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9.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3C668-FFDE-4708-A467-EC3E1D8D8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1" name="PlaceHolder 2"/>
          <p:cNvSpPr>
            <a:spLocks noGrp="1"/>
          </p:cNvSpPr>
          <p:nvPr>
            <p:ph/>
          </p:nvPr>
        </p:nvSpPr>
        <p:spPr>
          <a:xfrm>
            <a:off x="380880" y="16765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32" name="PlaceHolder 3"/>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CCA69-2145-4A18-BA7E-0219F61D0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4"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35"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36"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37" name="PlaceHolder 5"/>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24DB3-4AC4-4242-9B16-98766521B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9" name="PlaceHolder 2"/>
          <p:cNvSpPr>
            <a:spLocks noGrp="1"/>
          </p:cNvSpPr>
          <p:nvPr>
            <p:ph/>
          </p:nvPr>
        </p:nvSpPr>
        <p:spPr>
          <a:xfrm>
            <a:off x="38088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0" name="PlaceHolder 3"/>
          <p:cNvSpPr>
            <a:spLocks noGrp="1"/>
          </p:cNvSpPr>
          <p:nvPr>
            <p:ph/>
          </p:nvPr>
        </p:nvSpPr>
        <p:spPr>
          <a:xfrm>
            <a:off x="324036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1" name="PlaceHolder 4"/>
          <p:cNvSpPr>
            <a:spLocks noGrp="1"/>
          </p:cNvSpPr>
          <p:nvPr>
            <p:ph/>
          </p:nvPr>
        </p:nvSpPr>
        <p:spPr>
          <a:xfrm>
            <a:off x="610020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2" name="PlaceHolder 5"/>
          <p:cNvSpPr>
            <a:spLocks noGrp="1"/>
          </p:cNvSpPr>
          <p:nvPr>
            <p:ph/>
          </p:nvPr>
        </p:nvSpPr>
        <p:spPr>
          <a:xfrm>
            <a:off x="38088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3" name="PlaceHolder 6"/>
          <p:cNvSpPr>
            <a:spLocks noGrp="1"/>
          </p:cNvSpPr>
          <p:nvPr>
            <p:ph/>
          </p:nvPr>
        </p:nvSpPr>
        <p:spPr>
          <a:xfrm>
            <a:off x="324036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44" name="PlaceHolder 7"/>
          <p:cNvSpPr>
            <a:spLocks noGrp="1"/>
          </p:cNvSpPr>
          <p:nvPr>
            <p:ph/>
          </p:nvPr>
        </p:nvSpPr>
        <p:spPr>
          <a:xfrm>
            <a:off x="610020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6D10A-4739-46BB-A66A-865727280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C32A9-0856-4F0A-8B39-6DDE09923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55" name="PlaceHolder 2"/>
          <p:cNvSpPr>
            <a:spLocks noGrp="1"/>
          </p:cNvSpPr>
          <p:nvPr>
            <p:ph type="subTitle"/>
          </p:nvPr>
        </p:nvSpPr>
        <p:spPr>
          <a:xfrm>
            <a:off x="380880" y="1676520"/>
            <a:ext cx="8457840" cy="1218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9BC97-0A84-472F-8827-4DE979C37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57" name="PlaceHolder 2"/>
          <p:cNvSpPr>
            <a:spLocks noGrp="1"/>
          </p:cNvSpPr>
          <p:nvPr>
            <p:ph/>
          </p:nvPr>
        </p:nvSpPr>
        <p:spPr>
          <a:xfrm>
            <a:off x="380880" y="1676520"/>
            <a:ext cx="845784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58BAB-0255-4BA4-90C6-EF6B68B1A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59"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0"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A0FC5-DF1B-4BA9-9C25-7D4DF8AA9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B15F2-356B-444A-B0A4-0C09A8E70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0360" y="2946960"/>
            <a:ext cx="8686440" cy="5491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7864C-1D44-4746-9B4A-9E6585581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64"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5"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6"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929DA-DECC-43B5-849E-6E9F4CF31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0" name="PlaceHolder 2"/>
          <p:cNvSpPr>
            <a:spLocks noGrp="1"/>
          </p:cNvSpPr>
          <p:nvPr>
            <p:ph type="subTitle"/>
          </p:nvPr>
        </p:nvSpPr>
        <p:spPr>
          <a:xfrm>
            <a:off x="380880" y="1676520"/>
            <a:ext cx="8457840" cy="1218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0171-93DD-45C7-AF1E-50B29F5FE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68"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9"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0" name="PlaceHolder 4"/>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18D94-C693-4ECB-9A06-BBE8EC21B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72"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3"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4" name="PlaceHolder 4"/>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4DDA5-D6AC-4773-9AB9-5C6ADB2DB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76" name="PlaceHolder 2"/>
          <p:cNvSpPr>
            <a:spLocks noGrp="1"/>
          </p:cNvSpPr>
          <p:nvPr>
            <p:ph/>
          </p:nvPr>
        </p:nvSpPr>
        <p:spPr>
          <a:xfrm>
            <a:off x="380880" y="16765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7" name="PlaceHolder 3"/>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ED7FF-1997-4D08-9041-B39BD5A5C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79"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80"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81"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82" name="PlaceHolder 5"/>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F9171-16EB-4A71-A805-3E3EFDD90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84" name="PlaceHolder 2"/>
          <p:cNvSpPr>
            <a:spLocks noGrp="1"/>
          </p:cNvSpPr>
          <p:nvPr>
            <p:ph/>
          </p:nvPr>
        </p:nvSpPr>
        <p:spPr>
          <a:xfrm>
            <a:off x="38088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5" name="PlaceHolder 3"/>
          <p:cNvSpPr>
            <a:spLocks noGrp="1"/>
          </p:cNvSpPr>
          <p:nvPr>
            <p:ph/>
          </p:nvPr>
        </p:nvSpPr>
        <p:spPr>
          <a:xfrm>
            <a:off x="324036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6" name="PlaceHolder 4"/>
          <p:cNvSpPr>
            <a:spLocks noGrp="1"/>
          </p:cNvSpPr>
          <p:nvPr>
            <p:ph/>
          </p:nvPr>
        </p:nvSpPr>
        <p:spPr>
          <a:xfrm>
            <a:off x="610020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7" name="PlaceHolder 5"/>
          <p:cNvSpPr>
            <a:spLocks noGrp="1"/>
          </p:cNvSpPr>
          <p:nvPr>
            <p:ph/>
          </p:nvPr>
        </p:nvSpPr>
        <p:spPr>
          <a:xfrm>
            <a:off x="38088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8" name="PlaceHolder 6"/>
          <p:cNvSpPr>
            <a:spLocks noGrp="1"/>
          </p:cNvSpPr>
          <p:nvPr>
            <p:ph/>
          </p:nvPr>
        </p:nvSpPr>
        <p:spPr>
          <a:xfrm>
            <a:off x="324036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89" name="PlaceHolder 7"/>
          <p:cNvSpPr>
            <a:spLocks noGrp="1"/>
          </p:cNvSpPr>
          <p:nvPr>
            <p:ph/>
          </p:nvPr>
        </p:nvSpPr>
        <p:spPr>
          <a:xfrm>
            <a:off x="610020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5091A-41F3-4FF9-B936-FF400B175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A6971F-6CB8-4184-A459-9F9D55C399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99" name="PlaceHolder 2"/>
          <p:cNvSpPr>
            <a:spLocks noGrp="1"/>
          </p:cNvSpPr>
          <p:nvPr>
            <p:ph type="subTitle"/>
          </p:nvPr>
        </p:nvSpPr>
        <p:spPr>
          <a:xfrm>
            <a:off x="380880" y="1676520"/>
            <a:ext cx="8457840" cy="1218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25311-285B-4A2D-B591-C634E49FC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01" name="PlaceHolder 2"/>
          <p:cNvSpPr>
            <a:spLocks noGrp="1"/>
          </p:cNvSpPr>
          <p:nvPr>
            <p:ph/>
          </p:nvPr>
        </p:nvSpPr>
        <p:spPr>
          <a:xfrm>
            <a:off x="380880" y="1676520"/>
            <a:ext cx="845784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34AE6-92FA-4E1A-A962-B44EED871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03"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04"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E8BE94-7CCC-4B14-9B7F-809CC96D0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6BD0CC-50EF-4019-B817-A8760D826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2" name="PlaceHolder 2"/>
          <p:cNvSpPr>
            <a:spLocks noGrp="1"/>
          </p:cNvSpPr>
          <p:nvPr>
            <p:ph/>
          </p:nvPr>
        </p:nvSpPr>
        <p:spPr>
          <a:xfrm>
            <a:off x="380880" y="1676520"/>
            <a:ext cx="845784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E47F-87E5-4E90-B9F1-8E6F45E71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80360" y="2946960"/>
            <a:ext cx="8686440" cy="5491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E70F3A-646B-4453-A39F-8E7488532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08"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09"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0"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B4732-589C-45EA-966C-81C788594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12"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3"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4" name="PlaceHolder 4"/>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17FA7-9690-4722-A800-4E0883C26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16"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7"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18" name="PlaceHolder 4"/>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6B2A8-F8D3-468A-A5D4-A8DAD7500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20" name="PlaceHolder 2"/>
          <p:cNvSpPr>
            <a:spLocks noGrp="1"/>
          </p:cNvSpPr>
          <p:nvPr>
            <p:ph/>
          </p:nvPr>
        </p:nvSpPr>
        <p:spPr>
          <a:xfrm>
            <a:off x="380880" y="16765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21" name="PlaceHolder 3"/>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0C34E3-AC6C-4466-9C82-32B60090A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23"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24"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25"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26" name="PlaceHolder 5"/>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765718-EB77-44C3-AD73-D41B7A8E52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28" name="PlaceHolder 2"/>
          <p:cNvSpPr>
            <a:spLocks noGrp="1"/>
          </p:cNvSpPr>
          <p:nvPr>
            <p:ph/>
          </p:nvPr>
        </p:nvSpPr>
        <p:spPr>
          <a:xfrm>
            <a:off x="38088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29" name="PlaceHolder 3"/>
          <p:cNvSpPr>
            <a:spLocks noGrp="1"/>
          </p:cNvSpPr>
          <p:nvPr>
            <p:ph/>
          </p:nvPr>
        </p:nvSpPr>
        <p:spPr>
          <a:xfrm>
            <a:off x="324036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30" name="PlaceHolder 4"/>
          <p:cNvSpPr>
            <a:spLocks noGrp="1"/>
          </p:cNvSpPr>
          <p:nvPr>
            <p:ph/>
          </p:nvPr>
        </p:nvSpPr>
        <p:spPr>
          <a:xfrm>
            <a:off x="610020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31" name="PlaceHolder 5"/>
          <p:cNvSpPr>
            <a:spLocks noGrp="1"/>
          </p:cNvSpPr>
          <p:nvPr>
            <p:ph/>
          </p:nvPr>
        </p:nvSpPr>
        <p:spPr>
          <a:xfrm>
            <a:off x="38088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32" name="PlaceHolder 6"/>
          <p:cNvSpPr>
            <a:spLocks noGrp="1"/>
          </p:cNvSpPr>
          <p:nvPr>
            <p:ph/>
          </p:nvPr>
        </p:nvSpPr>
        <p:spPr>
          <a:xfrm>
            <a:off x="324036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33" name="PlaceHolder 7"/>
          <p:cNvSpPr>
            <a:spLocks noGrp="1"/>
          </p:cNvSpPr>
          <p:nvPr>
            <p:ph/>
          </p:nvPr>
        </p:nvSpPr>
        <p:spPr>
          <a:xfrm>
            <a:off x="610020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248A22-2135-4B9E-A126-6B8B2FBF4E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5E1041-5125-482B-A7E8-9D90F0EB1A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43" name="PlaceHolder 2"/>
          <p:cNvSpPr>
            <a:spLocks noGrp="1"/>
          </p:cNvSpPr>
          <p:nvPr>
            <p:ph type="subTitle"/>
          </p:nvPr>
        </p:nvSpPr>
        <p:spPr>
          <a:xfrm>
            <a:off x="380880" y="1676520"/>
            <a:ext cx="8457840" cy="1218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D2696-7ACC-4606-B1C2-E67CC0C29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45" name="PlaceHolder 2"/>
          <p:cNvSpPr>
            <a:spLocks noGrp="1"/>
          </p:cNvSpPr>
          <p:nvPr>
            <p:ph/>
          </p:nvPr>
        </p:nvSpPr>
        <p:spPr>
          <a:xfrm>
            <a:off x="380880" y="1676520"/>
            <a:ext cx="845784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A32AA-EF81-47D9-9253-DFCE51EDE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4"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B17D3-9593-423F-8098-A3140B059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47"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48"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FB3E8E-5BBA-49AA-B02E-A61009DE3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B7C298-D863-42D3-B5B4-C30220C586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80360" y="2946960"/>
            <a:ext cx="8686440" cy="5491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C63D14-BC5A-4471-A127-A3CCDD36B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52"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3"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4"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0AEF9-5DAC-452D-9E16-22FD383C1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56"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7"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58" name="PlaceHolder 4"/>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02A51-9237-4DAC-BCAA-57BD16F75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60"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1"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2" name="PlaceHolder 4"/>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73676-87B4-49E2-8710-1AE400BD7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64" name="PlaceHolder 2"/>
          <p:cNvSpPr>
            <a:spLocks noGrp="1"/>
          </p:cNvSpPr>
          <p:nvPr>
            <p:ph/>
          </p:nvPr>
        </p:nvSpPr>
        <p:spPr>
          <a:xfrm>
            <a:off x="380880" y="16765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5" name="PlaceHolder 3"/>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7A56C1-B12D-431A-B11E-C43127A96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67"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8"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69"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170" name="PlaceHolder 5"/>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8DD196-D17D-49ED-98A4-065155D463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72" name="PlaceHolder 2"/>
          <p:cNvSpPr>
            <a:spLocks noGrp="1"/>
          </p:cNvSpPr>
          <p:nvPr>
            <p:ph/>
          </p:nvPr>
        </p:nvSpPr>
        <p:spPr>
          <a:xfrm>
            <a:off x="38088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3" name="PlaceHolder 3"/>
          <p:cNvSpPr>
            <a:spLocks noGrp="1"/>
          </p:cNvSpPr>
          <p:nvPr>
            <p:ph/>
          </p:nvPr>
        </p:nvSpPr>
        <p:spPr>
          <a:xfrm>
            <a:off x="324036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4" name="PlaceHolder 4"/>
          <p:cNvSpPr>
            <a:spLocks noGrp="1"/>
          </p:cNvSpPr>
          <p:nvPr>
            <p:ph/>
          </p:nvPr>
        </p:nvSpPr>
        <p:spPr>
          <a:xfrm>
            <a:off x="6100200" y="16765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5" name="PlaceHolder 5"/>
          <p:cNvSpPr>
            <a:spLocks noGrp="1"/>
          </p:cNvSpPr>
          <p:nvPr>
            <p:ph/>
          </p:nvPr>
        </p:nvSpPr>
        <p:spPr>
          <a:xfrm>
            <a:off x="38088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6" name="PlaceHolder 6"/>
          <p:cNvSpPr>
            <a:spLocks noGrp="1"/>
          </p:cNvSpPr>
          <p:nvPr>
            <p:ph/>
          </p:nvPr>
        </p:nvSpPr>
        <p:spPr>
          <a:xfrm>
            <a:off x="324036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177" name="PlaceHolder 7"/>
          <p:cNvSpPr>
            <a:spLocks noGrp="1"/>
          </p:cNvSpPr>
          <p:nvPr>
            <p:ph/>
          </p:nvPr>
        </p:nvSpPr>
        <p:spPr>
          <a:xfrm>
            <a:off x="6100200" y="2313720"/>
            <a:ext cx="2723040" cy="581400"/>
          </a:xfrm>
          <a:prstGeom prst="rect">
            <a:avLst/>
          </a:prstGeom>
          <a:noFill/>
          <a:ln w="0">
            <a:noFill/>
          </a:ln>
        </p:spPr>
        <p:txBody>
          <a:bodyPr lIns="0" rIns="0" tIns="0" bIns="0" anchor="t">
            <a:normAutofit fontScale="72000"/>
          </a:bodyPr>
          <a:p>
            <a:pPr indent="0">
              <a:spcBef>
                <a:spcPts val="1417"/>
              </a:spcBef>
              <a:buNone/>
            </a:pPr>
            <a:endParaRPr b="0" lang="es-E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87A433-9330-472D-8242-8B666AD4C6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D735B-CD56-4BB1-8DBC-1D5EB9FAD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0360" y="2946960"/>
            <a:ext cx="8686440" cy="5491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621EA-F6AB-4A65-AC88-ADA33708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19"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0" name="PlaceHolder 3"/>
          <p:cNvSpPr>
            <a:spLocks noGrp="1"/>
          </p:cNvSpPr>
          <p:nvPr>
            <p:ph/>
          </p:nvPr>
        </p:nvSpPr>
        <p:spPr>
          <a:xfrm>
            <a:off x="471492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1" name="PlaceHolder 4"/>
          <p:cNvSpPr>
            <a:spLocks noGrp="1"/>
          </p:cNvSpPr>
          <p:nvPr>
            <p:ph/>
          </p:nvPr>
        </p:nvSpPr>
        <p:spPr>
          <a:xfrm>
            <a:off x="38088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5DF31-201E-4D1E-ABEB-DDAA9DDE4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23" name="PlaceHolder 2"/>
          <p:cNvSpPr>
            <a:spLocks noGrp="1"/>
          </p:cNvSpPr>
          <p:nvPr>
            <p:ph/>
          </p:nvPr>
        </p:nvSpPr>
        <p:spPr>
          <a:xfrm>
            <a:off x="380880" y="1676520"/>
            <a:ext cx="4127400" cy="121896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4"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5" name="PlaceHolder 4"/>
          <p:cNvSpPr>
            <a:spLocks noGrp="1"/>
          </p:cNvSpPr>
          <p:nvPr>
            <p:ph/>
          </p:nvPr>
        </p:nvSpPr>
        <p:spPr>
          <a:xfrm>
            <a:off x="4714920" y="23137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DB1C-9CE7-4E02-9049-3B34095A3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0360" y="2946960"/>
            <a:ext cx="8686440" cy="1184400"/>
          </a:xfrm>
          <a:prstGeom prst="rect">
            <a:avLst/>
          </a:prstGeom>
          <a:noFill/>
          <a:ln w="0">
            <a:noFill/>
          </a:ln>
        </p:spPr>
        <p:txBody>
          <a:bodyPr lIns="0" rIns="0" tIns="0" bIns="0" anchor="ctr">
            <a:noAutofit/>
          </a:bodyPr>
          <a:p>
            <a:pPr indent="0">
              <a:buNone/>
            </a:pPr>
            <a:endParaRPr b="0" lang="es-ES" sz="1800" spc="-1" strike="noStrike">
              <a:solidFill>
                <a:srgbClr val="000000"/>
              </a:solidFill>
              <a:latin typeface="Franklin Gothic Book"/>
            </a:endParaRPr>
          </a:p>
        </p:txBody>
      </p:sp>
      <p:sp>
        <p:nvSpPr>
          <p:cNvPr id="27" name="PlaceHolder 2"/>
          <p:cNvSpPr>
            <a:spLocks noGrp="1"/>
          </p:cNvSpPr>
          <p:nvPr>
            <p:ph/>
          </p:nvPr>
        </p:nvSpPr>
        <p:spPr>
          <a:xfrm>
            <a:off x="38088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8" name="PlaceHolder 3"/>
          <p:cNvSpPr>
            <a:spLocks noGrp="1"/>
          </p:cNvSpPr>
          <p:nvPr>
            <p:ph/>
          </p:nvPr>
        </p:nvSpPr>
        <p:spPr>
          <a:xfrm>
            <a:off x="4714920" y="1676520"/>
            <a:ext cx="412740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29" name="PlaceHolder 4"/>
          <p:cNvSpPr>
            <a:spLocks noGrp="1"/>
          </p:cNvSpPr>
          <p:nvPr>
            <p:ph/>
          </p:nvPr>
        </p:nvSpPr>
        <p:spPr>
          <a:xfrm>
            <a:off x="380880" y="2313720"/>
            <a:ext cx="8457840" cy="581400"/>
          </a:xfrm>
          <a:prstGeom prst="rect">
            <a:avLst/>
          </a:prstGeom>
          <a:noFill/>
          <a:ln w="0">
            <a:noFill/>
          </a:ln>
        </p:spPr>
        <p:txBody>
          <a:bodyPr lIns="0" rIns="0" tIns="0" bIns="0" anchor="t">
            <a:normAutofit/>
          </a:bodyPr>
          <a:p>
            <a:pPr indent="0">
              <a:spcBef>
                <a:spcPts val="1417"/>
              </a:spcBef>
              <a:buNone/>
            </a:pPr>
            <a:endParaRPr b="0" lang="es-E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32AA-0768-4E11-901A-4C5655B34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94858" sy="94858" algn="t"/>
        </a:blipFill>
      </p:bgPr>
    </p:bg>
    <p:spTree>
      <p:nvGrpSpPr>
        <p:cNvPr id="1" name=""/>
        <p:cNvGrpSpPr/>
        <p:nvPr/>
      </p:nvGrpSpPr>
      <p:grpSpPr>
        <a:xfrm>
          <a:off x="0" y="0"/>
          <a:ext cx="0" cy="0"/>
          <a:chOff x="0" y="0"/>
          <a:chExt cx="0" cy="0"/>
        </a:xfrm>
      </p:grpSpPr>
      <p:sp>
        <p:nvSpPr>
          <p:cNvPr id="0" name="6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8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11 Conector recto"/>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6 Conector recto"/>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es-ES" sz="3600" spc="-1" strike="noStrike" cap="all">
                <a:solidFill>
                  <a:srgbClr val="4e3b30"/>
                </a:solidFill>
                <a:latin typeface="Franklin Gothic Medium"/>
              </a:rPr>
              <a:t>Haga clic para modificar el estilo de título del patrón</a:t>
            </a:r>
            <a:endParaRPr b="0" lang="es-ES"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s-ES" sz="1200" spc="-1" strike="noStrike">
                <a:solidFill>
                  <a:srgbClr val="d38e28"/>
                </a:solidFill>
                <a:latin typeface="Franklin Gothic Book"/>
              </a:defRPr>
            </a:lvl1pPr>
          </a:lstStyle>
          <a:p>
            <a:pPr indent="0">
              <a:lnSpc>
                <a:spcPct val="100000"/>
              </a:lnSpc>
              <a:buNone/>
            </a:pPr>
            <a:r>
              <a:rPr b="0" lang="es-E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s-ES" sz="1200" spc="-1" strike="noStrike">
                <a:solidFill>
                  <a:srgbClr val="d38e28"/>
                </a:solidFill>
                <a:latin typeface="Franklin Gothic Book"/>
              </a:defRPr>
            </a:lvl1pPr>
          </a:lstStyle>
          <a:p>
            <a:pPr indent="0" algn="r">
              <a:lnSpc>
                <a:spcPct val="100000"/>
              </a:lnSpc>
              <a:buNone/>
            </a:pPr>
            <a:fld id="{2BCBA349-F3CB-4C3E-BF19-79C22491396E}" type="slidenum">
              <a:rPr b="0" lang="es-E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4e3b30"/>
                </a:solidFill>
                <a:latin typeface="Franklin Gothic Book"/>
              </a:rPr>
              <a:t>Click to edit the outline text format</a:t>
            </a:r>
            <a:endParaRPr b="0" lang="es-ES"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es-ES" sz="2400" spc="-1" strike="noStrike">
                <a:solidFill>
                  <a:srgbClr val="4e3b30"/>
                </a:solidFill>
                <a:latin typeface="Franklin Gothic Book"/>
              </a:rPr>
              <a:t>Second Outline Level</a:t>
            </a:r>
            <a:endParaRPr b="0" lang="es-ES"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es-ES" sz="2000" spc="-1" strike="noStrike">
                <a:solidFill>
                  <a:srgbClr val="4e3b30"/>
                </a:solidFill>
                <a:latin typeface="Franklin Gothic Book"/>
              </a:rPr>
              <a:t>Third Outline Level</a:t>
            </a:r>
            <a:endParaRPr b="0" lang="es-ES"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es-ES" sz="1800" spc="-1" strike="noStrike">
                <a:solidFill>
                  <a:srgbClr val="4e3b30"/>
                </a:solidFill>
                <a:latin typeface="Franklin Gothic Book"/>
              </a:rPr>
              <a:t>Fourth Outline Level</a:t>
            </a:r>
            <a:endParaRPr b="0" lang="es-ES"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Fifth Outline Level</a:t>
            </a:r>
            <a:endParaRPr b="0" lang="es-ES"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Sixth Outline Level</a:t>
            </a:r>
            <a:endParaRPr b="0" lang="es-ES"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Seventh Outline Level</a:t>
            </a:r>
            <a:endParaRPr b="0" lang="es-ES"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94858" sy="94858" algn="t"/>
        </a:blipFill>
      </p:bgPr>
    </p:bg>
    <p:spTree>
      <p:nvGrpSpPr>
        <p:cNvPr id="1" name=""/>
        <p:cNvGrpSpPr/>
        <p:nvPr/>
      </p:nvGrpSpPr>
      <p:grpSpPr>
        <a:xfrm>
          <a:off x="0" y="0"/>
          <a:ext cx="0" cy="0"/>
          <a:chOff x="0" y="0"/>
          <a:chExt cx="0" cy="0"/>
        </a:xfrm>
      </p:grpSpPr>
      <p:sp>
        <p:nvSpPr>
          <p:cNvPr id="45" name="6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8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11 Conector recto"/>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6 Conector recto"/>
          <p:cNvSpPr/>
          <p:nvPr/>
        </p:nvSpPr>
        <p:spPr>
          <a:xfrm>
            <a:off x="514080" y="3444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9" name="PlaceHolder 1"/>
          <p:cNvSpPr>
            <a:spLocks noGrp="1"/>
          </p:cNvSpPr>
          <p:nvPr>
            <p:ph type="body"/>
          </p:nvPr>
        </p:nvSpPr>
        <p:spPr>
          <a:xfrm>
            <a:off x="380880" y="1676520"/>
            <a:ext cx="8457840" cy="1218960"/>
          </a:xfrm>
          <a:prstGeom prst="rect">
            <a:avLst/>
          </a:prstGeom>
          <a:noFill/>
          <a:ln w="0">
            <a:noFill/>
          </a:ln>
        </p:spPr>
        <p:txBody>
          <a:bodyPr lIns="90000" rIns="90000" tIns="45000" bIns="45000" anchor="b">
            <a:noAutofit/>
          </a:bodyPr>
          <a:p>
            <a:pPr indent="0" algn="r">
              <a:lnSpc>
                <a:spcPct val="100000"/>
              </a:lnSpc>
              <a:spcBef>
                <a:spcPts val="400"/>
              </a:spcBef>
              <a:buNone/>
              <a:tabLst>
                <a:tab algn="l" pos="0"/>
              </a:tabLst>
            </a:pPr>
            <a:r>
              <a:rPr b="0" lang="es-ES" sz="2000" spc="-1" strike="noStrike">
                <a:solidFill>
                  <a:srgbClr val="44342a"/>
                </a:solidFill>
                <a:latin typeface="Franklin Gothic Book"/>
              </a:rPr>
              <a:t>Haga clic para modificar el estilo de texto del patrón</a:t>
            </a:r>
            <a:endParaRPr b="0" lang="es-ES" sz="2000" spc="-1" strike="noStrike">
              <a:solidFill>
                <a:srgbClr val="4e3b30"/>
              </a:solidFill>
              <a:latin typeface="Franklin Gothic Book"/>
            </a:endParaRPr>
          </a:p>
        </p:txBody>
      </p:sp>
      <p:sp>
        <p:nvSpPr>
          <p:cNvPr id="50" name="PlaceHolder 2"/>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s-ES" sz="1200" spc="-1" strike="noStrike">
                <a:solidFill>
                  <a:srgbClr val="d38e28"/>
                </a:solidFill>
                <a:latin typeface="Franklin Gothic Book"/>
              </a:defRPr>
            </a:lvl1pPr>
          </a:lstStyle>
          <a:p>
            <a:pPr indent="0">
              <a:lnSpc>
                <a:spcPct val="100000"/>
              </a:lnSpc>
              <a:buNone/>
            </a:pPr>
            <a:r>
              <a:rPr b="0" lang="es-E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s-ES" sz="1200" spc="-1" strike="noStrike">
                <a:solidFill>
                  <a:srgbClr val="d38e28"/>
                </a:solidFill>
                <a:latin typeface="Franklin Gothic Book"/>
              </a:defRPr>
            </a:lvl1pPr>
          </a:lstStyle>
          <a:p>
            <a:pPr indent="0" algn="r">
              <a:lnSpc>
                <a:spcPct val="100000"/>
              </a:lnSpc>
              <a:buNone/>
            </a:pPr>
            <a:fld id="{D5292A86-2D31-424A-BD88-89B180B451DC}" type="slidenum">
              <a:rPr b="0" lang="es-E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53" name="PlaceHolder 5"/>
          <p:cNvSpPr>
            <a:spLocks noGrp="1"/>
          </p:cNvSpPr>
          <p:nvPr>
            <p:ph type="title"/>
          </p:nvPr>
        </p:nvSpPr>
        <p:spPr>
          <a:xfrm>
            <a:off x="180360" y="2946960"/>
            <a:ext cx="8686440" cy="118440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Haga clic para modificar el estilo de título del patrón</a:t>
            </a:r>
            <a:endParaRPr b="0" lang="es-ES" sz="36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94858" sy="94858" algn="t"/>
        </a:blipFill>
      </p:bgPr>
    </p:bg>
    <p:spTree>
      <p:nvGrpSpPr>
        <p:cNvPr id="1" name=""/>
        <p:cNvGrpSpPr/>
        <p:nvPr/>
      </p:nvGrpSpPr>
      <p:grpSpPr>
        <a:xfrm>
          <a:off x="0" y="0"/>
          <a:ext cx="0" cy="0"/>
          <a:chOff x="0" y="0"/>
          <a:chExt cx="0" cy="0"/>
        </a:xfrm>
      </p:grpSpPr>
      <p:sp>
        <p:nvSpPr>
          <p:cNvPr id="90" name="6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1" name="8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2" name="11 Conector recto"/>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9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Haga clic para modificar el estilo de título del patrón</a:t>
            </a:r>
            <a:endParaRPr b="0" lang="es-ES" sz="3600" spc="-1" strike="noStrike">
              <a:solidFill>
                <a:srgbClr val="000000"/>
              </a:solidFill>
              <a:latin typeface="Franklin Gothic Book"/>
            </a:endParaRPr>
          </a:p>
        </p:txBody>
      </p:sp>
      <p:sp>
        <p:nvSpPr>
          <p:cNvPr id="94"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es-ES" sz="3200" spc="-1" strike="noStrike">
                <a:solidFill>
                  <a:srgbClr val="4e3b30"/>
                </a:solidFill>
                <a:latin typeface="Franklin Gothic Book"/>
              </a:rPr>
              <a:t>Haga clic para modificar el estilo de texto del patrón</a:t>
            </a:r>
            <a:endParaRPr b="0" lang="es-ES"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es-ES" sz="2800" spc="-1" strike="noStrike">
                <a:solidFill>
                  <a:srgbClr val="4e3b30"/>
                </a:solidFill>
                <a:latin typeface="Franklin Gothic Book"/>
              </a:rPr>
              <a:t>Segundo nivel</a:t>
            </a:r>
            <a:endParaRPr b="0" lang="es-ES"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es-ES" sz="2400" spc="-1" strike="noStrike">
                <a:solidFill>
                  <a:srgbClr val="4e3b30"/>
                </a:solidFill>
                <a:latin typeface="Franklin Gothic Book"/>
              </a:rPr>
              <a:t>Tercer nivel</a:t>
            </a:r>
            <a:endParaRPr b="0" lang="es-ES"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Cuarto nivel</a:t>
            </a:r>
            <a:endParaRPr b="0" lang="es-ES"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s-ES" sz="1800" spc="-1" strike="noStrike">
                <a:solidFill>
                  <a:srgbClr val="4e3b30"/>
                </a:solidFill>
                <a:latin typeface="Franklin Gothic Book"/>
              </a:rPr>
              <a:t>Quinto nivel</a:t>
            </a:r>
            <a:endParaRPr b="0" lang="es-ES" sz="1800" spc="-1" strike="noStrike">
              <a:solidFill>
                <a:srgbClr val="4e3b30"/>
              </a:solidFill>
              <a:latin typeface="Franklin Gothic Book"/>
            </a:endParaRPr>
          </a:p>
        </p:txBody>
      </p:sp>
      <p:sp>
        <p:nvSpPr>
          <p:cNvPr id="95" name="PlaceHolder 3"/>
          <p:cNvSpPr>
            <a:spLocks noGrp="1"/>
          </p:cNvSpPr>
          <p:nvPr>
            <p:ph type="dt" idx="7"/>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s-ES" sz="1200" spc="-1" strike="noStrike">
                <a:solidFill>
                  <a:srgbClr val="d38e28"/>
                </a:solidFill>
                <a:latin typeface="Franklin Gothic Book"/>
              </a:defRPr>
            </a:lvl1pPr>
          </a:lstStyle>
          <a:p>
            <a:pPr indent="0">
              <a:lnSpc>
                <a:spcPct val="100000"/>
              </a:lnSpc>
              <a:buNone/>
            </a:pPr>
            <a:r>
              <a:rPr b="0" lang="es-E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s-ES" sz="1200" spc="-1" strike="noStrike">
                <a:solidFill>
                  <a:srgbClr val="d38e28"/>
                </a:solidFill>
                <a:latin typeface="Franklin Gothic Book"/>
              </a:defRPr>
            </a:lvl1pPr>
          </a:lstStyle>
          <a:p>
            <a:pPr indent="0" algn="r">
              <a:lnSpc>
                <a:spcPct val="100000"/>
              </a:lnSpc>
              <a:buNone/>
            </a:pPr>
            <a:fld id="{E68CE78B-EEEA-4E1A-9F8F-B60163F35EE4}" type="slidenum">
              <a:rPr b="0" lang="es-E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94858" sy="94858" algn="t"/>
        </a:blipFill>
      </p:bgPr>
    </p:bg>
    <p:spTree>
      <p:nvGrpSpPr>
        <p:cNvPr id="1" name=""/>
        <p:cNvGrpSpPr/>
        <p:nvPr/>
      </p:nvGrpSpPr>
      <p:grpSpPr>
        <a:xfrm>
          <a:off x="0" y="0"/>
          <a:ext cx="0" cy="0"/>
          <a:chOff x="0" y="0"/>
          <a:chExt cx="0" cy="0"/>
        </a:xfrm>
      </p:grpSpPr>
      <p:sp>
        <p:nvSpPr>
          <p:cNvPr id="134" name="6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5" name="8 Conector recto"/>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6" name="11 Conector recto"/>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37"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Haga clic para modificar el estilo de título del patrón</a:t>
            </a:r>
            <a:endParaRPr b="0" lang="es-ES" sz="3600" spc="-1" strike="noStrike">
              <a:solidFill>
                <a:srgbClr val="000000"/>
              </a:solidFill>
              <a:latin typeface="Franklin Gothic Book"/>
            </a:endParaRPr>
          </a:p>
        </p:txBody>
      </p:sp>
      <p:sp>
        <p:nvSpPr>
          <p:cNvPr id="138" name="PlaceHolder 2"/>
          <p:cNvSpPr>
            <a:spLocks noGrp="1"/>
          </p:cNvSpPr>
          <p:nvPr>
            <p:ph type="dt" idx="10"/>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s-ES" sz="1200" spc="-1" strike="noStrike">
                <a:solidFill>
                  <a:srgbClr val="d38e28"/>
                </a:solidFill>
                <a:latin typeface="Franklin Gothic Book"/>
              </a:defRPr>
            </a:lvl1pPr>
          </a:lstStyle>
          <a:p>
            <a:pPr indent="0">
              <a:lnSpc>
                <a:spcPct val="100000"/>
              </a:lnSpc>
              <a:buNone/>
            </a:pPr>
            <a:r>
              <a:rPr b="0" lang="es-E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139" name="PlaceHolder 3"/>
          <p:cNvSpPr>
            <a:spLocks noGrp="1"/>
          </p:cNvSpPr>
          <p:nvPr>
            <p:ph type="ftr" idx="11"/>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0" name="PlaceHolder 4"/>
          <p:cNvSpPr>
            <a:spLocks noGrp="1"/>
          </p:cNvSpPr>
          <p:nvPr>
            <p:ph type="sldNum" idx="12"/>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s-ES" sz="1200" spc="-1" strike="noStrike">
                <a:solidFill>
                  <a:srgbClr val="d38e28"/>
                </a:solidFill>
                <a:latin typeface="Franklin Gothic Book"/>
              </a:defRPr>
            </a:lvl1pPr>
          </a:lstStyle>
          <a:p>
            <a:pPr indent="0" algn="r">
              <a:lnSpc>
                <a:spcPct val="100000"/>
              </a:lnSpc>
              <a:buNone/>
            </a:pPr>
            <a:fld id="{D3E7B55F-3093-48F2-A947-E9931FE96C0F}" type="slidenum">
              <a:rPr b="0" lang="es-E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14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s-ES" sz="3200" spc="-1" strike="noStrike">
                <a:solidFill>
                  <a:srgbClr val="4e3b30"/>
                </a:solidFill>
                <a:latin typeface="Franklin Gothic Book"/>
              </a:rPr>
              <a:t>Click to edit the outline text format</a:t>
            </a:r>
            <a:endParaRPr b="0" lang="es-ES"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es-ES" sz="2400" spc="-1" strike="noStrike">
                <a:solidFill>
                  <a:srgbClr val="4e3b30"/>
                </a:solidFill>
                <a:latin typeface="Franklin Gothic Book"/>
              </a:rPr>
              <a:t>Second Outline Level</a:t>
            </a:r>
            <a:endParaRPr b="0" lang="es-ES"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es-ES" sz="2000" spc="-1" strike="noStrike">
                <a:solidFill>
                  <a:srgbClr val="4e3b30"/>
                </a:solidFill>
                <a:latin typeface="Franklin Gothic Book"/>
              </a:rPr>
              <a:t>Third Outline Level</a:t>
            </a:r>
            <a:endParaRPr b="0" lang="es-ES"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es-ES" sz="1800" spc="-1" strike="noStrike">
                <a:solidFill>
                  <a:srgbClr val="4e3b30"/>
                </a:solidFill>
                <a:latin typeface="Franklin Gothic Book"/>
              </a:rPr>
              <a:t>Fourth Outline Level</a:t>
            </a:r>
            <a:endParaRPr b="0" lang="es-ES"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Fifth Outline Level</a:t>
            </a:r>
            <a:endParaRPr b="0" lang="es-ES"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Sixth Outline Level</a:t>
            </a:r>
            <a:endParaRPr b="0" lang="es-ES"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es-ES" sz="2000" spc="-1" strike="noStrike">
                <a:solidFill>
                  <a:srgbClr val="4e3b30"/>
                </a:solidFill>
                <a:latin typeface="Franklin Gothic Book"/>
              </a:rPr>
              <a:t>Seventh Outline Level</a:t>
            </a:r>
            <a:endParaRPr b="0" lang="es-ES"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Layout" Target="../slideLayouts/slideLayout41.xml"/>
</Relationships>
</file>

<file path=ppt/slides/_rels/slide13.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 Target="slide12.xml"/><Relationship Id="rId6" Type="http://schemas.openxmlformats.org/officeDocument/2006/relationships/slideLayout" Target="../slideLayouts/slideLayout41.xml"/>
</Relationships>
</file>

<file path=ppt/slides/_rels/slide14.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slide" Target="slide12.xml"/><Relationship Id="rId6" Type="http://schemas.openxmlformats.org/officeDocument/2006/relationships/slideLayout" Target="../slideLayouts/slideLayout41.xml"/>
</Relationships>
</file>

<file path=ppt/slides/_rels/slide15.xml.rels><?xml version="1.0" encoding="UTF-8"?>
<Relationships xmlns="http://schemas.openxmlformats.org/package/2006/relationships"><Relationship Id="rId1" Type="http://schemas.openxmlformats.org/officeDocument/2006/relationships/diagramData" Target="../diagrams/data4.xml"/><Relationship Id="rId2" Type="http://schemas.openxmlformats.org/officeDocument/2006/relationships/diagramLayout" Target="../diagrams/layout4.xml"/><Relationship Id="rId3" Type="http://schemas.openxmlformats.org/officeDocument/2006/relationships/diagramQuickStyle" Target="../diagrams/quickStyle4.xml"/><Relationship Id="rId4" Type="http://schemas.openxmlformats.org/officeDocument/2006/relationships/diagramColors" Target="../diagrams/colors4.xml"/><Relationship Id="rId5" Type="http://schemas.openxmlformats.org/officeDocument/2006/relationships/slide" Target="slide12.xml"/><Relationship Id="rId6" Type="http://schemas.openxmlformats.org/officeDocument/2006/relationships/slideLayout" Target="../slideLayouts/slideLayout4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12.xml"/><Relationship Id="rId12" Type="http://schemas.openxmlformats.org/officeDocument/2006/relationships/slide" Target="slide30.xml"/><Relationship Id="rId13" Type="http://schemas.openxmlformats.org/officeDocument/2006/relationships/slide" Target="slide30.xml"/><Relationship Id="rId14" Type="http://schemas.openxmlformats.org/officeDocument/2006/relationships/slide" Target="slide40.xml"/><Relationship Id="rId15" Type="http://schemas.openxmlformats.org/officeDocument/2006/relationships/slide" Target="slide5.xml"/><Relationship Id="rId16" Type="http://schemas.openxmlformats.org/officeDocument/2006/relationships/slide" Target="slide20.xml"/><Relationship Id="rId17" Type="http://schemas.openxmlformats.org/officeDocument/2006/relationships/slide" Target="slide31.xml"/><Relationship Id="rId18" Type="http://schemas.openxmlformats.org/officeDocument/2006/relationships/slide" Target="slide9.xml"/><Relationship Id="rId19" Type="http://schemas.openxmlformats.org/officeDocument/2006/relationships/slide" Target="slide9.xml"/><Relationship Id="rId20" Type="http://schemas.openxmlformats.org/officeDocument/2006/relationships/slide" Target="slide21.xml"/><Relationship Id="rId21" Type="http://schemas.openxmlformats.org/officeDocument/2006/relationships/slide" Target="slide37.xml"/><Relationship Id="rId22" Type="http://schemas.openxmlformats.org/officeDocument/2006/relationships/slide" Target="slide27.xml"/><Relationship Id="rId23" Type="http://schemas.openxmlformats.org/officeDocument/2006/relationships/slide" Target="slide28.xml"/><Relationship Id="rId2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1.xml.rels><?xml version="1.0" encoding="UTF-8"?>
<Relationships xmlns="http://schemas.openxmlformats.org/package/2006/relationships"><Relationship Id="rId1" Type="http://schemas.openxmlformats.org/officeDocument/2006/relationships/diagramData" Target="../diagrams/data5.xml"/><Relationship Id="rId2" Type="http://schemas.openxmlformats.org/officeDocument/2006/relationships/diagramLayout" Target="../diagrams/layout5.xml"/><Relationship Id="rId3" Type="http://schemas.openxmlformats.org/officeDocument/2006/relationships/diagramQuickStyle" Target="../diagrams/quickStyle5.xml"/><Relationship Id="rId4" Type="http://schemas.openxmlformats.org/officeDocument/2006/relationships/diagramColors" Target="../diagrams/colors5.xml"/><Relationship Id="rId5" Type="http://schemas.openxmlformats.org/officeDocument/2006/relationships/slideLayout" Target="../slideLayouts/slideLayout41.xml"/>
</Relationships>
</file>

<file path=ppt/slides/_rels/slide22.xml.rels><?xml version="1.0" encoding="UTF-8"?>
<Relationships xmlns="http://schemas.openxmlformats.org/package/2006/relationships"><Relationship Id="rId1" Type="http://schemas.openxmlformats.org/officeDocument/2006/relationships/diagramData" Target="../diagrams/data6.xml"/><Relationship Id="rId2" Type="http://schemas.openxmlformats.org/officeDocument/2006/relationships/diagramLayout" Target="../diagrams/layout6.xml"/><Relationship Id="rId3" Type="http://schemas.openxmlformats.org/officeDocument/2006/relationships/diagramQuickStyle" Target="../diagrams/quickStyle6.xml"/><Relationship Id="rId4" Type="http://schemas.openxmlformats.org/officeDocument/2006/relationships/diagramColors" Target="../diagrams/colors6.xml"/><Relationship Id="rId5" Type="http://schemas.openxmlformats.org/officeDocument/2006/relationships/slideLayout" Target="../slideLayouts/slideLayout41.xml"/>
</Relationships>
</file>

<file path=ppt/slides/_rels/slide23.xml.rels><?xml version="1.0" encoding="UTF-8"?>
<Relationships xmlns="http://schemas.openxmlformats.org/package/2006/relationships"><Relationship Id="rId1" Type="http://schemas.openxmlformats.org/officeDocument/2006/relationships/diagramData" Target="../diagrams/data7.xml"/><Relationship Id="rId2" Type="http://schemas.openxmlformats.org/officeDocument/2006/relationships/diagramLayout" Target="../diagrams/layout7.xml"/><Relationship Id="rId3" Type="http://schemas.openxmlformats.org/officeDocument/2006/relationships/diagramQuickStyle" Target="../diagrams/quickStyle7.xml"/><Relationship Id="rId4" Type="http://schemas.openxmlformats.org/officeDocument/2006/relationships/diagramColors" Target="../diagrams/colors7.xml"/><Relationship Id="rId5" Type="http://schemas.openxmlformats.org/officeDocument/2006/relationships/slideLayout" Target="../slideLayouts/slideLayout41.xml"/>
</Relationships>
</file>

<file path=ppt/slides/_rels/slide24.xml.rels><?xml version="1.0" encoding="UTF-8"?>
<Relationships xmlns="http://schemas.openxmlformats.org/package/2006/relationships"><Relationship Id="rId1" Type="http://schemas.openxmlformats.org/officeDocument/2006/relationships/diagramData" Target="../diagrams/data8.xml"/><Relationship Id="rId2" Type="http://schemas.openxmlformats.org/officeDocument/2006/relationships/diagramLayout" Target="../diagrams/layout8.xml"/><Relationship Id="rId3" Type="http://schemas.openxmlformats.org/officeDocument/2006/relationships/diagramQuickStyle" Target="../diagrams/quickStyle8.xml"/><Relationship Id="rId4" Type="http://schemas.openxmlformats.org/officeDocument/2006/relationships/diagramColors" Target="../diagrams/colors8.xml"/><Relationship Id="rId5" Type="http://schemas.openxmlformats.org/officeDocument/2006/relationships/slideLayout" Target="../slideLayouts/slideLayout41.xml"/>
</Relationships>
</file>

<file path=ppt/slides/_rels/slide25.xml.rels><?xml version="1.0" encoding="UTF-8"?>
<Relationships xmlns="http://schemas.openxmlformats.org/package/2006/relationships"><Relationship Id="rId1" Type="http://schemas.openxmlformats.org/officeDocument/2006/relationships/diagramData" Target="../diagrams/data9.xml"/><Relationship Id="rId2" Type="http://schemas.openxmlformats.org/officeDocument/2006/relationships/diagramLayout" Target="../diagrams/layout9.xml"/><Relationship Id="rId3" Type="http://schemas.openxmlformats.org/officeDocument/2006/relationships/diagramQuickStyle" Target="../diagrams/quickStyle9.xml"/><Relationship Id="rId4" Type="http://schemas.openxmlformats.org/officeDocument/2006/relationships/diagramColors" Target="../diagrams/colors9.xml"/><Relationship Id="rId5" Type="http://schemas.openxmlformats.org/officeDocument/2006/relationships/slideLayout" Target="../slideLayouts/slideLayout41.xml"/>
</Relationships>
</file>

<file path=ppt/slides/_rels/slide26.xml.rels><?xml version="1.0" encoding="UTF-8"?>
<Relationships xmlns="http://schemas.openxmlformats.org/package/2006/relationships"><Relationship Id="rId1" Type="http://schemas.openxmlformats.org/officeDocument/2006/relationships/diagramData" Target="../diagrams/data10.xml"/><Relationship Id="rId2" Type="http://schemas.openxmlformats.org/officeDocument/2006/relationships/diagramLayout" Target="../diagrams/layout10.xml"/><Relationship Id="rId3" Type="http://schemas.openxmlformats.org/officeDocument/2006/relationships/diagramQuickStyle" Target="../diagrams/quickStyle10.xml"/><Relationship Id="rId4" Type="http://schemas.openxmlformats.org/officeDocument/2006/relationships/diagramColors" Target="../diagrams/colors10.xml"/><Relationship Id="rId5" Type="http://schemas.openxmlformats.org/officeDocument/2006/relationships/slideLayout" Target="../slideLayouts/slideLayout4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7.xm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7.xm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3 Imagen" descr="aceiteacomont[1].jpg"/>
          <p:cNvPicPr/>
          <p:nvPr/>
        </p:nvPicPr>
        <p:blipFill>
          <a:blip r:embed="rId1"/>
          <a:stretch/>
        </p:blipFill>
        <p:spPr>
          <a:xfrm>
            <a:off x="-42120" y="31320"/>
            <a:ext cx="9185760" cy="6826320"/>
          </a:xfrm>
          <a:prstGeom prst="rect">
            <a:avLst/>
          </a:prstGeom>
          <a:ln w="0">
            <a:noFill/>
          </a:ln>
        </p:spPr>
      </p:pic>
      <p:sp>
        <p:nvSpPr>
          <p:cNvPr id="179"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1" lang="es-ES" sz="3600" spc="-1" strike="noStrike" cap="all">
                <a:solidFill>
                  <a:srgbClr val="000000"/>
                </a:solidFill>
                <a:latin typeface="Franklin Gothic Medium"/>
              </a:rPr>
              <a:t>Aceites fuente la madera</a:t>
            </a:r>
            <a:br>
              <a:rPr sz="3600"/>
            </a:br>
            <a:r>
              <a:rPr b="1" lang="es-ES" sz="3600" spc="-1" strike="noStrike" cap="all">
                <a:solidFill>
                  <a:srgbClr val="000000"/>
                </a:solidFill>
                <a:latin typeface="Franklin Gothic Medium"/>
              </a:rPr>
              <a:t>  (Manuel montes Marín)</a:t>
            </a:r>
            <a:endParaRPr b="0" lang="es-ES" sz="3600" spc="-1" strike="noStrike">
              <a:solidFill>
                <a:srgbClr val="000000"/>
              </a:solidFill>
              <a:latin typeface="Franklin Gothic Book"/>
            </a:endParaRPr>
          </a:p>
        </p:txBody>
      </p:sp>
      <p:sp>
        <p:nvSpPr>
          <p:cNvPr id="180" name="PlaceHolder 2"/>
          <p:cNvSpPr>
            <a:spLocks noGrp="1"/>
          </p:cNvSpPr>
          <p:nvPr>
            <p:ph type="subTitle"/>
          </p:nvPr>
        </p:nvSpPr>
        <p:spPr>
          <a:xfrm>
            <a:off x="914400" y="500040"/>
            <a:ext cx="7772040" cy="928440"/>
          </a:xfrm>
          <a:prstGeom prst="rect">
            <a:avLst/>
          </a:prstGeom>
          <a:noFill/>
          <a:ln w="0">
            <a:noFill/>
          </a:ln>
        </p:spPr>
        <p:txBody>
          <a:bodyPr lIns="90000" rIns="90000" tIns="45000" bIns="45000" anchor="b">
            <a:noAutofit/>
          </a:bodyPr>
          <a:p>
            <a:pPr indent="0">
              <a:lnSpc>
                <a:spcPct val="100000"/>
              </a:lnSpc>
              <a:spcBef>
                <a:spcPts val="479"/>
              </a:spcBef>
              <a:buNone/>
              <a:tabLst>
                <a:tab algn="l" pos="0"/>
              </a:tabLst>
            </a:pPr>
            <a:r>
              <a:rPr b="1" lang="es-ES" sz="2400" spc="-1" strike="noStrike">
                <a:solidFill>
                  <a:srgbClr val="000000"/>
                </a:solidFill>
                <a:latin typeface="Franklin Gothic Book"/>
              </a:rPr>
              <a:t>FATIMA PELAEZ LUNA</a:t>
            </a:r>
            <a:endParaRPr b="0" lang="en-US" sz="2400" spc="-1" strike="noStrike">
              <a:solidFill>
                <a:srgbClr val="000000"/>
              </a:solidFill>
              <a:latin typeface="Arial"/>
            </a:endParaRPr>
          </a:p>
          <a:p>
            <a:pPr indent="0">
              <a:lnSpc>
                <a:spcPct val="100000"/>
              </a:lnSpc>
              <a:spcBef>
                <a:spcPts val="479"/>
              </a:spcBef>
              <a:buNone/>
              <a:tabLst>
                <a:tab algn="l" pos="0"/>
              </a:tabLst>
            </a:pPr>
            <a:r>
              <a:rPr b="1" lang="es-ES" sz="2400" spc="-1" strike="noStrike">
                <a:solidFill>
                  <a:srgbClr val="000000"/>
                </a:solidFill>
                <a:latin typeface="Franklin Gothic Book"/>
              </a:rPr>
              <a:t>ISABEL PEREZ ZAMORA</a:t>
            </a:r>
            <a:r>
              <a:rPr b="0" lang="es-ES" sz="2400" spc="-1" strike="noStrike">
                <a:solidFill>
                  <a:srgbClr val="44342a"/>
                </a:solidFill>
                <a:latin typeface="Franklin Gothic Book"/>
              </a:rPr>
              <a:t>	</a:t>
            </a:r>
            <a:r>
              <a:rPr b="0" lang="es-ES" sz="2400" spc="-1" strike="noStrike">
                <a:solidFill>
                  <a:srgbClr val="44342a"/>
                </a:solidFill>
                <a:latin typeface="Franklin Gothic Book"/>
              </a:rPr>
              <a:t>	</a:t>
            </a:r>
            <a:r>
              <a:rPr b="0" lang="es-ES" sz="2400" spc="-1" strike="noStrike">
                <a:solidFill>
                  <a:srgbClr val="44342a"/>
                </a:solidFill>
                <a:latin typeface="Franklin Gothic Book"/>
              </a:rPr>
              <a:t>	</a:t>
            </a:r>
            <a:r>
              <a:rPr b="1" lang="es-ES" sz="2400" spc="-1" strike="noStrike">
                <a:solidFill>
                  <a:srgbClr val="000000"/>
                </a:solidFill>
                <a:latin typeface="Franklin Gothic Book"/>
              </a:rPr>
              <a:t>2ºLADE B</a:t>
            </a:r>
            <a:endParaRPr b="0" lang="en-US" sz="24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rmAutofit fontScale="67000"/>
          </a:bodyPr>
          <a:p>
            <a:pPr indent="0">
              <a:lnSpc>
                <a:spcPct val="100000"/>
              </a:lnSpc>
              <a:buNone/>
            </a:pPr>
            <a:r>
              <a:rPr b="0" lang="es-ES" sz="3600" spc="-1" strike="noStrike" cap="all">
                <a:solidFill>
                  <a:srgbClr val="4e3b30"/>
                </a:solidFill>
                <a:latin typeface="Franklin Gothic Medium"/>
              </a:rPr>
              <a:t>Mapa de la zona donde se encuentra la empresa y donde se realiza su mayor actividad.</a:t>
            </a:r>
            <a:endParaRPr b="0" lang="es-ES" sz="3600" spc="-1" strike="noStrike">
              <a:solidFill>
                <a:srgbClr val="000000"/>
              </a:solidFill>
              <a:latin typeface="Franklin Gothic Book"/>
            </a:endParaRPr>
          </a:p>
        </p:txBody>
      </p:sp>
      <p:pic>
        <p:nvPicPr>
          <p:cNvPr id="206" name="2 Imagen" descr="mapa[1].jpg"/>
          <p:cNvPicPr/>
          <p:nvPr/>
        </p:nvPicPr>
        <p:blipFill>
          <a:blip r:embed="rId1"/>
          <a:stretch/>
        </p:blipFill>
        <p:spPr>
          <a:xfrm>
            <a:off x="1500120" y="1785960"/>
            <a:ext cx="5714640" cy="421452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80880" y="1676520"/>
            <a:ext cx="8457840" cy="1218960"/>
          </a:xfrm>
          <a:prstGeom prst="rect">
            <a:avLst/>
          </a:prstGeom>
          <a:noFill/>
          <a:ln w="0">
            <a:noFill/>
          </a:ln>
        </p:spPr>
        <p:txBody>
          <a:bodyPr lIns="90000" rIns="90000" tIns="45000" bIns="45000" anchor="b">
            <a:noAutofit/>
          </a:bodyPr>
          <a:p>
            <a:pPr indent="0">
              <a:spcBef>
                <a:spcPts val="1417"/>
              </a:spcBef>
              <a:buNone/>
            </a:pPr>
            <a:endParaRPr b="0" lang="es-ES" sz="2000" spc="-1" strike="noStrike">
              <a:solidFill>
                <a:srgbClr val="44342a"/>
              </a:solidFill>
              <a:latin typeface="Franklin Gothic Book"/>
            </a:endParaRPr>
          </a:p>
        </p:txBody>
      </p:sp>
      <p:sp>
        <p:nvSpPr>
          <p:cNvPr id="208" name="PlaceHolder 2"/>
          <p:cNvSpPr>
            <a:spLocks noGrp="1"/>
          </p:cNvSpPr>
          <p:nvPr>
            <p:ph type="title"/>
          </p:nvPr>
        </p:nvSpPr>
        <p:spPr>
          <a:xfrm>
            <a:off x="180360" y="2946960"/>
            <a:ext cx="8686440" cy="118440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Elementos estructurales</a:t>
            </a:r>
            <a:endParaRPr b="0" lang="es-ES" sz="3600" spc="-1" strike="noStrike">
              <a:solidFill>
                <a:srgbClr val="000000"/>
              </a:solidFill>
              <a:latin typeface="Franklin Gothic Book"/>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Organigrama         1/4   </a:t>
            </a:r>
            <a:endParaRPr b="0" lang="es-ES" sz="36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695665130"/>
              </p:ext>
            </p:extLst>
          </p:nvPr>
        </p:nvGraphicFramePr>
        <p:xfrm>
          <a:off x="142920" y="1214280"/>
          <a:ext cx="9000720" cy="5643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10" name="8 Estrella de 5 puntas">
            <a:hlinkClick r:id="rId5" action="ppaction://hlinksldjump"/>
          </p:cNvPr>
          <p:cNvSpPr/>
          <p:nvPr/>
        </p:nvSpPr>
        <p:spPr>
          <a:xfrm>
            <a:off x="2286000" y="3857760"/>
            <a:ext cx="499680" cy="428400"/>
          </a:xfrm>
          <a:prstGeom prst="star5">
            <a:avLst>
              <a:gd name="adj" fmla="val 19098"/>
              <a:gd name="hf" fmla="val 105146"/>
              <a:gd name="vf" fmla="val 110557"/>
            </a:avLst>
          </a:prstGeom>
          <a:solidFill>
            <a:srgbClr val="009900"/>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11" name="9 Estrella de 5 puntas">
            <a:hlinkClick r:id="rId6" action="ppaction://hlinksldjump"/>
          </p:cNvPr>
          <p:cNvSpPr/>
          <p:nvPr/>
        </p:nvSpPr>
        <p:spPr>
          <a:xfrm>
            <a:off x="3929040" y="3857760"/>
            <a:ext cx="428400" cy="499680"/>
          </a:xfrm>
          <a:prstGeom prst="star5">
            <a:avLst>
              <a:gd name="adj" fmla="val 19098"/>
              <a:gd name="hf" fmla="val 105146"/>
              <a:gd name="vf" fmla="val 110557"/>
            </a:avLst>
          </a:prstGeom>
          <a:solidFill>
            <a:srgbClr val="009900"/>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12" name="12 Estrella de 5 puntas">
            <a:hlinkClick r:id="rId7" action="ppaction://hlinksldjump"/>
          </p:cNvPr>
          <p:cNvSpPr/>
          <p:nvPr/>
        </p:nvSpPr>
        <p:spPr>
          <a:xfrm>
            <a:off x="5357880" y="3929040"/>
            <a:ext cx="285480" cy="428400"/>
          </a:xfrm>
          <a:prstGeom prst="star5">
            <a:avLst>
              <a:gd name="adj" fmla="val 19098"/>
              <a:gd name="hf" fmla="val 105146"/>
              <a:gd name="vf" fmla="val 110557"/>
            </a:avLst>
          </a:prstGeom>
          <a:solidFill>
            <a:srgbClr val="009900"/>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13" name="13 CuadroTexto"/>
          <p:cNvSpPr/>
          <p:nvPr/>
        </p:nvSpPr>
        <p:spPr>
          <a:xfrm>
            <a:off x="500040" y="5857920"/>
            <a:ext cx="83577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Las áreas marcadas con          se explican aparte, pulsar sobre ellas para ver el organigrama especifico de esa sección.  </a:t>
            </a:r>
            <a:endParaRPr b="0" lang="en-US" sz="1800" spc="-1" strike="noStrike">
              <a:solidFill>
                <a:srgbClr val="000000"/>
              </a:solidFill>
              <a:latin typeface="Arial"/>
            </a:endParaRPr>
          </a:p>
        </p:txBody>
      </p:sp>
      <p:sp>
        <p:nvSpPr>
          <p:cNvPr id="214" name="14 Estrella de 5 puntas"/>
          <p:cNvSpPr/>
          <p:nvPr/>
        </p:nvSpPr>
        <p:spPr>
          <a:xfrm>
            <a:off x="3071880" y="5929200"/>
            <a:ext cx="285480" cy="213840"/>
          </a:xfrm>
          <a:prstGeom prst="star5">
            <a:avLst>
              <a:gd name="adj" fmla="val 19098"/>
              <a:gd name="hf" fmla="val 105146"/>
              <a:gd name="vf" fmla="val 110557"/>
            </a:avLst>
          </a:prstGeom>
          <a:solidFill>
            <a:srgbClr val="009900"/>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36720" bIns="36720" anchor="ctr">
            <a:noAutofit/>
          </a:bodyPr>
          <a:p>
            <a:pPr algn="ctr">
              <a:lnSpc>
                <a:spcPct val="100000"/>
              </a:lnSpc>
            </a:pPr>
            <a:endParaRPr b="0" lang="es-ES" sz="1800" spc="-1" strike="noStrike">
              <a:solidFill>
                <a:schemeClr val="lt1"/>
              </a:solidFill>
              <a:latin typeface="Franklin Gothic Book"/>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Organigrama          2/4  </a:t>
            </a:r>
            <a:endParaRPr b="0" lang="es-ES" sz="3600" spc="-1" strike="noStrike">
              <a:solidFill>
                <a:srgbClr val="000000"/>
              </a:solidFill>
              <a:latin typeface="Franklin Gothic Book"/>
            </a:endParaRPr>
          </a:p>
        </p:txBody>
      </p:sp>
      <p:graphicFrame>
        <p:nvGraphicFramePr>
          <p:cNvPr id="2" name="Diagram2"/>
          <p:cNvGraphicFramePr/>
          <p:nvPr>
            <p:extLst>
              <p:ext uri="{D42A27DB-BD31-4B8C-83A1-F6EECF244321}">
                <p14:modId xmlns:p14="http://schemas.microsoft.com/office/powerpoint/2010/main" val="2538777535"/>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16" name="5 Flecha curvada hacia la izquierda">
            <a:hlinkClick r:id="rId5" action="ppaction://hlinksldjump"/>
          </p:cNvPr>
          <p:cNvSpPr/>
          <p:nvPr/>
        </p:nvSpPr>
        <p:spPr>
          <a:xfrm>
            <a:off x="7858080" y="5072040"/>
            <a:ext cx="999720" cy="1071360"/>
          </a:xfrm>
          <a:prstGeom prst="curvedLeftArrow">
            <a:avLst>
              <a:gd name="adj1" fmla="val 25000"/>
              <a:gd name="adj2" fmla="val 50000"/>
              <a:gd name="adj3" fmla="val 25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rgbClr val="000000"/>
              </a:solidFill>
              <a:latin typeface="Franklin Gothic Book"/>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organigrama         3/4</a:t>
            </a:r>
            <a:endParaRPr b="0" lang="es-ES" sz="3600" spc="-1" strike="noStrike">
              <a:solidFill>
                <a:srgbClr val="000000"/>
              </a:solidFill>
              <a:latin typeface="Franklin Gothic Book"/>
            </a:endParaRPr>
          </a:p>
        </p:txBody>
      </p:sp>
      <p:graphicFrame>
        <p:nvGraphicFramePr>
          <p:cNvPr id="3" name="Diagram3"/>
          <p:cNvGraphicFramePr/>
          <p:nvPr>
            <p:extLst>
              <p:ext uri="{D42A27DB-BD31-4B8C-83A1-F6EECF244321}">
                <p14:modId xmlns:p14="http://schemas.microsoft.com/office/powerpoint/2010/main" val="3673279455"/>
              </p:ext>
            </p:extLst>
          </p:nvPr>
        </p:nvGraphicFramePr>
        <p:xfrm>
          <a:off x="1523880" y="1397160"/>
          <a:ext cx="6905160" cy="45320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18" name="4 Flecha curvada hacia la izquierda">
            <a:hlinkClick r:id="rId5" action="ppaction://hlinksldjump"/>
          </p:cNvPr>
          <p:cNvSpPr/>
          <p:nvPr/>
        </p:nvSpPr>
        <p:spPr>
          <a:xfrm>
            <a:off x="214200" y="5000760"/>
            <a:ext cx="999720" cy="1285560"/>
          </a:xfrm>
          <a:prstGeom prst="curvedLeftArrow">
            <a:avLst>
              <a:gd name="adj1" fmla="val 25000"/>
              <a:gd name="adj2" fmla="val 50000"/>
              <a:gd name="adj3" fmla="val 25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rgbClr val="000000"/>
              </a:solidFill>
              <a:latin typeface="Franklin Gothic Book"/>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organigrama         4/4</a:t>
            </a:r>
            <a:endParaRPr b="0" lang="es-ES" sz="3600" spc="-1" strike="noStrike">
              <a:solidFill>
                <a:srgbClr val="000000"/>
              </a:solidFill>
              <a:latin typeface="Franklin Gothic Book"/>
            </a:endParaRPr>
          </a:p>
        </p:txBody>
      </p:sp>
      <p:graphicFrame>
        <p:nvGraphicFramePr>
          <p:cNvPr id="4" name="Diagram4"/>
          <p:cNvGraphicFramePr/>
          <p:nvPr>
            <p:extLst>
              <p:ext uri="{D42A27DB-BD31-4B8C-83A1-F6EECF244321}">
                <p14:modId xmlns:p14="http://schemas.microsoft.com/office/powerpoint/2010/main" val="2512282854"/>
              </p:ext>
            </p:extLst>
          </p:nvPr>
        </p:nvGraphicFramePr>
        <p:xfrm>
          <a:off x="1643040" y="1397160"/>
          <a:ext cx="7071840" cy="44604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20" name="3 Flecha curvada hacia la izquierda">
            <a:hlinkClick r:id="rId5" action="ppaction://hlinksldjump"/>
          </p:cNvPr>
          <p:cNvSpPr/>
          <p:nvPr/>
        </p:nvSpPr>
        <p:spPr>
          <a:xfrm>
            <a:off x="928800" y="4714920"/>
            <a:ext cx="928440" cy="1213920"/>
          </a:xfrm>
          <a:prstGeom prst="curvedLeftArrow">
            <a:avLst>
              <a:gd name="adj1" fmla="val 25000"/>
              <a:gd name="adj2" fmla="val 50000"/>
              <a:gd name="adj3" fmla="val 25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rgbClr val="000000"/>
              </a:solidFill>
              <a:latin typeface="Franklin Gothic Book"/>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Responsable de ventas</a:t>
            </a:r>
            <a:endParaRPr b="0" lang="es-ES" sz="3600" spc="-1" strike="noStrike">
              <a:solidFill>
                <a:srgbClr val="000000"/>
              </a:solidFill>
              <a:latin typeface="Franklin Gothic Book"/>
            </a:endParaRPr>
          </a:p>
        </p:txBody>
      </p:sp>
      <p:sp>
        <p:nvSpPr>
          <p:cNvPr id="222" name="2 CuadroTexto"/>
          <p:cNvSpPr/>
          <p:nvPr/>
        </p:nvSpPr>
        <p:spPr>
          <a:xfrm>
            <a:off x="428760" y="1285920"/>
            <a:ext cx="8572320" cy="521100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1" lang="es-ES" sz="2000" spc="-1" strike="noStrike">
                <a:solidFill>
                  <a:srgbClr val="009900"/>
                </a:solidFill>
                <a:latin typeface="Franklin Gothic Book"/>
              </a:rPr>
              <a:t>Función especifica: </a:t>
            </a:r>
            <a:r>
              <a:rPr b="0" lang="es-ES" sz="1800" spc="-1" strike="noStrike">
                <a:solidFill>
                  <a:srgbClr val="000000"/>
                </a:solidFill>
                <a:latin typeface="Franklin Gothic Book"/>
              </a:rPr>
              <a:t>diseñar la estrategia de ventas de la empresa de acuerdo con la producción anu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Actividade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Obtener información de los competidores, fijar precios, mantener informada a la empresa de la situación global y específica de mercado, diseñar la estrategia concreta para cada tipo de aceite y mercado en los que se distribuye; precios, condiciones de venta, canales de distribución, etc</a:t>
            </a:r>
            <a:r>
              <a:rPr b="0" lang="es-ES" sz="1800" spc="-1" strike="noStrike">
                <a:solidFill>
                  <a:srgbClr val="000000"/>
                </a:solidFill>
                <a:latin typeface="Franklin Gothic Book"/>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externas: </a:t>
            </a:r>
            <a:r>
              <a:rPr b="0" lang="es-ES" sz="1800" spc="-1" strike="noStrike">
                <a:solidFill>
                  <a:srgbClr val="000000"/>
                </a:solidFill>
                <a:latin typeface="Franklin Gothic Book"/>
              </a:rPr>
              <a:t>Mercados centrales, industria y clientes direct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Unidades directamente subordinadas: </a:t>
            </a:r>
            <a:r>
              <a:rPr b="0" lang="es-ES" sz="1800" spc="-1" strike="noStrike">
                <a:solidFill>
                  <a:srgbClr val="000000"/>
                </a:solidFill>
                <a:latin typeface="Franklin Gothic Book"/>
              </a:rPr>
              <a:t>Jefe de ventas nacionales y Jefe de ventas internacional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sponsabilidad personal: </a:t>
            </a:r>
            <a:r>
              <a:rPr b="0" lang="es-ES" sz="1800" spc="-1" strike="noStrike">
                <a:solidFill>
                  <a:srgbClr val="000000"/>
                </a:solidFill>
                <a:latin typeface="Franklin Gothic Book"/>
              </a:rPr>
              <a:t>Ante el director gener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internas: </a:t>
            </a:r>
            <a:r>
              <a:rPr b="0" lang="es-ES" sz="1800" spc="-1" strike="noStrike">
                <a:solidFill>
                  <a:srgbClr val="000000"/>
                </a:solidFill>
                <a:latin typeface="Franklin Gothic Book"/>
              </a:rPr>
              <a:t>con el director general y con el responsable de producción y con el responsable de facturación.</a:t>
            </a: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responsable de producción</a:t>
            </a:r>
            <a:endParaRPr b="0" lang="es-ES" sz="3600" spc="-1" strike="noStrike">
              <a:solidFill>
                <a:srgbClr val="000000"/>
              </a:solidFill>
              <a:latin typeface="Franklin Gothic Book"/>
            </a:endParaRPr>
          </a:p>
        </p:txBody>
      </p:sp>
      <p:sp>
        <p:nvSpPr>
          <p:cNvPr id="224" name="3 CuadroTexto"/>
          <p:cNvSpPr/>
          <p:nvPr/>
        </p:nvSpPr>
        <p:spPr>
          <a:xfrm>
            <a:off x="428760" y="150012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s-ES" sz="1800" spc="-1" strike="noStrike">
              <a:solidFill>
                <a:srgbClr val="000000"/>
              </a:solidFill>
              <a:latin typeface="Franklin Gothic Book"/>
            </a:endParaRPr>
          </a:p>
        </p:txBody>
      </p:sp>
      <p:sp>
        <p:nvSpPr>
          <p:cNvPr id="225" name="4 CuadroTexto"/>
          <p:cNvSpPr/>
          <p:nvPr/>
        </p:nvSpPr>
        <p:spPr>
          <a:xfrm>
            <a:off x="357120" y="1357200"/>
            <a:ext cx="8643600" cy="57596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1" lang="es-ES" sz="2000" spc="-1" strike="noStrike">
                <a:solidFill>
                  <a:srgbClr val="009900"/>
                </a:solidFill>
                <a:latin typeface="Franklin Gothic Book"/>
              </a:rPr>
              <a:t>Función especifica: </a:t>
            </a:r>
            <a:r>
              <a:rPr b="0" lang="es-ES_tradnl" sz="1800" spc="-1" strike="noStrike">
                <a:solidFill>
                  <a:srgbClr val="000000"/>
                </a:solidFill>
                <a:latin typeface="Franklin Gothic Book"/>
              </a:rPr>
              <a:t>Dirigir las actividades de producción de la empresa, estableciendo los objetivos, y planes de producción, coordinando los recursos disponibles para la optimización de la producción y tomando las decisiones necesarias para la corrección de las posibles desviacion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Actividade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Diseño del plan de producción, la optimización de los recursos humanos, técnicos y financieros para obtener el mayor rendimiento de los mismos, diseñar planes de producción futuros, establecer el plan de compra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externas: </a:t>
            </a:r>
            <a:r>
              <a:rPr b="0" lang="es-ES" sz="2000" spc="-1" strike="noStrike">
                <a:solidFill>
                  <a:srgbClr val="000000"/>
                </a:solidFill>
                <a:latin typeface="Franklin Gothic Book"/>
              </a:rPr>
              <a:t>Con</a:t>
            </a:r>
            <a:r>
              <a:rPr b="0" lang="es-ES" sz="1800" spc="-1" strike="noStrike">
                <a:solidFill>
                  <a:srgbClr val="000000"/>
                </a:solidFill>
                <a:latin typeface="Franklin Gothic Book"/>
              </a:rPr>
              <a:t> los proveedores del material necesario para el embalaje y de maquinari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Unidades directamente subordinadas: </a:t>
            </a:r>
            <a:r>
              <a:rPr b="0" lang="es-ES" sz="1800" spc="-1" strike="noStrike">
                <a:solidFill>
                  <a:srgbClr val="000000"/>
                </a:solidFill>
                <a:latin typeface="Franklin Gothic Book"/>
              </a:rPr>
              <a:t>Jefe de molturación y batido, Jefe de filtración y decantación y Jede de embalaj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sponsabilidad personal: </a:t>
            </a:r>
            <a:r>
              <a:rPr b="0" lang="es-ES" sz="1800" spc="-1" strike="noStrike">
                <a:solidFill>
                  <a:srgbClr val="000000"/>
                </a:solidFill>
                <a:latin typeface="Franklin Gothic Book"/>
              </a:rPr>
              <a:t>Ante el director gener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internas: </a:t>
            </a:r>
            <a:r>
              <a:rPr b="0" lang="es-ES" sz="1800" spc="-1" strike="noStrike">
                <a:solidFill>
                  <a:srgbClr val="000000"/>
                </a:solidFill>
                <a:latin typeface="Franklin Gothic Book"/>
              </a:rPr>
              <a:t>Con el director general, con el Responsable de compras y con el Responsable de I + D.</a:t>
            </a:r>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Responsable de contabilidad</a:t>
            </a:r>
            <a:endParaRPr b="0" lang="es-ES" sz="3600" spc="-1" strike="noStrike">
              <a:solidFill>
                <a:srgbClr val="000000"/>
              </a:solidFill>
              <a:latin typeface="Franklin Gothic Book"/>
            </a:endParaRPr>
          </a:p>
        </p:txBody>
      </p:sp>
      <p:sp>
        <p:nvSpPr>
          <p:cNvPr id="227" name="3 CuadroTexto"/>
          <p:cNvSpPr/>
          <p:nvPr/>
        </p:nvSpPr>
        <p:spPr>
          <a:xfrm>
            <a:off x="428760" y="1285920"/>
            <a:ext cx="8500680" cy="548532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1" lang="es-ES" sz="2000" spc="-1" strike="noStrike">
                <a:solidFill>
                  <a:srgbClr val="009900"/>
                </a:solidFill>
                <a:latin typeface="Franklin Gothic Book"/>
              </a:rPr>
              <a:t>Función especifica: </a:t>
            </a:r>
            <a:r>
              <a:rPr b="0" lang="es-ES_tradnl" sz="1800" spc="-1" strike="noStrike">
                <a:solidFill>
                  <a:srgbClr val="000000"/>
                </a:solidFill>
                <a:latin typeface="Franklin Gothic Book"/>
              </a:rPr>
              <a:t>Garantizar el adecuado registro de las operaciones económicas de la empresa, supervisar la elaboración de la contabilidad general, analítica y los estados de cuentas consolidados y preparar la información para la dirección</a:t>
            </a:r>
            <a:r>
              <a:rPr b="0" lang="es-ES_tradnl" sz="1800" spc="-1" strike="noStrike">
                <a:solidFill>
                  <a:srgbClr val="000000"/>
                </a:solidFill>
                <a:latin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Actividade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Elaborar el plan de cuentas de la empresa sobre la base del Plan General de contabilidad, elaborar la contabilidad general y analítica de la empresa, elaborar los balances y cuentas de resultados, impuestos y cotizaciones a la Seguridad Soci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externas: </a:t>
            </a:r>
            <a:r>
              <a:rPr b="0" lang="es-ES" sz="1800" spc="-1" strike="noStrike">
                <a:solidFill>
                  <a:srgbClr val="000000"/>
                </a:solidFill>
                <a:latin typeface="Franklin Gothic Book"/>
              </a:rPr>
              <a:t>Con organismos públic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Unidades directamente subordinadas: </a:t>
            </a:r>
            <a:r>
              <a:rPr b="0" lang="es-ES" sz="1800" spc="-1" strike="noStrike">
                <a:solidFill>
                  <a:srgbClr val="000000"/>
                </a:solidFill>
                <a:latin typeface="Franklin Gothic Book"/>
              </a:rPr>
              <a:t>Los administrativo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sponsabilidad personal: </a:t>
            </a:r>
            <a:r>
              <a:rPr b="0" lang="es-ES" sz="1800" spc="-1" strike="noStrike">
                <a:solidFill>
                  <a:srgbClr val="000000"/>
                </a:solidFill>
                <a:latin typeface="Franklin Gothic Book"/>
              </a:rPr>
              <a:t>Ante el director genera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interna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Con el director general, con el responsable de compras, con el responsable de ventas, con el responsable de facturación y con los administrativos.</a:t>
            </a:r>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encargado de calidad</a:t>
            </a:r>
            <a:endParaRPr b="0" lang="es-ES" sz="3600" spc="-1" strike="noStrike">
              <a:solidFill>
                <a:srgbClr val="000000"/>
              </a:solidFill>
              <a:latin typeface="Franklin Gothic Book"/>
            </a:endParaRPr>
          </a:p>
        </p:txBody>
      </p:sp>
      <p:sp>
        <p:nvSpPr>
          <p:cNvPr id="229" name="3 CuadroTexto"/>
          <p:cNvSpPr/>
          <p:nvPr/>
        </p:nvSpPr>
        <p:spPr>
          <a:xfrm>
            <a:off x="428760" y="1357200"/>
            <a:ext cx="8572320" cy="493668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1" lang="es-ES" sz="2000" spc="-1" strike="noStrike">
                <a:solidFill>
                  <a:srgbClr val="009900"/>
                </a:solidFill>
                <a:latin typeface="Franklin Gothic Book"/>
              </a:rPr>
              <a:t>Función especifica:  </a:t>
            </a:r>
            <a:r>
              <a:rPr b="0" lang="es-ES" sz="1800" spc="-1" strike="noStrike">
                <a:solidFill>
                  <a:srgbClr val="000000"/>
                </a:solidFill>
                <a:latin typeface="Franklin Gothic Book"/>
              </a:rPr>
              <a:t>Analizar las muestras de aceituna y de aceite para obtener su calida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Actividade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Elaborar informes sobre las diferentes muestras de aceituna para informar al responsable de producción a que tipo pertenece, así como analizar el aceite para cerciorarse de que la calidad de este es la esperada. También se encarga de poner en marcha nuevas técnicas para conseguir mejorar la calidad del aceite en la medida de lo posi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externas: </a:t>
            </a:r>
            <a:r>
              <a:rPr b="0" lang="es-ES" sz="1800" spc="-1" strike="noStrike">
                <a:solidFill>
                  <a:srgbClr val="000000"/>
                </a:solidFill>
                <a:latin typeface="Franklin Gothic Book"/>
              </a:rPr>
              <a:t>ningun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Unidades directamente subordinadas: </a:t>
            </a:r>
            <a:r>
              <a:rPr b="0" lang="es-ES" sz="1800" spc="-1" strike="noStrike">
                <a:solidFill>
                  <a:srgbClr val="000000"/>
                </a:solidFill>
                <a:latin typeface="Franklin Gothic Book"/>
              </a:rPr>
              <a:t>ninguno</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sponsabilidad personal: </a:t>
            </a:r>
            <a:r>
              <a:rPr b="0" lang="es-ES" sz="1800" spc="-1" strike="noStrike">
                <a:solidFill>
                  <a:srgbClr val="000000"/>
                </a:solidFill>
                <a:latin typeface="Franklin Gothic Book"/>
              </a:rPr>
              <a:t>Ante el responsable de I +  D y ante el director general</a:t>
            </a:r>
            <a:endParaRPr b="0" lang="en-US" sz="1800" spc="-1" strike="noStrike">
              <a:solidFill>
                <a:srgbClr val="000000"/>
              </a:solidFill>
              <a:latin typeface="Arial"/>
            </a:endParaRPr>
          </a:p>
          <a:p>
            <a:pPr indent="-216000">
              <a:lnSpc>
                <a:spcPct val="100000"/>
              </a:lnSpc>
              <a:buClr>
                <a:srgbClr val="009900"/>
              </a:buClr>
              <a:buFont typeface="Wingdings" charset="2"/>
              <a:buChar char=""/>
            </a:pPr>
            <a:r>
              <a:rPr b="1" lang="es-ES" sz="2000" spc="-1" strike="noStrike">
                <a:solidFill>
                  <a:srgbClr val="009900"/>
                </a:solidFill>
                <a:latin typeface="Franklin Gothic Book"/>
              </a:rPr>
              <a:t>Relaciones internas:</a:t>
            </a:r>
            <a:r>
              <a:rPr b="1" lang="es-ES" sz="1800" spc="-1" strike="noStrike">
                <a:solidFill>
                  <a:srgbClr val="009900"/>
                </a:solidFill>
                <a:latin typeface="Franklin Gothic Book"/>
              </a:rPr>
              <a:t> </a:t>
            </a:r>
            <a:r>
              <a:rPr b="0" lang="es-ES_tradnl" sz="1800" spc="-1" strike="noStrike">
                <a:solidFill>
                  <a:srgbClr val="000000"/>
                </a:solidFill>
                <a:latin typeface="Franklin Gothic Book"/>
              </a:rPr>
              <a:t>Con el responsable de I + D, con el departamento de compras y con el departamento de producción.</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0360" y="214200"/>
            <a:ext cx="8534520" cy="1071360"/>
          </a:xfrm>
          <a:prstGeom prst="rect">
            <a:avLst/>
          </a:prstGeom>
          <a:noFill/>
          <a:ln w="0">
            <a:noFill/>
          </a:ln>
        </p:spPr>
        <p:txBody>
          <a:bodyPr lIns="90000" rIns="90000" tIns="45000" bIns="45000" anchor="t">
            <a:normAutofit fontScale="89000"/>
          </a:bodyPr>
          <a:p>
            <a:pPr indent="0" algn="r">
              <a:lnSpc>
                <a:spcPct val="100000"/>
              </a:lnSpc>
              <a:buNone/>
            </a:pPr>
            <a:r>
              <a:rPr b="0" lang="es-ES" sz="3600" spc="-1" strike="noStrike" cap="all">
                <a:solidFill>
                  <a:srgbClr val="4e3b30"/>
                </a:solidFill>
                <a:latin typeface="Franklin Gothic Medium"/>
              </a:rPr>
              <a:t>INDICE</a:t>
            </a:r>
            <a:br>
              <a:rPr sz="3600"/>
            </a:br>
            <a:endParaRPr b="0" lang="es-ES" sz="3600" spc="-1" strike="noStrike">
              <a:solidFill>
                <a:srgbClr val="000000"/>
              </a:solidFill>
              <a:latin typeface="Franklin Gothic Book"/>
            </a:endParaRPr>
          </a:p>
        </p:txBody>
      </p:sp>
      <p:graphicFrame>
        <p:nvGraphicFramePr>
          <p:cNvPr id="182" name="18 Tabla"/>
          <p:cNvGraphicFramePr/>
          <p:nvPr/>
        </p:nvGraphicFramePr>
        <p:xfrm>
          <a:off x="1071360" y="1357200"/>
          <a:ext cx="7429320" cy="4967280"/>
        </p:xfrm>
        <a:graphic>
          <a:graphicData uri="http://schemas.openxmlformats.org/drawingml/2006/table">
            <a:tbl>
              <a:tblPr/>
              <a:tblGrid>
                <a:gridCol w="1857240"/>
                <a:gridCol w="1857240"/>
                <a:gridCol w="1857240"/>
                <a:gridCol w="1857240"/>
              </a:tblGrid>
              <a:tr h="860040">
                <a:tc>
                  <a:txBody>
                    <a:bodyPr anchor="t">
                      <a:noAutofit/>
                    </a:bodyPr>
                    <a:p>
                      <a:pPr>
                        <a:lnSpc>
                          <a:spcPct val="100000"/>
                        </a:lnSpc>
                      </a:pPr>
                      <a:r>
                        <a:rPr b="1" lang="es-ES" sz="1800" spc="-1" strike="noStrike" u="sng">
                          <a:solidFill>
                            <a:schemeClr val="lt1"/>
                          </a:solidFill>
                          <a:uFillTx/>
                          <a:latin typeface="Franklin Gothic Book"/>
                          <a:hlinkClick r:id="rId1" action="ppaction://hlinksldjump"/>
                        </a:rPr>
                        <a:t>ANALISIS </a:t>
                      </a:r>
                      <a:endParaRPr b="0" lang="en-US" sz="1800" spc="-1" strike="noStrike">
                        <a:solidFill>
                          <a:srgbClr val="000000"/>
                        </a:solidFill>
                        <a:latin typeface="Arial"/>
                      </a:endParaRPr>
                    </a:p>
                    <a:p>
                      <a:pPr>
                        <a:lnSpc>
                          <a:spcPct val="100000"/>
                        </a:lnSpc>
                      </a:pPr>
                      <a:r>
                        <a:rPr b="1" lang="es-ES" sz="1800" spc="-1" strike="noStrike" u="sng">
                          <a:solidFill>
                            <a:schemeClr val="lt1"/>
                          </a:solidFill>
                          <a:uFillTx/>
                          <a:latin typeface="Franklin Gothic Book"/>
                          <a:hlinkClick r:id="rId2" action="ppaction://hlinksldjump"/>
                        </a:rPr>
                        <a:t>DESCRIPTIV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4"/>
                    </a:solidFill>
                  </a:tcPr>
                </a:tc>
                <a:tc>
                  <a:txBody>
                    <a:bodyPr anchor="t">
                      <a:noAutofit/>
                    </a:bodyPr>
                    <a:p>
                      <a:pPr algn="ctr">
                        <a:lnSpc>
                          <a:spcPct val="100000"/>
                        </a:lnSpc>
                      </a:pPr>
                      <a:r>
                        <a:rPr b="1" lang="es-ES" sz="1800" spc="-1" strike="noStrike" u="sng">
                          <a:solidFill>
                            <a:schemeClr val="lt1"/>
                          </a:solidFill>
                          <a:uFillTx/>
                          <a:latin typeface="Franklin Gothic Book"/>
                          <a:hlinkClick r:id="rId3" action="ppaction://hlinksldjump"/>
                        </a:rPr>
                        <a:t>ELEMENTOS </a:t>
                      </a:r>
                      <a:endParaRPr b="0" lang="en-US" sz="1800" spc="-1" strike="noStrike">
                        <a:solidFill>
                          <a:srgbClr val="000000"/>
                        </a:solidFill>
                        <a:latin typeface="Arial"/>
                      </a:endParaRPr>
                    </a:p>
                    <a:p>
                      <a:pPr algn="ctr">
                        <a:lnSpc>
                          <a:spcPct val="100000"/>
                        </a:lnSpc>
                      </a:pPr>
                      <a:r>
                        <a:rPr b="1" lang="es-ES" sz="1600" spc="-1" strike="noStrike" u="sng">
                          <a:solidFill>
                            <a:schemeClr val="lt1"/>
                          </a:solidFill>
                          <a:uFillTx/>
                          <a:latin typeface="Franklin Gothic Book"/>
                          <a:hlinkClick r:id="rId4" action="ppaction://hlinksldjump"/>
                        </a:rPr>
                        <a:t>ESTRUCTURALES</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4"/>
                    </a:solidFill>
                  </a:tcPr>
                </a:tc>
                <a:tc>
                  <a:txBody>
                    <a:bodyPr anchor="t">
                      <a:noAutofit/>
                    </a:bodyPr>
                    <a:p>
                      <a:pPr algn="ctr">
                        <a:lnSpc>
                          <a:spcPct val="100000"/>
                        </a:lnSpc>
                      </a:pPr>
                      <a:r>
                        <a:rPr b="1" lang="es-ES" sz="1800" spc="-1" strike="noStrike" u="sng">
                          <a:solidFill>
                            <a:schemeClr val="lt1"/>
                          </a:solidFill>
                          <a:uFillTx/>
                          <a:latin typeface="Franklin Gothic Book"/>
                          <a:hlinkClick r:id="rId5" action="ppaction://hlinksldjump"/>
                        </a:rPr>
                        <a:t>FACTORES DE</a:t>
                      </a:r>
                      <a:endParaRPr b="0" lang="en-US" sz="1800" spc="-1" strike="noStrike">
                        <a:solidFill>
                          <a:srgbClr val="000000"/>
                        </a:solidFill>
                        <a:latin typeface="Arial"/>
                      </a:endParaRPr>
                    </a:p>
                    <a:p>
                      <a:pPr algn="ctr">
                        <a:lnSpc>
                          <a:spcPct val="100000"/>
                        </a:lnSpc>
                      </a:pPr>
                      <a:r>
                        <a:rPr b="1" lang="es-ES" sz="1800" spc="-1" strike="noStrike" u="sng">
                          <a:solidFill>
                            <a:schemeClr val="lt1"/>
                          </a:solidFill>
                          <a:uFillTx/>
                          <a:latin typeface="Franklin Gothic Book"/>
                          <a:hlinkClick r:id="rId6" action="ppaction://hlinksldjump"/>
                        </a:rPr>
                        <a:t>CONTINGENC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4"/>
                    </a:solidFill>
                  </a:tcPr>
                </a:tc>
                <a:tc>
                  <a:txBody>
                    <a:bodyPr anchor="t">
                      <a:noAutofit/>
                    </a:bodyPr>
                    <a:p>
                      <a:pPr>
                        <a:lnSpc>
                          <a:spcPct val="100000"/>
                        </a:lnSpc>
                      </a:pPr>
                      <a:r>
                        <a:rPr b="1" lang="es-ES" sz="1600" spc="-1" strike="noStrike" u="sng">
                          <a:solidFill>
                            <a:schemeClr val="lt1"/>
                          </a:solidFill>
                          <a:uFillTx/>
                          <a:latin typeface="Franklin Gothic Book"/>
                          <a:hlinkClick r:id="rId7" action="ppaction://hlinksldjump"/>
                        </a:rPr>
                        <a:t>CONFIGURACIÓN</a:t>
                      </a:r>
                      <a:endParaRPr b="0" lang="en-US" sz="1600" spc="-1" strike="noStrike">
                        <a:solidFill>
                          <a:srgbClr val="000000"/>
                        </a:solidFill>
                        <a:latin typeface="Arial"/>
                      </a:endParaRPr>
                    </a:p>
                    <a:p>
                      <a:pPr algn="ctr">
                        <a:lnSpc>
                          <a:spcPct val="100000"/>
                        </a:lnSpc>
                      </a:pPr>
                      <a:r>
                        <a:rPr b="1" lang="es-ES" sz="1600" spc="-1" strike="noStrike" u="sng">
                          <a:solidFill>
                            <a:schemeClr val="lt1"/>
                          </a:solidFill>
                          <a:uFillTx/>
                          <a:latin typeface="Franklin Gothic Book"/>
                          <a:hlinkClick r:id="rId8" action="ppaction://hlinksldjump"/>
                        </a:rPr>
                        <a:t>ORGANIZATIVA</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4"/>
                    </a:solidFill>
                  </a:tcPr>
                </a:tc>
              </a:tr>
              <a:tr h="821160">
                <a:tc>
                  <a:txBody>
                    <a:bodyPr anchor="t">
                      <a:noAutofit/>
                    </a:bodyPr>
                    <a:p>
                      <a:pPr indent="-216000" algn="ctr">
                        <a:lnSpc>
                          <a:spcPct val="100000"/>
                        </a:lnSpc>
                        <a:buClr>
                          <a:srgbClr val="000000"/>
                        </a:buClr>
                        <a:buFont typeface="Arial"/>
                        <a:buChar char="•"/>
                      </a:pPr>
                      <a:r>
                        <a:rPr b="1" lang="es-ES" sz="1800" spc="-1" strike="noStrike" u="sng">
                          <a:solidFill>
                            <a:schemeClr val="dk1"/>
                          </a:solidFill>
                          <a:uFillTx/>
                          <a:latin typeface="Franklin Gothic Book"/>
                          <a:hlinkClick r:id="rId9" action="ppaction://hlinksldjump"/>
                        </a:rPr>
                        <a:t> </a:t>
                      </a:r>
                      <a:r>
                        <a:rPr b="1" lang="es-ES" sz="1800" spc="-1" strike="noStrike" u="sng">
                          <a:solidFill>
                            <a:schemeClr val="dk1"/>
                          </a:solidFill>
                          <a:uFillTx/>
                          <a:latin typeface="Franklin Gothic Book"/>
                          <a:hlinkClick r:id="rId10" action="ppaction://hlinksldjump"/>
                        </a:rPr>
                        <a:t>HISTOR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11" action="ppaction://hlinksldjump"/>
                        </a:rPr>
                        <a:t>ORGANIGRAMA Y MANUAL DE PUESTO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a:solidFill>
                            <a:schemeClr val="dk1"/>
                          </a:solidFill>
                          <a:latin typeface="Franklin Gothic Book"/>
                        </a:rPr>
                        <a:t>A</a:t>
                      </a:r>
                      <a:r>
                        <a:rPr b="0" lang="es-ES" sz="1400" spc="-1" strike="noStrike">
                          <a:solidFill>
                            <a:schemeClr val="dk1"/>
                          </a:solidFill>
                          <a:latin typeface="Franklin Gothic Book"/>
                          <a:hlinkClick r:id="rId12" action="ppaction://hlinksldjump"/>
                        </a:rPr>
                        <a:t>NALISIS</a:t>
                      </a:r>
                      <a:r>
                        <a:rPr b="0" lang="es-ES" sz="1400" spc="-1" strike="noStrike" u="sng">
                          <a:solidFill>
                            <a:schemeClr val="dk1"/>
                          </a:solidFill>
                          <a:uFillTx/>
                          <a:latin typeface="Franklin Gothic Book"/>
                          <a:hlinkClick r:id="rId13" action="ppaction://hlinksldjump"/>
                        </a:rPr>
                        <a:t> POLIÍTICO DE LA ORGANIZACION</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14" action="ppaction://hlinksldjump"/>
                        </a:rPr>
                        <a:t>CONFIGURACIÓN ORGANIZATIV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r>
              <a:tr h="821160">
                <a:tc>
                  <a:txBody>
                    <a:bodyPr anchor="t">
                      <a:noAutofit/>
                    </a:bodyPr>
                    <a:p>
                      <a:pPr indent="-216000" algn="ctr">
                        <a:lnSpc>
                          <a:spcPct val="100000"/>
                        </a:lnSpc>
                        <a:buClr>
                          <a:srgbClr val="000000"/>
                        </a:buClr>
                        <a:buFont typeface="Arial"/>
                        <a:buChar char="•"/>
                      </a:pPr>
                      <a:r>
                        <a:rPr b="1" lang="es-ES" sz="1800" spc="-1" strike="noStrike" u="sng">
                          <a:solidFill>
                            <a:schemeClr val="dk1"/>
                          </a:solidFill>
                          <a:uFillTx/>
                          <a:latin typeface="Franklin Gothic Book"/>
                          <a:hlinkClick r:id="rId15" action="ppaction://hlinksldjump"/>
                        </a:rPr>
                        <a:t>ACTIVIDAD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16" action="ppaction://hlinksldjump"/>
                        </a:rPr>
                        <a:t>ORGANIGRAFO</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17" action="ppaction://hlinksldjump"/>
                        </a:rPr>
                        <a:t>ANALISIS DEL ENTORNO</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r>
              <a:tr h="821160">
                <a:tc>
                  <a:txBody>
                    <a:bodyPr anchor="t">
                      <a:noAutofit/>
                    </a:bodyPr>
                    <a:p>
                      <a:pPr indent="-216000" algn="ctr">
                        <a:lnSpc>
                          <a:spcPct val="100000"/>
                        </a:lnSpc>
                        <a:buClr>
                          <a:srgbClr val="000000"/>
                        </a:buClr>
                        <a:buFont typeface="Arial"/>
                        <a:buChar char="•"/>
                      </a:pPr>
                      <a:r>
                        <a:rPr b="1" lang="es-ES" sz="1400" spc="-1" strike="noStrike" u="sng">
                          <a:solidFill>
                            <a:schemeClr val="dk1"/>
                          </a:solidFill>
                          <a:uFillTx/>
                          <a:latin typeface="Franklin Gothic Book"/>
                          <a:hlinkClick r:id="rId18" action="ppaction://hlinksldjump"/>
                        </a:rPr>
                        <a:t>CARACTERISTIVAS</a:t>
                      </a:r>
                      <a:r>
                        <a:rPr b="1" lang="es-ES" sz="1400" spc="-1" strike="noStrike" u="sng">
                          <a:solidFill>
                            <a:schemeClr val="dk1"/>
                          </a:solidFill>
                          <a:uFillTx/>
                          <a:latin typeface="Franklin Gothic Book"/>
                          <a:hlinkClick r:id="rId19" action="ppaction://hlinksldjump"/>
                        </a:rPr>
                        <a:t> DE LA EMPRES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20" action="ppaction://hlinksldjump"/>
                        </a:rPr>
                        <a:t>ANALISIS DE PROCESO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21" action="ppaction://hlinksldjump"/>
                        </a:rPr>
                        <a:t>ANALISIS DE LA TECNOLIGÍ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r>
              <a:tr h="821160">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22" action="ppaction://hlinksldjump"/>
                        </a:rPr>
                        <a:t>ANALISIS DE LA CULTURA</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endParaRPr b="0" lang="es-ES" sz="14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eea"/>
                    </a:solidFill>
                  </a:tcPr>
                </a:tc>
              </a:tr>
              <a:tr h="821160">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pPr indent="-216000" algn="ctr">
                        <a:lnSpc>
                          <a:spcPct val="100000"/>
                        </a:lnSpc>
                        <a:buClr>
                          <a:srgbClr val="000000"/>
                        </a:buClr>
                        <a:buFont typeface="Arial"/>
                        <a:buChar char="•"/>
                      </a:pPr>
                      <a:r>
                        <a:rPr b="0" lang="es-ES" sz="1400" spc="-1" strike="noStrike" u="sng">
                          <a:solidFill>
                            <a:schemeClr val="dk1"/>
                          </a:solidFill>
                          <a:uFillTx/>
                          <a:latin typeface="Franklin Gothic Book"/>
                          <a:hlinkClick r:id="rId23" action="ppaction://hlinksldjump"/>
                        </a:rPr>
                        <a:t>OUTSOURCING</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ddd4"/>
                    </a:solidFill>
                  </a:tcPr>
                </a:tc>
              </a:tr>
            </a:tbl>
          </a:graphicData>
        </a:graphic>
      </p:graphicFrame>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organigrafo</a:t>
            </a:r>
            <a:endParaRPr b="0" lang="es-ES" sz="3600" spc="-1" strike="noStrike">
              <a:solidFill>
                <a:srgbClr val="000000"/>
              </a:solidFill>
              <a:latin typeface="Franklin Gothic Book"/>
            </a:endParaRPr>
          </a:p>
        </p:txBody>
      </p:sp>
      <p:sp>
        <p:nvSpPr>
          <p:cNvPr id="231" name="2 Elipse"/>
          <p:cNvSpPr/>
          <p:nvPr/>
        </p:nvSpPr>
        <p:spPr>
          <a:xfrm>
            <a:off x="214200" y="1428840"/>
            <a:ext cx="1356840" cy="785520"/>
          </a:xfrm>
          <a:prstGeom prst="ellipse">
            <a:avLst/>
          </a:prstGeom>
          <a:solidFill>
            <a:schemeClr val="accent4"/>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2" name="3 Rectángulo"/>
          <p:cNvSpPr/>
          <p:nvPr/>
        </p:nvSpPr>
        <p:spPr>
          <a:xfrm>
            <a:off x="3786120" y="1500120"/>
            <a:ext cx="1285560" cy="71388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3" name="4 Rectángulo"/>
          <p:cNvSpPr/>
          <p:nvPr/>
        </p:nvSpPr>
        <p:spPr>
          <a:xfrm>
            <a:off x="2143080" y="1571760"/>
            <a:ext cx="999720" cy="57132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4" name="5 Rectángulo"/>
          <p:cNvSpPr/>
          <p:nvPr/>
        </p:nvSpPr>
        <p:spPr>
          <a:xfrm>
            <a:off x="5572080" y="1643040"/>
            <a:ext cx="1071360" cy="57132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5" name="6 Rectángulo"/>
          <p:cNvSpPr/>
          <p:nvPr/>
        </p:nvSpPr>
        <p:spPr>
          <a:xfrm>
            <a:off x="6929280" y="1143000"/>
            <a:ext cx="1999800" cy="221436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6" name="8 Rectángulo"/>
          <p:cNvSpPr/>
          <p:nvPr/>
        </p:nvSpPr>
        <p:spPr>
          <a:xfrm>
            <a:off x="7215120" y="6072120"/>
            <a:ext cx="1785600" cy="78552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7" name="9 Rectángulo"/>
          <p:cNvSpPr/>
          <p:nvPr/>
        </p:nvSpPr>
        <p:spPr>
          <a:xfrm>
            <a:off x="3500280" y="3143160"/>
            <a:ext cx="2285640" cy="142848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8" name="10 Rectángulo"/>
          <p:cNvSpPr/>
          <p:nvPr/>
        </p:nvSpPr>
        <p:spPr>
          <a:xfrm>
            <a:off x="3500280" y="4857840"/>
            <a:ext cx="1999800" cy="71388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39" name="11 Elipse"/>
          <p:cNvSpPr/>
          <p:nvPr/>
        </p:nvSpPr>
        <p:spPr>
          <a:xfrm>
            <a:off x="3071880" y="5929200"/>
            <a:ext cx="1356840" cy="785520"/>
          </a:xfrm>
          <a:prstGeom prst="ellipse">
            <a:avLst/>
          </a:prstGeom>
          <a:solidFill>
            <a:schemeClr val="accent4"/>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0" name="12 Elipse"/>
          <p:cNvSpPr/>
          <p:nvPr/>
        </p:nvSpPr>
        <p:spPr>
          <a:xfrm>
            <a:off x="4857840" y="5929200"/>
            <a:ext cx="1499760" cy="785520"/>
          </a:xfrm>
          <a:prstGeom prst="ellipse">
            <a:avLst/>
          </a:prstGeom>
          <a:solidFill>
            <a:schemeClr val="accent4"/>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1" name="13 Rectángulo"/>
          <p:cNvSpPr/>
          <p:nvPr/>
        </p:nvSpPr>
        <p:spPr>
          <a:xfrm>
            <a:off x="1071360" y="2786040"/>
            <a:ext cx="1356840" cy="107136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2" name="14 Rectángulo"/>
          <p:cNvSpPr/>
          <p:nvPr/>
        </p:nvSpPr>
        <p:spPr>
          <a:xfrm>
            <a:off x="928800" y="4572000"/>
            <a:ext cx="1571400" cy="85680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3" name="15 Rectángulo"/>
          <p:cNvSpPr/>
          <p:nvPr/>
        </p:nvSpPr>
        <p:spPr>
          <a:xfrm>
            <a:off x="214200" y="5786280"/>
            <a:ext cx="1785600" cy="71388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44" name="16 CuadroTexto"/>
          <p:cNvSpPr/>
          <p:nvPr/>
        </p:nvSpPr>
        <p:spPr>
          <a:xfrm>
            <a:off x="357120" y="1643040"/>
            <a:ext cx="1071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cosecheros</a:t>
            </a:r>
            <a:endParaRPr b="0" lang="en-US" sz="1400" spc="-1" strike="noStrike">
              <a:solidFill>
                <a:srgbClr val="000000"/>
              </a:solidFill>
              <a:latin typeface="Arial"/>
            </a:endParaRPr>
          </a:p>
        </p:txBody>
      </p:sp>
      <p:sp>
        <p:nvSpPr>
          <p:cNvPr id="245" name="17 CuadroTexto"/>
          <p:cNvSpPr/>
          <p:nvPr/>
        </p:nvSpPr>
        <p:spPr>
          <a:xfrm>
            <a:off x="3286080" y="6072120"/>
            <a:ext cx="99972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Clientes nacionales</a:t>
            </a:r>
            <a:endParaRPr b="0" lang="en-US" sz="1400" spc="-1" strike="noStrike">
              <a:solidFill>
                <a:srgbClr val="000000"/>
              </a:solidFill>
              <a:latin typeface="Arial"/>
            </a:endParaRPr>
          </a:p>
        </p:txBody>
      </p:sp>
      <p:sp>
        <p:nvSpPr>
          <p:cNvPr id="246" name="18 CuadroTexto"/>
          <p:cNvSpPr/>
          <p:nvPr/>
        </p:nvSpPr>
        <p:spPr>
          <a:xfrm>
            <a:off x="5000760" y="6072120"/>
            <a:ext cx="121392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Clientes extranjeros</a:t>
            </a:r>
            <a:endParaRPr b="0" lang="en-US" sz="1400" spc="-1" strike="noStrike">
              <a:solidFill>
                <a:srgbClr val="000000"/>
              </a:solidFill>
              <a:latin typeface="Arial"/>
            </a:endParaRPr>
          </a:p>
        </p:txBody>
      </p:sp>
      <p:sp>
        <p:nvSpPr>
          <p:cNvPr id="247" name="19 CuadroTexto"/>
          <p:cNvSpPr/>
          <p:nvPr/>
        </p:nvSpPr>
        <p:spPr>
          <a:xfrm>
            <a:off x="1214280" y="2928960"/>
            <a:ext cx="10713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DE CALIDAD</a:t>
            </a:r>
            <a:endParaRPr b="0" lang="en-US" sz="1400" spc="-1" strike="noStrike">
              <a:solidFill>
                <a:srgbClr val="000000"/>
              </a:solidFill>
              <a:latin typeface="Arial"/>
            </a:endParaRPr>
          </a:p>
        </p:txBody>
      </p:sp>
      <p:sp>
        <p:nvSpPr>
          <p:cNvPr id="248" name="20 CuadroTexto"/>
          <p:cNvSpPr/>
          <p:nvPr/>
        </p:nvSpPr>
        <p:spPr>
          <a:xfrm>
            <a:off x="1071360" y="4714920"/>
            <a:ext cx="128556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FACTURACIÓN</a:t>
            </a:r>
            <a:endParaRPr b="0" lang="en-US" sz="1400" spc="-1" strike="noStrike">
              <a:solidFill>
                <a:srgbClr val="000000"/>
              </a:solidFill>
              <a:latin typeface="Arial"/>
            </a:endParaRPr>
          </a:p>
        </p:txBody>
      </p:sp>
      <p:sp>
        <p:nvSpPr>
          <p:cNvPr id="249" name="21 CuadroTexto"/>
          <p:cNvSpPr/>
          <p:nvPr/>
        </p:nvSpPr>
        <p:spPr>
          <a:xfrm>
            <a:off x="3571920" y="4929120"/>
            <a:ext cx="185688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DE VENTAS</a:t>
            </a:r>
            <a:endParaRPr b="0" lang="en-US" sz="1400" spc="-1" strike="noStrike">
              <a:solidFill>
                <a:srgbClr val="000000"/>
              </a:solidFill>
              <a:latin typeface="Arial"/>
            </a:endParaRPr>
          </a:p>
        </p:txBody>
      </p:sp>
      <p:sp>
        <p:nvSpPr>
          <p:cNvPr id="250" name="22 CuadroTexto"/>
          <p:cNvSpPr/>
          <p:nvPr/>
        </p:nvSpPr>
        <p:spPr>
          <a:xfrm>
            <a:off x="357120" y="5857920"/>
            <a:ext cx="14997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DE CONTABILIDAD</a:t>
            </a:r>
            <a:endParaRPr b="0" lang="en-US" sz="1400" spc="-1" strike="noStrike">
              <a:solidFill>
                <a:srgbClr val="000000"/>
              </a:solidFill>
              <a:latin typeface="Arial"/>
            </a:endParaRPr>
          </a:p>
        </p:txBody>
      </p:sp>
      <p:sp>
        <p:nvSpPr>
          <p:cNvPr id="251" name="23 CuadroTexto"/>
          <p:cNvSpPr/>
          <p:nvPr/>
        </p:nvSpPr>
        <p:spPr>
          <a:xfrm>
            <a:off x="3857760" y="1500120"/>
            <a:ext cx="114264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DTO. DE RECOLECCIÓN DE MUESTRAS</a:t>
            </a:r>
            <a:endParaRPr b="0" lang="en-US" sz="1200" spc="-1" strike="noStrike">
              <a:solidFill>
                <a:srgbClr val="000000"/>
              </a:solidFill>
              <a:latin typeface="Arial"/>
            </a:endParaRPr>
          </a:p>
        </p:txBody>
      </p:sp>
      <p:sp>
        <p:nvSpPr>
          <p:cNvPr id="252" name="24 CuadroTexto"/>
          <p:cNvSpPr/>
          <p:nvPr/>
        </p:nvSpPr>
        <p:spPr>
          <a:xfrm>
            <a:off x="2214720" y="1643040"/>
            <a:ext cx="856800" cy="637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DTO. COMPRAS</a:t>
            </a:r>
            <a:endParaRPr b="0" lang="en-US" sz="1200" spc="-1" strike="noStrike">
              <a:solidFill>
                <a:srgbClr val="000000"/>
              </a:solidFill>
              <a:latin typeface="Arial"/>
            </a:endParaRPr>
          </a:p>
        </p:txBody>
      </p:sp>
      <p:sp>
        <p:nvSpPr>
          <p:cNvPr id="253" name="25 CuadroTexto"/>
          <p:cNvSpPr/>
          <p:nvPr/>
        </p:nvSpPr>
        <p:spPr>
          <a:xfrm>
            <a:off x="5643720" y="1643040"/>
            <a:ext cx="92844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000000"/>
                </a:solidFill>
                <a:latin typeface="Franklin Gothic Book"/>
              </a:rPr>
              <a:t>ALMACEN GRANEL</a:t>
            </a:r>
            <a:endParaRPr b="0" lang="en-US" sz="1400" spc="-1" strike="noStrike">
              <a:solidFill>
                <a:srgbClr val="000000"/>
              </a:solidFill>
              <a:latin typeface="Arial"/>
            </a:endParaRPr>
          </a:p>
        </p:txBody>
      </p:sp>
      <p:sp>
        <p:nvSpPr>
          <p:cNvPr id="254" name="26 Rectángulo redondeado"/>
          <p:cNvSpPr/>
          <p:nvPr/>
        </p:nvSpPr>
        <p:spPr>
          <a:xfrm>
            <a:off x="7000920" y="164304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55" name="27 Rectángulo redondeado"/>
          <p:cNvSpPr/>
          <p:nvPr/>
        </p:nvSpPr>
        <p:spPr>
          <a:xfrm>
            <a:off x="7000920" y="207180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56" name="28 Rectángulo redondeado"/>
          <p:cNvSpPr/>
          <p:nvPr/>
        </p:nvSpPr>
        <p:spPr>
          <a:xfrm>
            <a:off x="7000920" y="250020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57" name="29 Rectángulo redondeado"/>
          <p:cNvSpPr/>
          <p:nvPr/>
        </p:nvSpPr>
        <p:spPr>
          <a:xfrm>
            <a:off x="7072200" y="2928960"/>
            <a:ext cx="178560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58" name="32 CuadroTexto"/>
          <p:cNvSpPr/>
          <p:nvPr/>
        </p:nvSpPr>
        <p:spPr>
          <a:xfrm>
            <a:off x="7000920" y="1214280"/>
            <a:ext cx="1856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400" spc="-1" strike="noStrike">
                <a:solidFill>
                  <a:srgbClr val="ffffff"/>
                </a:solidFill>
                <a:latin typeface="Franklin Gothic Book"/>
              </a:rPr>
              <a:t>DTO. DE PRODUCCÍON</a:t>
            </a:r>
            <a:endParaRPr b="0" lang="en-US" sz="1400" spc="-1" strike="noStrike">
              <a:solidFill>
                <a:srgbClr val="000000"/>
              </a:solidFill>
              <a:latin typeface="Arial"/>
            </a:endParaRPr>
          </a:p>
        </p:txBody>
      </p:sp>
      <p:sp>
        <p:nvSpPr>
          <p:cNvPr id="259" name="33 CuadroTexto"/>
          <p:cNvSpPr/>
          <p:nvPr/>
        </p:nvSpPr>
        <p:spPr>
          <a:xfrm>
            <a:off x="7072200" y="1643040"/>
            <a:ext cx="171432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MOLTURACIÓN</a:t>
            </a:r>
            <a:endParaRPr b="0" lang="en-US" sz="1400" spc="-1" strike="noStrike">
              <a:solidFill>
                <a:srgbClr val="000000"/>
              </a:solidFill>
              <a:latin typeface="Arial"/>
            </a:endParaRPr>
          </a:p>
        </p:txBody>
      </p:sp>
      <p:sp>
        <p:nvSpPr>
          <p:cNvPr id="260" name="34 CuadroTexto"/>
          <p:cNvSpPr/>
          <p:nvPr/>
        </p:nvSpPr>
        <p:spPr>
          <a:xfrm>
            <a:off x="7072200" y="2071800"/>
            <a:ext cx="17143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SEPARADO</a:t>
            </a:r>
            <a:endParaRPr b="0" lang="en-US" sz="1400" spc="-1" strike="noStrike">
              <a:solidFill>
                <a:srgbClr val="000000"/>
              </a:solidFill>
              <a:latin typeface="Arial"/>
            </a:endParaRPr>
          </a:p>
        </p:txBody>
      </p:sp>
      <p:sp>
        <p:nvSpPr>
          <p:cNvPr id="261" name="35 CuadroTexto"/>
          <p:cNvSpPr/>
          <p:nvPr/>
        </p:nvSpPr>
        <p:spPr>
          <a:xfrm>
            <a:off x="7072200" y="2571840"/>
            <a:ext cx="171432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DTO. DECANTACIÓN</a:t>
            </a:r>
            <a:endParaRPr b="0" lang="en-US" sz="1400" spc="-1" strike="noStrike">
              <a:solidFill>
                <a:srgbClr val="000000"/>
              </a:solidFill>
              <a:latin typeface="Arial"/>
            </a:endParaRPr>
          </a:p>
        </p:txBody>
      </p:sp>
      <p:sp>
        <p:nvSpPr>
          <p:cNvPr id="262" name="36 CuadroTexto"/>
          <p:cNvSpPr/>
          <p:nvPr/>
        </p:nvSpPr>
        <p:spPr>
          <a:xfrm>
            <a:off x="7143840" y="2928960"/>
            <a:ext cx="157140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BODEGAS</a:t>
            </a:r>
            <a:endParaRPr b="0" lang="en-US" sz="1400" spc="-1" strike="noStrike">
              <a:solidFill>
                <a:srgbClr val="000000"/>
              </a:solidFill>
              <a:latin typeface="Arial"/>
            </a:endParaRPr>
          </a:p>
        </p:txBody>
      </p:sp>
      <p:sp>
        <p:nvSpPr>
          <p:cNvPr id="263" name="37 CuadroTexto"/>
          <p:cNvSpPr/>
          <p:nvPr/>
        </p:nvSpPr>
        <p:spPr>
          <a:xfrm>
            <a:off x="7286760" y="6072120"/>
            <a:ext cx="164268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ALMACEN DE PRODUCTO TERMINADO</a:t>
            </a:r>
            <a:endParaRPr b="0" lang="en-US" sz="1400" spc="-1" strike="noStrike">
              <a:solidFill>
                <a:srgbClr val="000000"/>
              </a:solidFill>
              <a:latin typeface="Arial"/>
            </a:endParaRPr>
          </a:p>
        </p:txBody>
      </p:sp>
      <p:sp>
        <p:nvSpPr>
          <p:cNvPr id="264" name="40 Rectángulo"/>
          <p:cNvSpPr/>
          <p:nvPr/>
        </p:nvSpPr>
        <p:spPr>
          <a:xfrm>
            <a:off x="6357960" y="3500280"/>
            <a:ext cx="1999800" cy="2214360"/>
          </a:xfrm>
          <a:prstGeom prst="rect">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65" name="42 Rectángulo redondeado"/>
          <p:cNvSpPr/>
          <p:nvPr/>
        </p:nvSpPr>
        <p:spPr>
          <a:xfrm>
            <a:off x="6500880" y="535788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200" spc="-1" strike="noStrike">
              <a:solidFill>
                <a:schemeClr val="lt1"/>
              </a:solidFill>
              <a:latin typeface="Franklin Gothic Book"/>
            </a:endParaRPr>
          </a:p>
        </p:txBody>
      </p:sp>
      <p:sp>
        <p:nvSpPr>
          <p:cNvPr id="266" name="43 Rectángulo redondeado"/>
          <p:cNvSpPr/>
          <p:nvPr/>
        </p:nvSpPr>
        <p:spPr>
          <a:xfrm>
            <a:off x="6500880" y="492912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67" name="44 Rectángulo redondeado"/>
          <p:cNvSpPr/>
          <p:nvPr/>
        </p:nvSpPr>
        <p:spPr>
          <a:xfrm>
            <a:off x="6500880" y="450072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68" name="45 Rectángulo redondeado"/>
          <p:cNvSpPr/>
          <p:nvPr/>
        </p:nvSpPr>
        <p:spPr>
          <a:xfrm>
            <a:off x="6500880" y="4071960"/>
            <a:ext cx="185688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69" name="46 CuadroTexto"/>
          <p:cNvSpPr/>
          <p:nvPr/>
        </p:nvSpPr>
        <p:spPr>
          <a:xfrm>
            <a:off x="6572160" y="4071960"/>
            <a:ext cx="17143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AREA  EMBOTELLADO</a:t>
            </a:r>
            <a:endParaRPr b="0" lang="en-US" sz="1200" spc="-1" strike="noStrike">
              <a:solidFill>
                <a:srgbClr val="000000"/>
              </a:solidFill>
              <a:latin typeface="Arial"/>
            </a:endParaRPr>
          </a:p>
        </p:txBody>
      </p:sp>
      <p:sp>
        <p:nvSpPr>
          <p:cNvPr id="270" name="47 CuadroTexto"/>
          <p:cNvSpPr/>
          <p:nvPr/>
        </p:nvSpPr>
        <p:spPr>
          <a:xfrm>
            <a:off x="6572160" y="4500720"/>
            <a:ext cx="171432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AREA  ENCAJADO</a:t>
            </a:r>
            <a:endParaRPr b="0" lang="en-US" sz="1200" spc="-1" strike="noStrike">
              <a:solidFill>
                <a:srgbClr val="000000"/>
              </a:solidFill>
              <a:latin typeface="Arial"/>
            </a:endParaRPr>
          </a:p>
        </p:txBody>
      </p:sp>
      <p:sp>
        <p:nvSpPr>
          <p:cNvPr id="271" name="48 CuadroTexto"/>
          <p:cNvSpPr/>
          <p:nvPr/>
        </p:nvSpPr>
        <p:spPr>
          <a:xfrm>
            <a:off x="6572160" y="5000760"/>
            <a:ext cx="171432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AREA PALETIZADO</a:t>
            </a:r>
            <a:endParaRPr b="0" lang="en-US" sz="1200" spc="-1" strike="noStrike">
              <a:solidFill>
                <a:srgbClr val="000000"/>
              </a:solidFill>
              <a:latin typeface="Arial"/>
            </a:endParaRPr>
          </a:p>
        </p:txBody>
      </p:sp>
      <p:sp>
        <p:nvSpPr>
          <p:cNvPr id="272" name="49 CuadroTexto"/>
          <p:cNvSpPr/>
          <p:nvPr/>
        </p:nvSpPr>
        <p:spPr>
          <a:xfrm>
            <a:off x="6572160" y="5357880"/>
            <a:ext cx="1714320" cy="45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200" spc="-1" strike="noStrike">
                <a:solidFill>
                  <a:srgbClr val="000000"/>
                </a:solidFill>
                <a:latin typeface="Franklin Gothic Book"/>
              </a:rPr>
              <a:t>AREA  RETRACTILADO</a:t>
            </a:r>
            <a:endParaRPr b="0" lang="en-US" sz="1200" spc="-1" strike="noStrike">
              <a:solidFill>
                <a:srgbClr val="000000"/>
              </a:solidFill>
              <a:latin typeface="Arial"/>
            </a:endParaRPr>
          </a:p>
        </p:txBody>
      </p:sp>
      <p:sp>
        <p:nvSpPr>
          <p:cNvPr id="273" name="50 CuadroTexto"/>
          <p:cNvSpPr/>
          <p:nvPr/>
        </p:nvSpPr>
        <p:spPr>
          <a:xfrm>
            <a:off x="6500880" y="3571920"/>
            <a:ext cx="185688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ffffff"/>
                </a:solidFill>
                <a:latin typeface="Franklin Gothic Book"/>
              </a:rPr>
              <a:t>DTO.  DE ENVASADO</a:t>
            </a:r>
            <a:endParaRPr b="0" lang="en-US" sz="1400" spc="-1" strike="noStrike">
              <a:solidFill>
                <a:srgbClr val="000000"/>
              </a:solidFill>
              <a:latin typeface="Arial"/>
            </a:endParaRPr>
          </a:p>
        </p:txBody>
      </p:sp>
      <p:sp>
        <p:nvSpPr>
          <p:cNvPr id="274" name="51 Rectángulo redondeado"/>
          <p:cNvSpPr/>
          <p:nvPr/>
        </p:nvSpPr>
        <p:spPr>
          <a:xfrm>
            <a:off x="3571920" y="3643200"/>
            <a:ext cx="2142720" cy="35676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75" name="52 Rectángulo redondeado"/>
          <p:cNvSpPr/>
          <p:nvPr/>
        </p:nvSpPr>
        <p:spPr>
          <a:xfrm>
            <a:off x="3571920" y="4143240"/>
            <a:ext cx="2142720" cy="285480"/>
          </a:xfrm>
          <a:prstGeom prst="roundRect">
            <a:avLst>
              <a:gd name="adj" fmla="val 16667"/>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
        <p:nvSpPr>
          <p:cNvPr id="276" name="54 CuadroTexto"/>
          <p:cNvSpPr/>
          <p:nvPr/>
        </p:nvSpPr>
        <p:spPr>
          <a:xfrm>
            <a:off x="3571920" y="3191040"/>
            <a:ext cx="21427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ffffff"/>
                </a:solidFill>
                <a:latin typeface="Franklin Gothic Book"/>
              </a:rPr>
              <a:t>DTO. RECICLADO</a:t>
            </a:r>
            <a:endParaRPr b="0" lang="en-US" sz="1400" spc="-1" strike="noStrike">
              <a:solidFill>
                <a:srgbClr val="000000"/>
              </a:solidFill>
              <a:latin typeface="Arial"/>
            </a:endParaRPr>
          </a:p>
        </p:txBody>
      </p:sp>
      <p:sp>
        <p:nvSpPr>
          <p:cNvPr id="277" name="55 CuadroTexto"/>
          <p:cNvSpPr/>
          <p:nvPr/>
        </p:nvSpPr>
        <p:spPr>
          <a:xfrm>
            <a:off x="3643200" y="3643200"/>
            <a:ext cx="1928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AREA DE SECADO</a:t>
            </a:r>
            <a:endParaRPr b="0" lang="en-US" sz="1400" spc="-1" strike="noStrike">
              <a:solidFill>
                <a:srgbClr val="000000"/>
              </a:solidFill>
              <a:latin typeface="Arial"/>
            </a:endParaRPr>
          </a:p>
        </p:txBody>
      </p:sp>
      <p:sp>
        <p:nvSpPr>
          <p:cNvPr id="278" name="56 CuadroTexto"/>
          <p:cNvSpPr/>
          <p:nvPr/>
        </p:nvSpPr>
        <p:spPr>
          <a:xfrm>
            <a:off x="3643200" y="4119840"/>
            <a:ext cx="192852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s-ES" sz="1400" spc="-1" strike="noStrike">
                <a:solidFill>
                  <a:srgbClr val="000000"/>
                </a:solidFill>
                <a:latin typeface="Franklin Gothic Book"/>
              </a:rPr>
              <a:t>LAVORATORIO</a:t>
            </a:r>
            <a:endParaRPr b="0" lang="en-US" sz="1400" spc="-1" strike="noStrike">
              <a:solidFill>
                <a:srgbClr val="000000"/>
              </a:solidFill>
              <a:latin typeface="Arial"/>
            </a:endParaRPr>
          </a:p>
        </p:txBody>
      </p:sp>
      <p:cxnSp>
        <p:nvCxnSpPr>
          <p:cNvPr id="279" name="58 Conector recto de flecha"/>
          <p:cNvCxnSpPr>
            <a:stCxn id="231" idx="6"/>
            <a:endCxn id="233" idx="1"/>
          </p:cNvCxnSpPr>
          <p:nvPr/>
        </p:nvCxnSpPr>
        <p:spPr>
          <a:xfrm>
            <a:off x="1571400" y="1821600"/>
            <a:ext cx="572040" cy="36000"/>
          </a:xfrm>
          <a:prstGeom prst="straightConnector1">
            <a:avLst/>
          </a:prstGeom>
          <a:ln w="15875">
            <a:solidFill>
              <a:srgbClr val="009900"/>
            </a:solidFill>
            <a:prstDash val="lgDash"/>
            <a:round/>
            <a:tailEnd len="med" type="arrow" w="med"/>
          </a:ln>
        </p:spPr>
      </p:cxnSp>
      <p:cxnSp>
        <p:nvCxnSpPr>
          <p:cNvPr id="280" name="62 Conector recto de flecha"/>
          <p:cNvCxnSpPr/>
          <p:nvPr/>
        </p:nvCxnSpPr>
        <p:spPr>
          <a:xfrm>
            <a:off x="3143160" y="1857240"/>
            <a:ext cx="571680" cy="36000"/>
          </a:xfrm>
          <a:prstGeom prst="straightConnector1">
            <a:avLst/>
          </a:prstGeom>
          <a:ln w="15875">
            <a:solidFill>
              <a:srgbClr val="009900"/>
            </a:solidFill>
            <a:prstDash val="lgDash"/>
            <a:round/>
            <a:tailEnd len="med" type="arrow" w="med"/>
          </a:ln>
        </p:spPr>
      </p:cxnSp>
      <p:cxnSp>
        <p:nvCxnSpPr>
          <p:cNvPr id="281" name="63 Conector recto de flecha"/>
          <p:cNvCxnSpPr/>
          <p:nvPr/>
        </p:nvCxnSpPr>
        <p:spPr>
          <a:xfrm>
            <a:off x="5072040" y="1928520"/>
            <a:ext cx="428760" cy="72000"/>
          </a:xfrm>
          <a:prstGeom prst="straightConnector1">
            <a:avLst/>
          </a:prstGeom>
          <a:ln w="15875">
            <a:solidFill>
              <a:srgbClr val="009900"/>
            </a:solidFill>
            <a:prstDash val="lgDash"/>
            <a:round/>
            <a:tailEnd len="med" type="arrow" w="med"/>
          </a:ln>
        </p:spPr>
      </p:cxnSp>
      <p:cxnSp>
        <p:nvCxnSpPr>
          <p:cNvPr id="282" name="65 Conector recto de flecha"/>
          <p:cNvCxnSpPr>
            <a:stCxn id="234" idx="3"/>
          </p:cNvCxnSpPr>
          <p:nvPr/>
        </p:nvCxnSpPr>
        <p:spPr>
          <a:xfrm flipV="1">
            <a:off x="6643440" y="1785600"/>
            <a:ext cx="214920" cy="143280"/>
          </a:xfrm>
          <a:prstGeom prst="straightConnector1">
            <a:avLst/>
          </a:prstGeom>
          <a:ln w="15875">
            <a:solidFill>
              <a:srgbClr val="009900"/>
            </a:solidFill>
            <a:prstDash val="lgDash"/>
            <a:round/>
            <a:tailEnd len="med" type="arrow" w="med"/>
          </a:ln>
        </p:spPr>
      </p:cxnSp>
      <p:cxnSp>
        <p:nvCxnSpPr>
          <p:cNvPr id="283" name="59 Conector recto de flecha"/>
          <p:cNvCxnSpPr/>
          <p:nvPr/>
        </p:nvCxnSpPr>
        <p:spPr>
          <a:xfrm flipH="1">
            <a:off x="8429400" y="3429000"/>
            <a:ext cx="357480" cy="928800"/>
          </a:xfrm>
          <a:prstGeom prst="straightConnector1">
            <a:avLst/>
          </a:prstGeom>
          <a:ln w="19050">
            <a:solidFill>
              <a:srgbClr val="c17529"/>
            </a:solidFill>
            <a:round/>
            <a:tailEnd len="med" type="arrow" w="med"/>
          </a:ln>
        </p:spPr>
      </p:cxnSp>
      <p:cxnSp>
        <p:nvCxnSpPr>
          <p:cNvPr id="284" name="60 Conector recto de flecha"/>
          <p:cNvCxnSpPr/>
          <p:nvPr/>
        </p:nvCxnSpPr>
        <p:spPr>
          <a:xfrm flipH="1">
            <a:off x="8214480" y="5429880"/>
            <a:ext cx="1800" cy="572040"/>
          </a:xfrm>
          <a:prstGeom prst="straightConnector1">
            <a:avLst/>
          </a:prstGeom>
          <a:ln w="19050">
            <a:solidFill>
              <a:srgbClr val="c17529"/>
            </a:solidFill>
            <a:round/>
            <a:tailEnd len="med" type="arrow" w="med"/>
          </a:ln>
        </p:spPr>
      </p:cxnSp>
      <p:cxnSp>
        <p:nvCxnSpPr>
          <p:cNvPr id="285" name="64 Conector recto de flecha"/>
          <p:cNvCxnSpPr/>
          <p:nvPr/>
        </p:nvCxnSpPr>
        <p:spPr>
          <a:xfrm flipH="1" flipV="1">
            <a:off x="5572080" y="5357520"/>
            <a:ext cx="1643400" cy="857880"/>
          </a:xfrm>
          <a:prstGeom prst="straightConnector1">
            <a:avLst/>
          </a:prstGeom>
          <a:ln w="19050">
            <a:solidFill>
              <a:srgbClr val="c17529"/>
            </a:solidFill>
            <a:round/>
            <a:tailEnd len="med" type="arrow" w="med"/>
          </a:ln>
        </p:spPr>
      </p:cxnSp>
      <p:cxnSp>
        <p:nvCxnSpPr>
          <p:cNvPr id="286" name="69 Conector recto de flecha"/>
          <p:cNvCxnSpPr>
            <a:stCxn id="260" idx="1"/>
          </p:cNvCxnSpPr>
          <p:nvPr/>
        </p:nvCxnSpPr>
        <p:spPr>
          <a:xfrm flipH="1">
            <a:off x="5857560" y="2225520"/>
            <a:ext cx="1215000" cy="989280"/>
          </a:xfrm>
          <a:prstGeom prst="straightConnector1">
            <a:avLst/>
          </a:prstGeom>
          <a:ln w="19050">
            <a:solidFill>
              <a:srgbClr val="7030a0"/>
            </a:solidFill>
            <a:round/>
            <a:tailEnd len="med" type="arrow" w="med"/>
          </a:ln>
        </p:spPr>
      </p:cxnSp>
      <p:cxnSp>
        <p:nvCxnSpPr>
          <p:cNvPr id="287" name="71 Conector recto de flecha"/>
          <p:cNvCxnSpPr/>
          <p:nvPr/>
        </p:nvCxnSpPr>
        <p:spPr>
          <a:xfrm flipH="1">
            <a:off x="5072040" y="4143960"/>
            <a:ext cx="1080" cy="642600"/>
          </a:xfrm>
          <a:prstGeom prst="straightConnector1">
            <a:avLst/>
          </a:prstGeom>
          <a:ln w="19050">
            <a:solidFill>
              <a:srgbClr val="c17529"/>
            </a:solidFill>
            <a:round/>
            <a:tailEnd len="med" type="arrow" w="med"/>
          </a:ln>
        </p:spPr>
      </p:cxnSp>
      <p:cxnSp>
        <p:nvCxnSpPr>
          <p:cNvPr id="288" name="75 Conector recto de flecha"/>
          <p:cNvCxnSpPr>
            <a:stCxn id="239" idx="0"/>
          </p:cNvCxnSpPr>
          <p:nvPr/>
        </p:nvCxnSpPr>
        <p:spPr>
          <a:xfrm flipV="1">
            <a:off x="3750120" y="5572080"/>
            <a:ext cx="179280" cy="357480"/>
          </a:xfrm>
          <a:prstGeom prst="straightConnector1">
            <a:avLst/>
          </a:prstGeom>
          <a:ln w="19050">
            <a:solidFill>
              <a:srgbClr val="ff0000"/>
            </a:solidFill>
            <a:prstDash val="lgDash"/>
            <a:round/>
            <a:tailEnd len="med" type="arrow" w="med"/>
          </a:ln>
        </p:spPr>
      </p:cxnSp>
      <p:cxnSp>
        <p:nvCxnSpPr>
          <p:cNvPr id="289" name="76 Conector recto de flecha"/>
          <p:cNvCxnSpPr/>
          <p:nvPr/>
        </p:nvCxnSpPr>
        <p:spPr>
          <a:xfrm flipH="1" flipV="1">
            <a:off x="5214600" y="5572080"/>
            <a:ext cx="214920" cy="357480"/>
          </a:xfrm>
          <a:prstGeom prst="straightConnector1">
            <a:avLst/>
          </a:prstGeom>
          <a:ln w="19050">
            <a:solidFill>
              <a:srgbClr val="ff0000"/>
            </a:solidFill>
            <a:prstDash val="lgDash"/>
            <a:round/>
            <a:tailEnd len="med" type="arrow" w="med"/>
          </a:ln>
        </p:spPr>
      </p:cxnSp>
      <p:cxnSp>
        <p:nvCxnSpPr>
          <p:cNvPr id="290" name="79 Conector recto de flecha"/>
          <p:cNvCxnSpPr>
            <a:stCxn id="238" idx="1"/>
          </p:cNvCxnSpPr>
          <p:nvPr/>
        </p:nvCxnSpPr>
        <p:spPr>
          <a:xfrm flipH="1" flipV="1">
            <a:off x="2571480" y="5143320"/>
            <a:ext cx="929160" cy="71640"/>
          </a:xfrm>
          <a:prstGeom prst="straightConnector1">
            <a:avLst/>
          </a:prstGeom>
          <a:ln w="19050">
            <a:solidFill>
              <a:srgbClr val="ff0000"/>
            </a:solidFill>
            <a:prstDash val="lgDash"/>
            <a:round/>
            <a:tailEnd len="med" type="arrow" w="med"/>
          </a:ln>
        </p:spPr>
      </p:cxnSp>
      <p:cxnSp>
        <p:nvCxnSpPr>
          <p:cNvPr id="291" name="82 Conector recto de flecha"/>
          <p:cNvCxnSpPr/>
          <p:nvPr/>
        </p:nvCxnSpPr>
        <p:spPr>
          <a:xfrm flipH="1">
            <a:off x="1785600" y="5429160"/>
            <a:ext cx="214920" cy="286200"/>
          </a:xfrm>
          <a:prstGeom prst="straightConnector1">
            <a:avLst/>
          </a:prstGeom>
          <a:ln w="19050">
            <a:solidFill>
              <a:srgbClr val="ff0000"/>
            </a:solidFill>
            <a:prstDash val="lgDash"/>
            <a:round/>
            <a:tailEnd len="med" type="arrow" w="med"/>
          </a:ln>
        </p:spPr>
      </p:cxnSp>
      <p:cxnSp>
        <p:nvCxnSpPr>
          <p:cNvPr id="292" name="85 Conector recto de flecha"/>
          <p:cNvCxnSpPr/>
          <p:nvPr/>
        </p:nvCxnSpPr>
        <p:spPr>
          <a:xfrm flipH="1">
            <a:off x="2428560" y="2214360"/>
            <a:ext cx="1643400" cy="929160"/>
          </a:xfrm>
          <a:prstGeom prst="straightConnector1">
            <a:avLst/>
          </a:prstGeom>
          <a:ln w="19050">
            <a:solidFill>
              <a:srgbClr val="ff0000"/>
            </a:solidFill>
            <a:prstDash val="lgDash"/>
            <a:round/>
            <a:tailEnd len="med" type="arrow" w="med"/>
          </a:ln>
        </p:spPr>
      </p:cxnSp>
      <p:cxnSp>
        <p:nvCxnSpPr>
          <p:cNvPr id="293" name="88 Conector recto de flecha"/>
          <p:cNvCxnSpPr/>
          <p:nvPr/>
        </p:nvCxnSpPr>
        <p:spPr>
          <a:xfrm flipH="1" flipV="1">
            <a:off x="2428560" y="2857320"/>
            <a:ext cx="4786920" cy="214560"/>
          </a:xfrm>
          <a:prstGeom prst="straightConnector1">
            <a:avLst/>
          </a:prstGeom>
          <a:ln w="19050">
            <a:solidFill>
              <a:srgbClr val="ff0000"/>
            </a:solidFill>
            <a:prstDash val="lgDash"/>
            <a:round/>
            <a:tailEnd len="med" type="arrow" w="med"/>
          </a:ln>
        </p:spPr>
      </p:cxn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a:t>
            </a:r>
            <a:endParaRPr b="0" lang="es-ES" sz="3600" spc="-1" strike="noStrike">
              <a:solidFill>
                <a:srgbClr val="000000"/>
              </a:solidFill>
              <a:latin typeface="Franklin Gothic Book"/>
            </a:endParaRPr>
          </a:p>
        </p:txBody>
      </p:sp>
      <p:graphicFrame>
        <p:nvGraphicFramePr>
          <p:cNvPr id="5" name="Diagram5"/>
          <p:cNvGraphicFramePr/>
          <p:nvPr>
            <p:extLst>
              <p:ext uri="{D42A27DB-BD31-4B8C-83A1-F6EECF244321}">
                <p14:modId xmlns:p14="http://schemas.microsoft.com/office/powerpoint/2010/main" val="241975248"/>
              </p:ext>
            </p:extLst>
          </p:nvPr>
        </p:nvGraphicFramePr>
        <p:xfrm>
          <a:off x="357120" y="1285920"/>
          <a:ext cx="8572320" cy="5357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1/5  </a:t>
            </a:r>
            <a:endParaRPr b="0" lang="es-ES" sz="3600" spc="-1" strike="noStrike">
              <a:solidFill>
                <a:srgbClr val="000000"/>
              </a:solidFill>
              <a:latin typeface="Franklin Gothic Book"/>
            </a:endParaRPr>
          </a:p>
        </p:txBody>
      </p:sp>
      <p:graphicFrame>
        <p:nvGraphicFramePr>
          <p:cNvPr id="6" name="Diagram6"/>
          <p:cNvGraphicFramePr/>
          <p:nvPr>
            <p:extLst>
              <p:ext uri="{D42A27DB-BD31-4B8C-83A1-F6EECF244321}">
                <p14:modId xmlns:p14="http://schemas.microsoft.com/office/powerpoint/2010/main" val="1440150539"/>
              </p:ext>
            </p:extLst>
          </p:nvPr>
        </p:nvGraphicFramePr>
        <p:xfrm>
          <a:off x="285840" y="1357200"/>
          <a:ext cx="8500680" cy="1928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96" name="3 CuadroTexto"/>
          <p:cNvSpPr/>
          <p:nvPr/>
        </p:nvSpPr>
        <p:spPr>
          <a:xfrm>
            <a:off x="428760" y="3786120"/>
            <a:ext cx="835776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El proceso productivo de esta empresa empieza con la compra de la aceituna a los cosecheros de la zona, una vez obtenida se  llevan en las cintas transportadoras hasta una limpiadora en la que se eliminan los restos de tierra y hojas, después pasan a una lavadora donde se limpian totalmente.</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Posteriormente se recoge una muestra de la aceituna para medir la cantidad de aceite que contienen,  así, una vez pesadas, se separan según el tipo de aceituna que sean y se almacenan hasta que pasan a ser tratadas.</a:t>
            </a:r>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2/5</a:t>
            </a:r>
            <a:endParaRPr b="0" lang="es-ES" sz="3600" spc="-1" strike="noStrike">
              <a:solidFill>
                <a:srgbClr val="000000"/>
              </a:solidFill>
              <a:latin typeface="Franklin Gothic Book"/>
            </a:endParaRPr>
          </a:p>
        </p:txBody>
      </p:sp>
      <p:graphicFrame>
        <p:nvGraphicFramePr>
          <p:cNvPr id="7" name="Diagram7"/>
          <p:cNvGraphicFramePr/>
          <p:nvPr>
            <p:extLst>
              <p:ext uri="{D42A27DB-BD31-4B8C-83A1-F6EECF244321}">
                <p14:modId xmlns:p14="http://schemas.microsoft.com/office/powerpoint/2010/main" val="2962293525"/>
              </p:ext>
            </p:extLst>
          </p:nvPr>
        </p:nvGraphicFramePr>
        <p:xfrm>
          <a:off x="357120" y="1643040"/>
          <a:ext cx="8000640" cy="14284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98" name="3 CuadroTexto"/>
          <p:cNvSpPr/>
          <p:nvPr/>
        </p:nvSpPr>
        <p:spPr>
          <a:xfrm>
            <a:off x="642960" y="3071880"/>
            <a:ext cx="8000640" cy="3107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La aceituna sale del almacén por las torvas de recepción y es conducida a la zona de molturaje, donde los martillos trituradores la muelen. Posteriormente la masa es batida y enviada a las centrifugadoras de separación, en ellas se extrae el aceite y se separa del los demás componentes de la masa, el orujo el alpechín y el hues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Para finalizar se decanta el aceite, es decir, el aceite de oliva virgen extra se filtra para eliminar posibles pequeñas impurezas y/o humedade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Por ultimo el aceite se almacena en las bodegas y según el tipo de aceite, distinguiendo tres tipos, aceite virgen, aceite virgen extra o aceite virgen lampante, no apto para el consumo pero si para refinería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La bodega tiene una capacidad de 2.000.000 litros de aceite.</a:t>
            </a:r>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3/5</a:t>
            </a:r>
            <a:endParaRPr b="0" lang="es-ES" sz="3600" spc="-1" strike="noStrike">
              <a:solidFill>
                <a:srgbClr val="000000"/>
              </a:solidFill>
              <a:latin typeface="Franklin Gothic Book"/>
            </a:endParaRPr>
          </a:p>
        </p:txBody>
      </p:sp>
      <p:graphicFrame>
        <p:nvGraphicFramePr>
          <p:cNvPr id="8" name="Diagram8"/>
          <p:cNvGraphicFramePr/>
          <p:nvPr>
            <p:extLst>
              <p:ext uri="{D42A27DB-BD31-4B8C-83A1-F6EECF244321}">
                <p14:modId xmlns:p14="http://schemas.microsoft.com/office/powerpoint/2010/main" val="2400642254"/>
              </p:ext>
            </p:extLst>
          </p:nvPr>
        </p:nvGraphicFramePr>
        <p:xfrm>
          <a:off x="214200" y="1428840"/>
          <a:ext cx="8715240" cy="1928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00" name="4 CuadroTexto"/>
          <p:cNvSpPr/>
          <p:nvPr/>
        </p:nvSpPr>
        <p:spPr>
          <a:xfrm>
            <a:off x="571320" y="3286080"/>
            <a:ext cx="800064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Una vez separado el aceite de los demás componentes , al orujo se le da una segunda vuelta para extraer el aceite que ha quedado impregnado en él. El aceite de orujo, que es el subproducto de esta empresa, no se utiliza para el consumo alimenticio si no que se deja secar y se manda a los laboratorios donde fabrican con él, y con el hueso de la aceituna que también a sido extraído y secado, los biocombustibles.</a:t>
            </a:r>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4/5</a:t>
            </a:r>
            <a:endParaRPr b="0" lang="es-ES" sz="3600" spc="-1" strike="noStrike">
              <a:solidFill>
                <a:srgbClr val="000000"/>
              </a:solidFill>
              <a:latin typeface="Franklin Gothic Book"/>
            </a:endParaRPr>
          </a:p>
        </p:txBody>
      </p:sp>
      <p:graphicFrame>
        <p:nvGraphicFramePr>
          <p:cNvPr id="9" name="Diagram9"/>
          <p:cNvGraphicFramePr/>
          <p:nvPr>
            <p:extLst>
              <p:ext uri="{D42A27DB-BD31-4B8C-83A1-F6EECF244321}">
                <p14:modId xmlns:p14="http://schemas.microsoft.com/office/powerpoint/2010/main" val="1883219552"/>
              </p:ext>
            </p:extLst>
          </p:nvPr>
        </p:nvGraphicFramePr>
        <p:xfrm>
          <a:off x="357120" y="1428840"/>
          <a:ext cx="8500680" cy="2142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02" name="3 CuadroTexto"/>
          <p:cNvSpPr/>
          <p:nvPr/>
        </p:nvSpPr>
        <p:spPr>
          <a:xfrm>
            <a:off x="571320" y="3286080"/>
            <a:ext cx="800064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El aceite que hay almacenado en las bodegas se vuelve a filtrar y pasa a la zona de embasado, en esta zona el aceite pasa por la embotelladora, seguido de la etiquetadora y la entaponadora, después pasa a la zona de encajado y paletizado y por ultimo las cajas van a la retractiladora, una especie de maquina para embalar. El proceso por completo esta mecanizado.</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Cuando los productos están listos para su venta se llevan al almacén de producto terminado.</a:t>
            </a:r>
            <a:endParaRPr b="0" lang="en-US" sz="1800" spc="-1" strike="noStrike">
              <a:solidFill>
                <a:srgbClr val="000000"/>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Mapa de procesos           5/5             </a:t>
            </a:r>
            <a:endParaRPr b="0" lang="es-ES" sz="3600" spc="-1" strike="noStrike">
              <a:solidFill>
                <a:srgbClr val="000000"/>
              </a:solidFill>
              <a:latin typeface="Franklin Gothic Book"/>
            </a:endParaRPr>
          </a:p>
        </p:txBody>
      </p:sp>
      <p:graphicFrame>
        <p:nvGraphicFramePr>
          <p:cNvPr id="10" name="Diagram10"/>
          <p:cNvGraphicFramePr/>
          <p:nvPr>
            <p:extLst>
              <p:ext uri="{D42A27DB-BD31-4B8C-83A1-F6EECF244321}">
                <p14:modId xmlns:p14="http://schemas.microsoft.com/office/powerpoint/2010/main" val="2258616652"/>
              </p:ext>
            </p:extLst>
          </p:nvPr>
        </p:nvGraphicFramePr>
        <p:xfrm>
          <a:off x="357120" y="1285920"/>
          <a:ext cx="8500680" cy="17856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04" name="3 CuadroTexto"/>
          <p:cNvSpPr/>
          <p:nvPr/>
        </p:nvSpPr>
        <p:spPr>
          <a:xfrm>
            <a:off x="357120" y="3429000"/>
            <a:ext cx="85723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Los clientes se ponen en contacto con la empresa y realizan sus encargos, si el pedido requiere de traslado el producto es transportado asta el lugar donde a sido solicitado, ya sea mediante sus propios sistemas de transporte o contratando servicios externos, si el cliente lo prefiere puede comprarlo directamente en la fabrica. Todas las ventas son controladas por el departamento de facturación.</a:t>
            </a:r>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1214280" y="1500120"/>
            <a:ext cx="7214760" cy="4857480"/>
          </a:xfrm>
          <a:prstGeom prst="rect">
            <a:avLst/>
          </a:prstGeom>
          <a:noFill/>
          <a:ln w="0">
            <a:noFill/>
          </a:ln>
        </p:spPr>
        <p:txBody>
          <a:bodyPr lIns="90000" rIns="90000" tIns="45000" bIns="45000" anchor="b">
            <a:normAutofit/>
          </a:bodyPr>
          <a:p>
            <a:pPr indent="0" algn="just">
              <a:lnSpc>
                <a:spcPct val="100000"/>
              </a:lnSpc>
              <a:spcBef>
                <a:spcPts val="360"/>
              </a:spcBef>
              <a:buNone/>
              <a:tabLst>
                <a:tab algn="l" pos="0"/>
              </a:tabLst>
            </a:pPr>
            <a:r>
              <a:rPr b="0" lang="es-ES" sz="1800" spc="-1" strike="noStrike">
                <a:solidFill>
                  <a:srgbClr val="44342a"/>
                </a:solidFill>
                <a:latin typeface="Franklin Gothic Book"/>
              </a:rPr>
              <a:t>Es una cultura organizativa de tipo </a:t>
            </a:r>
            <a:r>
              <a:rPr b="0" i="1" lang="es-ES" sz="1800" spc="-1" strike="noStrike">
                <a:solidFill>
                  <a:srgbClr val="44342a"/>
                </a:solidFill>
                <a:latin typeface="Franklin Gothic Book"/>
              </a:rPr>
              <a:t>feudos </a:t>
            </a:r>
            <a:r>
              <a:rPr b="0" lang="es-ES" sz="1800" spc="-1" strike="noStrike">
                <a:solidFill>
                  <a:srgbClr val="44342a"/>
                </a:solidFill>
                <a:latin typeface="Franklin Gothic Book"/>
              </a:rPr>
              <a:t> ya que tiene como características:</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endParaRPr b="0" lang="es-ES" sz="1800" spc="-1" strike="noStrike">
              <a:solidFill>
                <a:srgbClr val="4e3b30"/>
              </a:solidFill>
              <a:latin typeface="Franklin Gothic Book"/>
            </a:endParaRPr>
          </a:p>
          <a:p>
            <a:pPr algn="just">
              <a:lnSpc>
                <a:spcPct val="100000"/>
              </a:lnSpc>
              <a:spcBef>
                <a:spcPts val="360"/>
              </a:spcBef>
              <a:buClr>
                <a:srgbClr val="f0a22e"/>
              </a:buClr>
              <a:buSzPct val="70000"/>
              <a:buFont typeface="Wingdings" charset="2"/>
              <a:buChar char=""/>
              <a:tabLst>
                <a:tab algn="l" pos="0"/>
              </a:tabLst>
            </a:pPr>
            <a:r>
              <a:rPr b="0" lang="es-ES" sz="1800" spc="-1" strike="noStrike">
                <a:solidFill>
                  <a:srgbClr val="44342a"/>
                </a:solidFill>
                <a:latin typeface="Franklin Gothic Book"/>
              </a:rPr>
              <a:t> </a:t>
            </a:r>
            <a:r>
              <a:rPr b="0" lang="es-ES" sz="1800" spc="-1" strike="noStrike">
                <a:solidFill>
                  <a:srgbClr val="44342a"/>
                </a:solidFill>
                <a:latin typeface="Franklin Gothic Book"/>
              </a:rPr>
              <a:t>Difusión de la información limitada por falta de coordinación.</a:t>
            </a:r>
            <a:endParaRPr b="0" lang="es-ES" sz="1800" spc="-1" strike="noStrike">
              <a:solidFill>
                <a:srgbClr val="4e3b30"/>
              </a:solidFill>
              <a:latin typeface="Franklin Gothic Book"/>
            </a:endParaRPr>
          </a:p>
          <a:p>
            <a:pPr algn="just">
              <a:lnSpc>
                <a:spcPct val="100000"/>
              </a:lnSpc>
              <a:spcBef>
                <a:spcPts val="360"/>
              </a:spcBef>
              <a:buClr>
                <a:srgbClr val="f0a22e"/>
              </a:buClr>
              <a:buSzPct val="70000"/>
              <a:buFont typeface="Wingdings" charset="2"/>
              <a:buChar char=""/>
              <a:tabLst>
                <a:tab algn="l" pos="0"/>
              </a:tabLst>
            </a:pPr>
            <a:r>
              <a:rPr b="0" lang="es-ES" sz="1800" spc="-1" strike="noStrike">
                <a:solidFill>
                  <a:srgbClr val="44342a"/>
                </a:solidFill>
                <a:latin typeface="Franklin Gothic Book"/>
              </a:rPr>
              <a:t>Relaciones personales y jerárquicas  (control jerarquizado por el jefe)</a:t>
            </a:r>
            <a:endParaRPr b="0" lang="es-ES" sz="1800" spc="-1" strike="noStrike">
              <a:solidFill>
                <a:srgbClr val="4e3b30"/>
              </a:solidFill>
              <a:latin typeface="Franklin Gothic Book"/>
            </a:endParaRPr>
          </a:p>
          <a:p>
            <a:pPr algn="just">
              <a:lnSpc>
                <a:spcPct val="100000"/>
              </a:lnSpc>
              <a:spcBef>
                <a:spcPts val="360"/>
              </a:spcBef>
              <a:buClr>
                <a:srgbClr val="f0a22e"/>
              </a:buClr>
              <a:buSzPct val="70000"/>
              <a:buFont typeface="Wingdings" charset="2"/>
              <a:buChar char=""/>
              <a:tabLst>
                <a:tab algn="l" pos="0"/>
              </a:tabLst>
            </a:pPr>
            <a:r>
              <a:rPr b="0" lang="es-ES" sz="1800" spc="-1" strike="noStrike">
                <a:solidFill>
                  <a:srgbClr val="44342a"/>
                </a:solidFill>
                <a:latin typeface="Franklin Gothic Book"/>
              </a:rPr>
              <a:t> </a:t>
            </a:r>
            <a:r>
              <a:rPr b="0" lang="es-ES" sz="1800" spc="-1" strike="noStrike">
                <a:solidFill>
                  <a:srgbClr val="44342a"/>
                </a:solidFill>
                <a:latin typeface="Franklin Gothic Book"/>
              </a:rPr>
              <a:t>supeditación a objetivos superpuestos: los empleados hacen una misión concreta, en función de su puesto de trabajo</a:t>
            </a:r>
            <a:endParaRPr b="0" lang="es-ES" sz="1800" spc="-1" strike="noStrike">
              <a:solidFill>
                <a:srgbClr val="4e3b30"/>
              </a:solidFill>
              <a:latin typeface="Franklin Gothic Book"/>
            </a:endParaRPr>
          </a:p>
          <a:p>
            <a:pPr algn="just">
              <a:lnSpc>
                <a:spcPct val="100000"/>
              </a:lnSpc>
              <a:spcBef>
                <a:spcPts val="360"/>
              </a:spcBef>
              <a:buClr>
                <a:srgbClr val="f0a22e"/>
              </a:buClr>
              <a:buSzPct val="70000"/>
              <a:buFont typeface="Wingdings" charset="2"/>
              <a:buChar char=""/>
              <a:tabLst>
                <a:tab algn="l" pos="0"/>
              </a:tabLst>
            </a:pPr>
            <a:r>
              <a:rPr b="0" lang="es-ES" sz="1800" spc="-1" strike="noStrike">
                <a:solidFill>
                  <a:srgbClr val="44342a"/>
                </a:solidFill>
                <a:latin typeface="Franklin Gothic Book"/>
              </a:rPr>
              <a:t>Coordinación jerárquica, cada sector es controlado por un encargado que a su vez responde con el director general.</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r>
              <a:rPr b="0" lang="es-ES" sz="1800" spc="-1" strike="noStrike">
                <a:solidFill>
                  <a:srgbClr val="44342a"/>
                </a:solidFill>
                <a:latin typeface="Franklin Gothic Book"/>
              </a:rPr>
              <a:t>Necesidad de compartir valores y creencias comunes. </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r>
              <a:rPr b="0" lang="es-ES" sz="1800" spc="-1" strike="noStrike">
                <a:solidFill>
                  <a:srgbClr val="44342a"/>
                </a:solidFill>
                <a:latin typeface="Franklin Gothic Book"/>
              </a:rPr>
              <a:t>Otra característica de la cultura tipo </a:t>
            </a:r>
            <a:r>
              <a:rPr b="0" i="1" lang="es-ES" sz="1800" spc="-1" strike="noStrike">
                <a:solidFill>
                  <a:srgbClr val="44342a"/>
                </a:solidFill>
                <a:latin typeface="Franklin Gothic Book"/>
              </a:rPr>
              <a:t>feudos </a:t>
            </a:r>
            <a:r>
              <a:rPr b="0" lang="es-ES" sz="1800" spc="-1" strike="noStrike">
                <a:solidFill>
                  <a:srgbClr val="44342a"/>
                </a:solidFill>
                <a:latin typeface="Franklin Gothic Book"/>
              </a:rPr>
              <a:t>es que presenta cierta despreocupación por el entorno.</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r>
              <a:rPr b="0" lang="es-ES" sz="1800" spc="-1" strike="noStrike">
                <a:solidFill>
                  <a:srgbClr val="44342a"/>
                </a:solidFill>
                <a:latin typeface="Franklin Gothic Book"/>
              </a:rPr>
              <a:t>Cabe destacar que la empresa difiere de ella, ya que en todo momento se preocupan por la calidad del aceite y del medio ambiente</a:t>
            </a:r>
            <a:endParaRPr b="0" lang="es-ES" sz="1800" spc="-1" strike="noStrike">
              <a:solidFill>
                <a:srgbClr val="4e3b30"/>
              </a:solidFill>
              <a:latin typeface="Franklin Gothic Book"/>
            </a:endParaRPr>
          </a:p>
          <a:p>
            <a:pPr indent="0" algn="just">
              <a:lnSpc>
                <a:spcPct val="100000"/>
              </a:lnSpc>
              <a:spcBef>
                <a:spcPts val="360"/>
              </a:spcBef>
              <a:buNone/>
              <a:tabLst>
                <a:tab algn="l" pos="0"/>
              </a:tabLst>
            </a:pPr>
            <a:endParaRPr b="0" lang="es-ES" sz="1800" spc="-1" strike="noStrike">
              <a:solidFill>
                <a:srgbClr val="4e3b30"/>
              </a:solidFill>
              <a:latin typeface="Franklin Gothic Book"/>
            </a:endParaRPr>
          </a:p>
        </p:txBody>
      </p:sp>
      <p:sp>
        <p:nvSpPr>
          <p:cNvPr id="306" name="PlaceHolder 2"/>
          <p:cNvSpPr>
            <a:spLocks noGrp="1"/>
          </p:cNvSpPr>
          <p:nvPr>
            <p:ph type="title"/>
          </p:nvPr>
        </p:nvSpPr>
        <p:spPr>
          <a:xfrm>
            <a:off x="180360" y="500040"/>
            <a:ext cx="8606160" cy="128556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Análisis de la cultura     </a:t>
            </a:r>
            <a:endParaRPr b="0" lang="es-ES" sz="3600" spc="-1" strike="noStrike">
              <a:solidFill>
                <a:srgbClr val="000000"/>
              </a:solidFill>
              <a:latin typeface="Franklin Gothic Book"/>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1000080" y="1643040"/>
            <a:ext cx="7429320" cy="4214520"/>
          </a:xfrm>
          <a:prstGeom prst="rect">
            <a:avLst/>
          </a:prstGeom>
          <a:noFill/>
          <a:ln w="0">
            <a:noFill/>
          </a:ln>
        </p:spPr>
        <p:txBody>
          <a:bodyPr lIns="90000" rIns="90000" tIns="45000" bIns="45000" anchor="b">
            <a:noAutofit/>
          </a:bodyPr>
          <a:p>
            <a:pPr indent="0">
              <a:lnSpc>
                <a:spcPct val="100000"/>
              </a:lnSpc>
              <a:spcBef>
                <a:spcPts val="400"/>
              </a:spcBef>
              <a:buNone/>
              <a:tabLst>
                <a:tab algn="l" pos="0"/>
              </a:tabLst>
            </a:pPr>
            <a:r>
              <a:rPr b="0" lang="es-ES" sz="2000" spc="-1" strike="noStrike">
                <a:solidFill>
                  <a:srgbClr val="44342a"/>
                </a:solidFill>
                <a:latin typeface="Franklin Gothic Book"/>
              </a:rPr>
              <a:t>La  externalización llevada a cabo por  </a:t>
            </a:r>
            <a:r>
              <a:rPr b="0" i="1" lang="es-ES" sz="2000" spc="-1" strike="noStrike">
                <a:solidFill>
                  <a:srgbClr val="44342a"/>
                </a:solidFill>
                <a:latin typeface="Franklin Gothic Book"/>
              </a:rPr>
              <a:t>Aceites Fuente la Madera  </a:t>
            </a:r>
            <a:r>
              <a:rPr b="0" lang="es-ES" sz="2000" spc="-1" strike="noStrike">
                <a:solidFill>
                  <a:srgbClr val="44342a"/>
                </a:solidFill>
                <a:latin typeface="Franklin Gothic Book"/>
              </a:rPr>
              <a:t>no es de una gran magnitud.</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lang="es-ES" sz="2000" spc="-1" strike="noStrike">
                <a:solidFill>
                  <a:srgbClr val="44342a"/>
                </a:solidFill>
                <a:latin typeface="Franklin Gothic Book"/>
              </a:rPr>
              <a:t>Tiene algunos comerciales indirectos, distribuidores como Almacenes Yébenes, El Corte Inglés o Zoco Córdoba.</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lang="es-ES" sz="2000" spc="-1" strike="noStrike">
                <a:solidFill>
                  <a:srgbClr val="44342a"/>
                </a:solidFill>
                <a:latin typeface="Franklin Gothic Book"/>
              </a:rPr>
              <a:t>La empresa patrocina un programa de televisión de la cadena andaluza Canal Sur, y así hace publicidad de sus productos.</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lang="es-ES" sz="2000" spc="-1" strike="noStrike">
                <a:solidFill>
                  <a:srgbClr val="44342a"/>
                </a:solidFill>
                <a:latin typeface="Franklin Gothic Book"/>
              </a:rPr>
              <a:t> </a:t>
            </a:r>
            <a:r>
              <a:rPr b="0" lang="es-ES" sz="2000" spc="-1" strike="noStrike">
                <a:solidFill>
                  <a:srgbClr val="44342a"/>
                </a:solidFill>
                <a:latin typeface="Franklin Gothic Book"/>
              </a:rPr>
              <a:t>Tiene contratados los servicios de limpieza con la empresa </a:t>
            </a:r>
            <a:r>
              <a:rPr b="0" i="1" lang="es-ES" sz="2000" spc="-1" strike="noStrike">
                <a:solidFill>
                  <a:srgbClr val="44342a"/>
                </a:solidFill>
                <a:latin typeface="Franklin Gothic Book"/>
              </a:rPr>
              <a:t>Limpieza Hermanos Delgado Diaz,S.L.</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i="1" lang="es-ES" sz="2000" spc="-1" strike="noStrike">
                <a:solidFill>
                  <a:srgbClr val="44342a"/>
                </a:solidFill>
                <a:latin typeface="Franklin Gothic Book"/>
              </a:rPr>
              <a:t>Algunos servicios de transporte de aceite los hace contratando servicios de varias empresas de transporte de la zona. </a:t>
            </a:r>
            <a:endParaRPr b="0" lang="es-ES" sz="2000" spc="-1" strike="noStrike">
              <a:solidFill>
                <a:srgbClr val="4e3b30"/>
              </a:solidFill>
              <a:latin typeface="Franklin Gothic Book"/>
            </a:endParaRPr>
          </a:p>
          <a:p>
            <a:pPr indent="0">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308" name="PlaceHolder 2"/>
          <p:cNvSpPr>
            <a:spLocks noGrp="1"/>
          </p:cNvSpPr>
          <p:nvPr>
            <p:ph type="title"/>
          </p:nvPr>
        </p:nvSpPr>
        <p:spPr>
          <a:xfrm>
            <a:off x="180360" y="928800"/>
            <a:ext cx="8677440" cy="114264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Outsourcing </a:t>
            </a:r>
            <a:endParaRPr b="0" lang="es-ES" sz="3600" spc="-1" strike="noStrike">
              <a:solidFill>
                <a:srgbClr val="000000"/>
              </a:solidFill>
              <a:latin typeface="Franklin Gothic Book"/>
            </a:endParaRPr>
          </a:p>
        </p:txBody>
      </p:sp>
      <p:sp>
        <p:nvSpPr>
          <p:cNvPr id="309" name="4 Flecha izquierda">
            <a:hlinkClick r:id="rId1" action="ppaction://hlinksldjump"/>
          </p:cNvPr>
          <p:cNvSpPr/>
          <p:nvPr/>
        </p:nvSpPr>
        <p:spPr>
          <a:xfrm>
            <a:off x="7000920" y="5572080"/>
            <a:ext cx="1549440" cy="841320"/>
          </a:xfrm>
          <a:prstGeom prst="leftArrow">
            <a:avLst>
              <a:gd name="adj1" fmla="val 50000"/>
              <a:gd name="adj2" fmla="val 50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380880" y="1676520"/>
            <a:ext cx="8457840" cy="1218960"/>
          </a:xfrm>
          <a:prstGeom prst="rect">
            <a:avLst/>
          </a:prstGeom>
          <a:noFill/>
          <a:ln w="0">
            <a:noFill/>
          </a:ln>
        </p:spPr>
        <p:txBody>
          <a:bodyPr lIns="90000" rIns="90000" tIns="45000" bIns="45000" anchor="b">
            <a:noAutofit/>
          </a:bodyPr>
          <a:p>
            <a:pPr indent="0">
              <a:spcBef>
                <a:spcPts val="1417"/>
              </a:spcBef>
              <a:buNone/>
            </a:pPr>
            <a:endParaRPr b="0" lang="es-ES" sz="2000" spc="-1" strike="noStrike">
              <a:solidFill>
                <a:srgbClr val="44342a"/>
              </a:solidFill>
              <a:latin typeface="Franklin Gothic Book"/>
            </a:endParaRPr>
          </a:p>
        </p:txBody>
      </p:sp>
      <p:sp>
        <p:nvSpPr>
          <p:cNvPr id="311" name="PlaceHolder 2"/>
          <p:cNvSpPr>
            <a:spLocks noGrp="1"/>
          </p:cNvSpPr>
          <p:nvPr>
            <p:ph type="title"/>
          </p:nvPr>
        </p:nvSpPr>
        <p:spPr>
          <a:xfrm>
            <a:off x="180360" y="2946960"/>
            <a:ext cx="8686440" cy="118440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Factores de contingencia</a:t>
            </a:r>
            <a:endParaRPr b="0" lang="es-ES" sz="3600" spc="-1" strike="noStrike">
              <a:solidFill>
                <a:srgbClr val="000000"/>
              </a:solidFill>
              <a:latin typeface="Franklin Gothic Book"/>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80880" y="1676520"/>
            <a:ext cx="8457840" cy="1218960"/>
          </a:xfrm>
          <a:prstGeom prst="rect">
            <a:avLst/>
          </a:prstGeom>
          <a:noFill/>
          <a:ln w="0">
            <a:noFill/>
          </a:ln>
        </p:spPr>
        <p:txBody>
          <a:bodyPr lIns="90000" rIns="90000" tIns="45000" bIns="45000" anchor="b">
            <a:noAutofit/>
          </a:bodyPr>
          <a:p>
            <a:pPr indent="0">
              <a:spcBef>
                <a:spcPts val="1417"/>
              </a:spcBef>
              <a:buNone/>
            </a:pPr>
            <a:endParaRPr b="0" lang="es-ES" sz="2000" spc="-1" strike="noStrike">
              <a:solidFill>
                <a:srgbClr val="44342a"/>
              </a:solidFill>
              <a:latin typeface="Franklin Gothic Book"/>
            </a:endParaRPr>
          </a:p>
        </p:txBody>
      </p:sp>
      <p:sp>
        <p:nvSpPr>
          <p:cNvPr id="184" name="PlaceHolder 2"/>
          <p:cNvSpPr>
            <a:spLocks noGrp="1"/>
          </p:cNvSpPr>
          <p:nvPr>
            <p:ph type="title"/>
          </p:nvPr>
        </p:nvSpPr>
        <p:spPr>
          <a:xfrm>
            <a:off x="180360" y="2946960"/>
            <a:ext cx="8686440" cy="118440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Análisis descriptivo</a:t>
            </a:r>
            <a:endParaRPr b="0" lang="es-ES" sz="3600" spc="-1" strike="noStrike">
              <a:solidFill>
                <a:srgbClr val="000000"/>
              </a:solidFill>
              <a:latin typeface="Franklin Gothic Book"/>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político de la organización</a:t>
            </a:r>
            <a:endParaRPr b="0" lang="es-ES" sz="3600" spc="-1" strike="noStrike">
              <a:solidFill>
                <a:srgbClr val="000000"/>
              </a:solidFill>
              <a:latin typeface="Franklin Gothic Book"/>
            </a:endParaRPr>
          </a:p>
        </p:txBody>
      </p:sp>
      <p:sp>
        <p:nvSpPr>
          <p:cNvPr id="313" name="2 CuadroTexto"/>
          <p:cNvSpPr/>
          <p:nvPr/>
        </p:nvSpPr>
        <p:spPr>
          <a:xfrm>
            <a:off x="428760" y="1428840"/>
            <a:ext cx="8357760" cy="557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9900"/>
              </a:buClr>
              <a:buFont typeface="Wingdings" charset="2"/>
              <a:buChar char=""/>
            </a:pPr>
            <a:r>
              <a:rPr b="0" lang="es-ES" sz="2000" spc="-1" strike="noStrike">
                <a:solidFill>
                  <a:srgbClr val="009900"/>
                </a:solidFill>
                <a:latin typeface="Franklin Gothic Book"/>
              </a:rPr>
              <a:t>Forma jurídica</a:t>
            </a:r>
            <a:r>
              <a:rPr b="0" lang="es-ES" sz="2000" spc="-1" strike="noStrike">
                <a:solidFill>
                  <a:srgbClr val="000000"/>
                </a:solidFill>
                <a:latin typeface="Franklin Gothic Book"/>
              </a:rPr>
              <a:t>: Empresario individual</a:t>
            </a:r>
            <a:endParaRPr b="0" lang="en-US" sz="2000" spc="-1" strike="noStrike">
              <a:solidFill>
                <a:srgbClr val="000000"/>
              </a:solidFill>
              <a:latin typeface="Arial"/>
            </a:endParaRPr>
          </a:p>
          <a:p>
            <a:pPr lvl="1" marL="457200" indent="-216000">
              <a:lnSpc>
                <a:spcPct val="100000"/>
              </a:lnSpc>
              <a:buClr>
                <a:srgbClr val="000000"/>
              </a:buClr>
              <a:buFont typeface="Wingdings" charset="2"/>
              <a:buChar char=""/>
            </a:pPr>
            <a:r>
              <a:rPr b="0" lang="es-ES" sz="2000" spc="-1" strike="noStrike">
                <a:solidFill>
                  <a:srgbClr val="000000"/>
                </a:solidFill>
                <a:latin typeface="Franklin Gothic Book"/>
              </a:rPr>
              <a:t> </a:t>
            </a:r>
            <a:r>
              <a:rPr b="0" i="1" lang="es-ES" sz="2000" spc="-1" strike="noStrike">
                <a:solidFill>
                  <a:srgbClr val="000000"/>
                </a:solidFill>
                <a:latin typeface="Franklin Gothic Book"/>
              </a:rPr>
              <a:t>persona jurídica que disponiendo de la capacidad legal necesaria, ejerce de forma habitual y por cuenta propia una actividad comercial, industrial o profesional. También se le conoce como autónomo</a:t>
            </a:r>
            <a:endParaRPr b="0" lang="en-US" sz="2000" spc="-1" strike="noStrike">
              <a:solidFill>
                <a:srgbClr val="000000"/>
              </a:solidFill>
              <a:latin typeface="Arial"/>
            </a:endParaRPr>
          </a:p>
          <a:p>
            <a:pPr lvl="1" marL="457200" indent="-216000">
              <a:lnSpc>
                <a:spcPct val="100000"/>
              </a:lnSpc>
              <a:buClr>
                <a:srgbClr val="000000"/>
              </a:buClr>
              <a:buFont typeface="Wingdings" charset="2"/>
              <a:buChar char=""/>
            </a:pPr>
            <a:r>
              <a:rPr b="0" lang="es-ES" sz="2000" spc="-1" strike="noStrike">
                <a:solidFill>
                  <a:srgbClr val="000000"/>
                </a:solidFill>
                <a:latin typeface="Franklin Gothic Book"/>
              </a:rPr>
              <a:t>En el caso de esta empresa es D. Manuel Montes Marín el que ejerce el papel de empresario individual.</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es-ES" sz="2000" spc="-1" strike="noStrike">
                <a:solidFill>
                  <a:srgbClr val="000000"/>
                </a:solidFill>
                <a:latin typeface="Franklin Gothic Book"/>
              </a:rPr>
              <a:t> </a:t>
            </a:r>
            <a:r>
              <a:rPr b="0" lang="es-ES" sz="2000" spc="-1" strike="noStrike">
                <a:solidFill>
                  <a:srgbClr val="009900"/>
                </a:solidFill>
                <a:latin typeface="Franklin Gothic Book"/>
              </a:rPr>
              <a:t>Responsabilidad: </a:t>
            </a:r>
            <a:r>
              <a:rPr b="0" lang="es-ES" sz="2000" spc="-1" strike="noStrike">
                <a:solidFill>
                  <a:srgbClr val="000000"/>
                </a:solidFill>
                <a:latin typeface="Franklin Gothic Book"/>
              </a:rPr>
              <a:t>Es ilimitada ya que el propio empresario responde con todo su patrimonio ante las perdidas de la empresa.</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es-ES" sz="2000" spc="-1" strike="noStrike">
                <a:solidFill>
                  <a:srgbClr val="000000"/>
                </a:solidFill>
                <a:latin typeface="Franklin Gothic Book"/>
              </a:rPr>
              <a:t> </a:t>
            </a:r>
            <a:r>
              <a:rPr b="0" lang="es-ES" sz="2000" spc="-1" strike="noStrike">
                <a:solidFill>
                  <a:srgbClr val="009900"/>
                </a:solidFill>
                <a:latin typeface="Franklin Gothic Book"/>
              </a:rPr>
              <a:t>Denominación Social: </a:t>
            </a:r>
            <a:r>
              <a:rPr b="0" lang="es-ES" sz="2000" spc="-1" strike="noStrike">
                <a:solidFill>
                  <a:srgbClr val="000000"/>
                </a:solidFill>
                <a:latin typeface="Franklin Gothic Book"/>
              </a:rPr>
              <a:t>Sera libre, en este caso el empresario ha optado por </a:t>
            </a:r>
            <a:r>
              <a:rPr b="0" i="1" lang="es-ES" sz="2000" spc="-1" strike="noStrike">
                <a:solidFill>
                  <a:srgbClr val="000000"/>
                </a:solidFill>
                <a:latin typeface="Franklin Gothic Book"/>
              </a:rPr>
              <a:t>Aceites Fuente la Madera.</a:t>
            </a:r>
            <a:r>
              <a:rPr b="0" lang="es-ES" sz="2000" spc="-1" strike="noStrike">
                <a:solidFill>
                  <a:srgbClr val="000000"/>
                </a:solidFill>
                <a:latin typeface="Franklin Gothic Book"/>
              </a:rPr>
              <a:t> </a:t>
            </a:r>
            <a:endParaRPr b="0" lang="en-US" sz="2000" spc="-1" strike="noStrike">
              <a:solidFill>
                <a:srgbClr val="000000"/>
              </a:solidFill>
              <a:latin typeface="Arial"/>
            </a:endParaRPr>
          </a:p>
          <a:p>
            <a:pPr marL="457200">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                      1/4</a:t>
            </a:r>
            <a:endParaRPr b="0" lang="es-ES" sz="3600" spc="-1" strike="noStrike">
              <a:solidFill>
                <a:srgbClr val="000000"/>
              </a:solidFill>
              <a:latin typeface="Franklin Gothic Book"/>
            </a:endParaRPr>
          </a:p>
        </p:txBody>
      </p:sp>
      <p:sp>
        <p:nvSpPr>
          <p:cNvPr id="315" name="3 CuadroTexto"/>
          <p:cNvSpPr/>
          <p:nvPr/>
        </p:nvSpPr>
        <p:spPr>
          <a:xfrm>
            <a:off x="428760" y="1639800"/>
            <a:ext cx="8000640" cy="5728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2800" spc="-1" strike="noStrike">
                <a:solidFill>
                  <a:srgbClr val="009900"/>
                </a:solidFill>
                <a:latin typeface="Franklin Gothic Book"/>
              </a:rPr>
              <a:t>CLIENTES</a:t>
            </a:r>
            <a:r>
              <a:rPr b="1" lang="es-ES" sz="1800" spc="-1" strike="noStrike">
                <a:solidFill>
                  <a:srgbClr val="009900"/>
                </a:solidFill>
                <a:latin typeface="Franklin Gothic Book"/>
              </a:rPr>
              <a:t> :</a:t>
            </a:r>
            <a:r>
              <a:rPr b="1" lang="es-ES" sz="1800" spc="-1" strike="noStrike">
                <a:solidFill>
                  <a:srgbClr val="000000"/>
                </a:solidFill>
                <a:latin typeface="Franklin Gothic Book"/>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Los principales clientes de este tipo de empresas son los cosecheros de la zona, que son agricultores  a los que anteriormente les han comprado la aceituna, y ahora ellos adquieren aceite para su consumo.</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Otra parte de la producción va destinada a la venta directa al público, los clientes pueden dirigirse directamente a la fábrica para adquirir el ace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Otros clientes de considerable importancia son los mayoristas que demandan el producto en grandes cantidades para su posterior venta en grandes superfici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Finalmente cabe mencionar la importancia de los clientes internacionales ,teniendo esta empresa clientes en países como:  Francia, Alemania, Italia, EEUU, China ,Japón y Suiz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                      2/4</a:t>
            </a:r>
            <a:endParaRPr b="0" lang="es-ES" sz="3600" spc="-1" strike="noStrike">
              <a:solidFill>
                <a:srgbClr val="000000"/>
              </a:solidFill>
              <a:latin typeface="Franklin Gothic Book"/>
            </a:endParaRPr>
          </a:p>
        </p:txBody>
      </p:sp>
      <p:sp>
        <p:nvSpPr>
          <p:cNvPr id="317" name="2 CuadroTexto"/>
          <p:cNvSpPr/>
          <p:nvPr/>
        </p:nvSpPr>
        <p:spPr>
          <a:xfrm>
            <a:off x="571320" y="1785960"/>
            <a:ext cx="8143560" cy="271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2800" spc="-1" strike="noStrike">
                <a:solidFill>
                  <a:srgbClr val="009900"/>
                </a:solidFill>
                <a:latin typeface="Franklin Gothic Book"/>
              </a:rPr>
              <a:t>PROVEEDORES:</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 </a:t>
            </a:r>
            <a:r>
              <a:rPr b="0" lang="es-ES" sz="1800" spc="-1" strike="noStrike">
                <a:solidFill>
                  <a:srgbClr val="000000"/>
                </a:solidFill>
                <a:latin typeface="Franklin Gothic Book"/>
              </a:rPr>
              <a:t>Los principales proveedores de esta empresa son los ya mencionados cosecheros, ya que surten a la empresa de la principal materia prima para llevar a cabo  su actividad económica de producción de acei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Otros clientes importantes son aquellos que suministran a la empresa todo el material necesario para el envasado del aceite como cajas, botellas, garrafas, latas, pales, plásticos de embalar , etc.</a:t>
            </a:r>
            <a:endParaRPr b="0" lang="en-US" sz="1800" spc="-1" strike="noStrike">
              <a:solidFill>
                <a:srgbClr val="000000"/>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                     3/4</a:t>
            </a:r>
            <a:endParaRPr b="0" lang="es-ES" sz="3600" spc="-1" strike="noStrike">
              <a:solidFill>
                <a:srgbClr val="000000"/>
              </a:solidFill>
              <a:latin typeface="Franklin Gothic Book"/>
            </a:endParaRPr>
          </a:p>
        </p:txBody>
      </p:sp>
      <p:sp>
        <p:nvSpPr>
          <p:cNvPr id="319" name="2 CuadroTexto"/>
          <p:cNvSpPr/>
          <p:nvPr/>
        </p:nvSpPr>
        <p:spPr>
          <a:xfrm>
            <a:off x="571320" y="1643040"/>
            <a:ext cx="8214840" cy="4173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2800" spc="-1" strike="noStrike">
                <a:solidFill>
                  <a:srgbClr val="009900"/>
                </a:solidFill>
                <a:latin typeface="Franklin Gothic Book"/>
              </a:rPr>
              <a:t>COMPETIDORES</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indent="-216000">
              <a:lnSpc>
                <a:spcPct val="100000"/>
              </a:lnSpc>
              <a:buClr>
                <a:srgbClr val="000000"/>
              </a:buClr>
              <a:buFont typeface="Wingdings" charset="2"/>
              <a:buChar char=""/>
            </a:pPr>
            <a:r>
              <a:rPr b="1" lang="es-ES" sz="1800" spc="-1" strike="noStrike">
                <a:solidFill>
                  <a:srgbClr val="000000"/>
                </a:solidFill>
                <a:latin typeface="Franklin Gothic Book"/>
              </a:rPr>
              <a:t> </a:t>
            </a:r>
            <a:r>
              <a:rPr b="1" lang="es-ES" sz="1800" spc="-1" strike="noStrike">
                <a:solidFill>
                  <a:srgbClr val="000000"/>
                </a:solidFill>
                <a:latin typeface="Franklin Gothic Book"/>
              </a:rPr>
              <a:t>Respecto al tema de los competidores cabe destacar dos area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i="1" lang="es-ES" sz="1800" spc="-1" strike="noStrike">
                <a:solidFill>
                  <a:srgbClr val="000000"/>
                </a:solidFill>
                <a:latin typeface="Franklin Gothic Book"/>
              </a:rPr>
              <a:t>El área de fabricación : cabe recordar que esta empresa está situada en una zona cuya principal actividad es la agricultura , en concreto el cultivo de la aceituna por lo que hay muchas empresas dedicadas a la producción de aceite tales como almazara , molinos, cooperativas agrícolas, etc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i="1" lang="es-ES" sz="1800" spc="-1" strike="noStrike">
                <a:solidFill>
                  <a:srgbClr val="000000"/>
                </a:solidFill>
                <a:latin typeface="Franklin Gothic Book"/>
              </a:rPr>
              <a:t>El área de envasado: Esta empresa se diferencia de muchas otras de la zona en que posee su propio sistema de envasado y sus propias marcas, por ello las empresas anteriormente  citadas no le hacen competencia en este ámbito, pero sí las empresas de envasado a las que ellas venden su aceite tales como : Carbonell, Elosua o Koipe.</a:t>
            </a:r>
            <a:endParaRPr b="0" lang="en-US" sz="1800" spc="-1" strike="noStrike">
              <a:solidFill>
                <a:srgbClr val="000000"/>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                     4/4</a:t>
            </a:r>
            <a:endParaRPr b="0" lang="es-ES" sz="3600" spc="-1" strike="noStrike">
              <a:solidFill>
                <a:srgbClr val="000000"/>
              </a:solidFill>
              <a:latin typeface="Franklin Gothic Book"/>
            </a:endParaRPr>
          </a:p>
        </p:txBody>
      </p:sp>
      <p:sp>
        <p:nvSpPr>
          <p:cNvPr id="321" name="2 CuadroTexto"/>
          <p:cNvSpPr/>
          <p:nvPr/>
        </p:nvSpPr>
        <p:spPr>
          <a:xfrm>
            <a:off x="928800" y="2054880"/>
            <a:ext cx="7572240" cy="380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2800" spc="-1" strike="noStrike">
                <a:solidFill>
                  <a:srgbClr val="009900"/>
                </a:solidFill>
                <a:latin typeface="Franklin Gothic Book"/>
              </a:rPr>
              <a:t>ESTADO:</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El Estado interviene en la empresa con una serie de normas e inspecciones para controlar que la calidad del aceite sea la correct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0" lang="es-ES" sz="1800" spc="-1" strike="noStrike">
                <a:solidFill>
                  <a:srgbClr val="000000"/>
                </a:solidFill>
                <a:latin typeface="Franklin Gothic Book"/>
              </a:rPr>
              <a:t>Otra manera en la que el Estado influye en empresas de este tipo es mediante la fijación del precio del aceite, por ejemplo en 2008 hubo una fuerte bajada del precio por lo que se creó una problemática considerable en el sector. Para algunos agricultores no era rentable realizar su actividad, por lo que no recogieron su aceituna dificultando a la empresa la obtención de su materia prima , por otro lado la empresa también vende aceite por lo que para ella también supone una disminución de los beneficios. </a:t>
            </a:r>
            <a:endParaRPr b="0" lang="en-US" sz="1800" spc="-1" strike="noStrike">
              <a:solidFill>
                <a:srgbClr val="000000"/>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Análisis del entorno</a:t>
            </a:r>
            <a:endParaRPr b="0" lang="es-ES" sz="3600" spc="-1" strike="noStrike">
              <a:solidFill>
                <a:srgbClr val="000000"/>
              </a:solidFill>
              <a:latin typeface="Franklin Gothic Book"/>
            </a:endParaRPr>
          </a:p>
        </p:txBody>
      </p:sp>
      <p:graphicFrame>
        <p:nvGraphicFramePr>
          <p:cNvPr id="323" name="2 Tabla"/>
          <p:cNvGraphicFramePr/>
          <p:nvPr/>
        </p:nvGraphicFramePr>
        <p:xfrm>
          <a:off x="142920" y="1357200"/>
          <a:ext cx="8857800" cy="5143320"/>
        </p:xfrm>
        <a:graphic>
          <a:graphicData uri="http://schemas.openxmlformats.org/drawingml/2006/table">
            <a:tbl>
              <a:tblPr/>
              <a:tblGrid>
                <a:gridCol w="1771560"/>
                <a:gridCol w="1771560"/>
                <a:gridCol w="1771560"/>
                <a:gridCol w="1771560"/>
                <a:gridCol w="1771560"/>
              </a:tblGrid>
              <a:tr h="734760">
                <a:tc>
                  <a:txBody>
                    <a:bodyPr anchor="t">
                      <a:noAutofit/>
                    </a:bodyPr>
                    <a:p>
                      <a:pPr algn="ctr">
                        <a:lnSpc>
                          <a:spcPct val="100000"/>
                        </a:lnSpc>
                      </a:pPr>
                      <a:r>
                        <a:rPr b="1" lang="es-ES" sz="1600" spc="-1" strike="noStrike">
                          <a:solidFill>
                            <a:schemeClr val="lt1"/>
                          </a:solidFill>
                          <a:latin typeface="Franklin Gothic Book"/>
                        </a:rPr>
                        <a:t>MICROENTORNO</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s-ES" sz="1800" spc="-1" strike="noStrike">
                          <a:solidFill>
                            <a:schemeClr val="lt1"/>
                          </a:solidFill>
                          <a:latin typeface="Franklin Gothic Book"/>
                        </a:rPr>
                        <a:t>COMPLEJIDA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s-ES" sz="1800" spc="-1" strike="noStrike">
                          <a:solidFill>
                            <a:schemeClr val="lt1"/>
                          </a:solidFill>
                          <a:latin typeface="Franklin Gothic Book"/>
                        </a:rPr>
                        <a:t>HOSTILIDA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s-ES" sz="1800" spc="-1" strike="noStrike">
                          <a:solidFill>
                            <a:schemeClr val="lt1"/>
                          </a:solidFill>
                          <a:latin typeface="Franklin Gothic Book"/>
                        </a:rPr>
                        <a:t>AMBIGÜEDAD</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s-ES" sz="1600" spc="-1" strike="noStrike">
                          <a:solidFill>
                            <a:schemeClr val="lt1"/>
                          </a:solidFill>
                          <a:latin typeface="Franklin Gothic Book"/>
                        </a:rPr>
                        <a:t>INCERTIDUMBRE</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34760">
                <a:tc>
                  <a:txBody>
                    <a:bodyPr anchor="t">
                      <a:noAutofit/>
                    </a:bodyPr>
                    <a:p>
                      <a:pPr algn="ctr">
                        <a:lnSpc>
                          <a:spcPct val="100000"/>
                        </a:lnSpc>
                      </a:pPr>
                      <a:r>
                        <a:rPr b="0" lang="es-ES" sz="1800" spc="-1" strike="noStrike">
                          <a:solidFill>
                            <a:schemeClr val="dk1"/>
                          </a:solidFill>
                          <a:latin typeface="Franklin Gothic Book"/>
                        </a:rPr>
                        <a:t>Productos sustitutivo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BAJ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BAJ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r>
              <a:tr h="734760">
                <a:tc>
                  <a:txBody>
                    <a:bodyPr anchor="t">
                      <a:noAutofit/>
                    </a:bodyPr>
                    <a:p>
                      <a:pPr algn="ctr">
                        <a:lnSpc>
                          <a:spcPct val="100000"/>
                        </a:lnSpc>
                      </a:pPr>
                      <a:r>
                        <a:rPr b="0" lang="es-ES" sz="1800" spc="-1" strike="noStrike">
                          <a:solidFill>
                            <a:schemeClr val="dk1"/>
                          </a:solidFill>
                          <a:latin typeface="Franklin Gothic Book"/>
                        </a:rPr>
                        <a:t>Barreras de entrad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BAJ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r>
              <a:tr h="734760">
                <a:tc>
                  <a:txBody>
                    <a:bodyPr anchor="t">
                      <a:noAutofit/>
                    </a:bodyPr>
                    <a:p>
                      <a:pPr algn="ctr">
                        <a:lnSpc>
                          <a:spcPct val="100000"/>
                        </a:lnSpc>
                      </a:pPr>
                      <a:r>
                        <a:rPr b="0" lang="es-ES" sz="1800" spc="-1" strike="noStrike">
                          <a:solidFill>
                            <a:schemeClr val="dk1"/>
                          </a:solidFill>
                          <a:latin typeface="Franklin Gothic Book"/>
                        </a:rPr>
                        <a:t>Proveedor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MEDIA-ALT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r>
              <a:tr h="734760">
                <a:tc>
                  <a:txBody>
                    <a:bodyPr anchor="t">
                      <a:noAutofit/>
                    </a:bodyPr>
                    <a:p>
                      <a:pPr algn="ctr">
                        <a:lnSpc>
                          <a:spcPct val="100000"/>
                        </a:lnSpc>
                      </a:pPr>
                      <a:r>
                        <a:rPr b="0" lang="es-ES" sz="1800" spc="-1" strike="noStrike">
                          <a:solidFill>
                            <a:schemeClr val="dk1"/>
                          </a:solidFill>
                          <a:latin typeface="Franklin Gothic Book"/>
                        </a:rPr>
                        <a:t>Estado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ALT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r>
              <a:tr h="734760">
                <a:tc>
                  <a:txBody>
                    <a:bodyPr anchor="t">
                      <a:noAutofit/>
                    </a:bodyPr>
                    <a:p>
                      <a:pPr algn="ctr">
                        <a:lnSpc>
                          <a:spcPct val="100000"/>
                        </a:lnSpc>
                      </a:pPr>
                      <a:r>
                        <a:rPr b="0" lang="es-ES" sz="1800" spc="-1" strike="noStrike">
                          <a:solidFill>
                            <a:schemeClr val="dk1"/>
                          </a:solidFill>
                          <a:latin typeface="Franklin Gothic Book"/>
                        </a:rPr>
                        <a:t>Competidor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pPr algn="ctr">
                        <a:lnSpc>
                          <a:spcPct val="100000"/>
                        </a:lnSpc>
                      </a:pPr>
                      <a:r>
                        <a:rPr b="0" lang="es-ES" sz="1800" spc="-1" strike="noStrike">
                          <a:solidFill>
                            <a:schemeClr val="dk1"/>
                          </a:solidFill>
                          <a:latin typeface="Franklin Gothic Book"/>
                        </a:rPr>
                        <a:t>ALT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9dfcd"/>
                    </a:solidFill>
                  </a:tcPr>
                </a:tc>
              </a:tr>
              <a:tr h="734760">
                <a:tc>
                  <a:txBody>
                    <a:bodyPr anchor="t">
                      <a:noAutofit/>
                    </a:bodyPr>
                    <a:p>
                      <a:pPr algn="ctr">
                        <a:lnSpc>
                          <a:spcPct val="100000"/>
                        </a:lnSpc>
                      </a:pPr>
                      <a:r>
                        <a:rPr b="0" lang="es-ES" sz="1800" spc="-1" strike="noStrike">
                          <a:solidFill>
                            <a:schemeClr val="dk1"/>
                          </a:solidFill>
                          <a:latin typeface="Franklin Gothic Book"/>
                        </a:rPr>
                        <a:t>Cliente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endParaRPr b="0" lang="es-ES" sz="1800" spc="-1" strike="noStrike">
                        <a:solidFill>
                          <a:schemeClr val="dk1"/>
                        </a:solidFill>
                        <a:latin typeface="Franklin Gothic Book"/>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ALT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c>
                  <a:txBody>
                    <a:bodyPr anchor="t">
                      <a:noAutofit/>
                    </a:bodyPr>
                    <a:p>
                      <a:pPr algn="ctr">
                        <a:lnSpc>
                          <a:spcPct val="100000"/>
                        </a:lnSpc>
                      </a:pPr>
                      <a:r>
                        <a:rPr b="0" lang="es-ES" sz="1800" spc="-1" strike="noStrike">
                          <a:solidFill>
                            <a:schemeClr val="dk1"/>
                          </a:solidFill>
                          <a:latin typeface="Franklin Gothic Book"/>
                        </a:rPr>
                        <a:t>MEDI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cf0e7"/>
                    </a:solidFill>
                  </a:tcPr>
                </a:tc>
              </a:tr>
            </a:tbl>
          </a:graphicData>
        </a:graphic>
      </p:graphicFrame>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s-ES" sz="3600" spc="-1" strike="noStrike" cap="all">
                <a:solidFill>
                  <a:srgbClr val="4e3b30"/>
                </a:solidFill>
                <a:latin typeface="Franklin Gothic Medium"/>
              </a:rPr>
              <a:t>CARACTERISTICAS DEL ENTORNO</a:t>
            </a:r>
            <a:endParaRPr b="0" lang="es-ES" sz="3600" spc="-1" strike="noStrike">
              <a:solidFill>
                <a:srgbClr val="000000"/>
              </a:solidFill>
              <a:latin typeface="Franklin Gothic Book"/>
            </a:endParaRPr>
          </a:p>
        </p:txBody>
      </p:sp>
      <p:sp>
        <p:nvSpPr>
          <p:cNvPr id="325" name="2 CuadroTexto"/>
          <p:cNvSpPr/>
          <p:nvPr/>
        </p:nvSpPr>
        <p:spPr>
          <a:xfrm>
            <a:off x="428760" y="1357200"/>
            <a:ext cx="8429400" cy="643068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9900"/>
              </a:buClr>
              <a:buFont typeface="Wingdings" charset="2"/>
              <a:buChar char=""/>
            </a:pPr>
            <a:r>
              <a:rPr b="0" lang="es-ES" sz="2000" spc="-1" strike="noStrike" u="sng">
                <a:solidFill>
                  <a:srgbClr val="009900"/>
                </a:solidFill>
                <a:uFillTx/>
                <a:latin typeface="Franklin Gothic Book"/>
              </a:rPr>
              <a:t>COMPLEJIDAD:</a:t>
            </a:r>
            <a:r>
              <a:rPr b="0" lang="es-ES" sz="1800" spc="-1" strike="noStrike">
                <a:solidFill>
                  <a:srgbClr val="000000"/>
                </a:solidFill>
                <a:latin typeface="Franklin Gothic Book"/>
              </a:rPr>
              <a:t> La empresa se enfrenta a un entorno simple, ya que ofrece un mismo tipo de productos, aceite, aunque en sus diferentes variedades, por lo que se centra en un único mercado y las actividades del personal operativo son sencillas por lo que no hace falta personal altamente cualificado.</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9900"/>
              </a:buClr>
              <a:buFont typeface="Wingdings" charset="2"/>
              <a:buChar char=""/>
            </a:pPr>
            <a:r>
              <a:rPr b="0" lang="es-ES" sz="2000" spc="-1" strike="noStrike" u="sng">
                <a:solidFill>
                  <a:srgbClr val="009900"/>
                </a:solidFill>
                <a:uFillTx/>
                <a:latin typeface="Franklin Gothic Book"/>
              </a:rPr>
              <a:t>HOSTILIDAD: </a:t>
            </a:r>
            <a:r>
              <a:rPr b="0" lang="es-ES" sz="1800" spc="-1" strike="noStrike">
                <a:solidFill>
                  <a:srgbClr val="000000"/>
                </a:solidFill>
                <a:latin typeface="Franklin Gothic Book"/>
              </a:rPr>
              <a:t>Hay muchos causas por las que se puede considerar que la hostilidad es alta como que el nivel de competitividad es elevada y la gran cantidad de proveedores. Pero también hay otros factores que la reducen como que el numero de productos sustitutivos  es escaso y que no existen impedimentos para la entrada de nuevas empresas al sector.</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9900"/>
              </a:buClr>
              <a:buFont typeface="Wingdings" charset="2"/>
              <a:buChar char=""/>
            </a:pPr>
            <a:r>
              <a:rPr b="0" lang="es-ES" sz="2000" spc="-1" strike="noStrike" u="sng">
                <a:solidFill>
                  <a:srgbClr val="009900"/>
                </a:solidFill>
                <a:uFillTx/>
                <a:latin typeface="Franklin Gothic Book"/>
              </a:rPr>
              <a:t>AMBIGÜEDAD: </a:t>
            </a:r>
            <a:r>
              <a:rPr b="0" lang="es-ES" sz="1800" spc="-1" strike="noStrike">
                <a:solidFill>
                  <a:srgbClr val="000000"/>
                </a:solidFill>
                <a:latin typeface="Franklin Gothic Book"/>
              </a:rPr>
              <a:t>La ambigüedad es baja ya que se conocen las medidas preventivas para corregir los posibles efectos de los factores climatológicos y mas o menos se conoce la tendencia de los precios del aceite. </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9900"/>
              </a:buClr>
              <a:buFont typeface="Wingdings" charset="2"/>
              <a:buChar char=""/>
            </a:pPr>
            <a:r>
              <a:rPr b="0" lang="es-ES" sz="2000" spc="-1" strike="noStrike" u="sng">
                <a:solidFill>
                  <a:srgbClr val="009900"/>
                </a:solidFill>
                <a:uFillTx/>
                <a:latin typeface="Franklin Gothic Book"/>
              </a:rPr>
              <a:t>INCERTIDUMBRE:</a:t>
            </a:r>
            <a:r>
              <a:rPr b="0" lang="es-ES_tradnl" sz="1800" spc="-1" strike="noStrike">
                <a:solidFill>
                  <a:srgbClr val="000000"/>
                </a:solidFill>
                <a:latin typeface="Franklin Gothic Book"/>
              </a:rPr>
              <a:t>Los gustos y preferencias de los consumidores son de fácil predicción, al igual que ocurre con las actuaciones comerciales de los principales competidores.</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707040" y="1643040"/>
            <a:ext cx="8079480" cy="4785840"/>
          </a:xfrm>
          <a:prstGeom prst="rect">
            <a:avLst/>
          </a:prstGeom>
          <a:noFill/>
          <a:ln w="0">
            <a:noFill/>
          </a:ln>
        </p:spPr>
        <p:txBody>
          <a:bodyPr lIns="90000" rIns="90000" tIns="45000" bIns="45000" anchor="b">
            <a:normAutofit fontScale="88000"/>
          </a:bodyPr>
          <a:p>
            <a:pPr indent="0">
              <a:lnSpc>
                <a:spcPct val="100000"/>
              </a:lnSpc>
              <a:spcBef>
                <a:spcPts val="360"/>
              </a:spcBef>
              <a:buNone/>
              <a:tabLst>
                <a:tab algn="l" pos="0"/>
              </a:tabLst>
            </a:pPr>
            <a:endParaRPr b="0" lang="es-ES" sz="1800" spc="-1" strike="noStrike">
              <a:solidFill>
                <a:srgbClr val="4e3b30"/>
              </a:solidFill>
              <a:latin typeface="Franklin Gothic Book"/>
            </a:endParaRPr>
          </a:p>
          <a:p>
            <a:pPr indent="0">
              <a:lnSpc>
                <a:spcPct val="100000"/>
              </a:lnSpc>
              <a:spcBef>
                <a:spcPts val="360"/>
              </a:spcBef>
              <a:buNone/>
              <a:tabLst>
                <a:tab algn="l" pos="0"/>
              </a:tabLst>
            </a:pPr>
            <a:endParaRPr b="0" lang="es-ES" sz="1800" spc="-1" strike="noStrike">
              <a:solidFill>
                <a:srgbClr val="4e3b30"/>
              </a:solidFill>
              <a:latin typeface="Franklin Gothic Book"/>
            </a:endParaRPr>
          </a:p>
          <a:p>
            <a:pPr indent="0">
              <a:lnSpc>
                <a:spcPct val="100000"/>
              </a:lnSpc>
              <a:spcBef>
                <a:spcPts val="360"/>
              </a:spcBef>
              <a:buNone/>
              <a:tabLst>
                <a:tab algn="l" pos="0"/>
              </a:tabLst>
            </a:pPr>
            <a:r>
              <a:rPr b="0" lang="es-ES" sz="1800" spc="-1" strike="noStrike">
                <a:solidFill>
                  <a:srgbClr val="44342a"/>
                </a:solidFill>
                <a:latin typeface="Franklin Gothic Book"/>
              </a:rPr>
              <a:t>El departamento de tecnología ( I+D) dota a la empresa y a sus miembros de </a:t>
            </a:r>
            <a:endParaRPr b="0" lang="es-ES" sz="1800" spc="-1" strike="noStrike">
              <a:solidFill>
                <a:srgbClr val="4e3b30"/>
              </a:solidFill>
              <a:latin typeface="Franklin Gothic Book"/>
            </a:endParaRPr>
          </a:p>
          <a:p>
            <a:pPr indent="0">
              <a:lnSpc>
                <a:spcPct val="100000"/>
              </a:lnSpc>
              <a:spcBef>
                <a:spcPts val="360"/>
              </a:spcBef>
              <a:buNone/>
              <a:tabLst>
                <a:tab algn="l" pos="0"/>
              </a:tabLst>
            </a:pPr>
            <a:r>
              <a:rPr b="0" lang="es-ES" sz="1800" spc="-1" strike="noStrike">
                <a:solidFill>
                  <a:srgbClr val="44342a"/>
                </a:solidFill>
                <a:latin typeface="Franklin Gothic Book"/>
              </a:rPr>
              <a:t>los recursos informáticos y tecnológicos necesarios para que cada uno realice su misión de la forma mas efectiva posible.</a:t>
            </a:r>
            <a:endParaRPr b="0" lang="es-ES" sz="18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lang="es-ES" sz="2000" spc="-1" strike="noStrike" u="sng">
                <a:solidFill>
                  <a:srgbClr val="009900"/>
                </a:solidFill>
                <a:uFillTx/>
                <a:latin typeface="Franklin Gothic Book"/>
              </a:rPr>
              <a:t> </a:t>
            </a:r>
            <a:r>
              <a:rPr b="0" lang="es-ES" sz="2000" spc="-1" strike="noStrike" u="sng">
                <a:solidFill>
                  <a:srgbClr val="009900"/>
                </a:solidFill>
                <a:uFillTx/>
                <a:latin typeface="Franklin Gothic Book"/>
              </a:rPr>
              <a:t>MAQUINARIA ESPECIFICA PARA EL DESARROLLO DE LA ACTIVIDAD:</a:t>
            </a:r>
            <a:r>
              <a:rPr b="0" lang="es-ES" sz="2000" spc="-1" strike="noStrike">
                <a:solidFill>
                  <a:srgbClr val="009900"/>
                </a:solidFill>
                <a:latin typeface="Franklin Gothic Book"/>
              </a:rPr>
              <a:t> </a:t>
            </a:r>
            <a:r>
              <a:rPr b="0" lang="es-ES" sz="1600" spc="-1" strike="noStrike">
                <a:solidFill>
                  <a:srgbClr val="44342a"/>
                </a:solidFill>
                <a:latin typeface="Franklin Gothic Book"/>
              </a:rPr>
              <a:t>La producción de aceite es un proceso muy mecanizado y conlleva una cadena de montaje muy especializada.</a:t>
            </a:r>
            <a:r>
              <a:rPr b="0" lang="es-ES" sz="1600" spc="-1" strike="noStrike" u="sng">
                <a:solidFill>
                  <a:srgbClr val="44342a"/>
                </a:solidFill>
                <a:uFillTx/>
                <a:latin typeface="Franklin Gothic Book"/>
              </a:rPr>
              <a:t> </a:t>
            </a:r>
            <a:endParaRPr b="0" lang="es-ES" sz="1600" spc="-1" strike="noStrike">
              <a:solidFill>
                <a:srgbClr val="4e3b30"/>
              </a:solidFill>
              <a:latin typeface="Franklin Gothic Book"/>
            </a:endParaRPr>
          </a:p>
          <a:p>
            <a:pPr indent="0">
              <a:spcBef>
                <a:spcPts val="1417"/>
              </a:spcBef>
              <a:buNone/>
              <a:tabLst>
                <a:tab algn="l" pos="0"/>
              </a:tabLst>
            </a:pPr>
            <a:endParaRPr b="0" lang="es-ES" sz="1600" spc="-1" strike="noStrike">
              <a:solidFill>
                <a:srgbClr val="4e3b30"/>
              </a:solidFill>
              <a:latin typeface="Franklin Gothic Book"/>
            </a:endParaRPr>
          </a:p>
          <a:p>
            <a:pPr lvl="1" marL="706680" indent="-271800">
              <a:lnSpc>
                <a:spcPct val="100000"/>
              </a:lnSpc>
              <a:spcBef>
                <a:spcPts val="320"/>
              </a:spcBef>
              <a:buClr>
                <a:srgbClr val="f0a22e"/>
              </a:buClr>
              <a:buSzPct val="70000"/>
              <a:buFont typeface="Wingdings" charset="2"/>
              <a:buChar char=""/>
              <a:tabLst>
                <a:tab algn="l" pos="0"/>
              </a:tabLst>
            </a:pPr>
            <a:r>
              <a:rPr b="0" lang="es-ES" sz="1600" spc="-1" strike="noStrike" u="sng">
                <a:solidFill>
                  <a:srgbClr val="000000"/>
                </a:solidFill>
                <a:uFillTx/>
                <a:latin typeface="Franklin Gothic Book"/>
              </a:rPr>
              <a:t>Producción del aceite :</a:t>
            </a:r>
            <a:r>
              <a:rPr b="0" lang="es-ES" sz="1600" spc="-1" strike="noStrike">
                <a:solidFill>
                  <a:srgbClr val="000000"/>
                </a:solidFill>
                <a:latin typeface="Franklin Gothic Book"/>
              </a:rPr>
              <a:t> Para esta actividad se emplean:</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u="sng">
                <a:solidFill>
                  <a:srgbClr val="000000"/>
                </a:solidFill>
                <a:uFillTx/>
                <a:latin typeface="Franklin Gothic Book"/>
              </a:rPr>
              <a:t> </a:t>
            </a:r>
            <a:r>
              <a:rPr b="0" lang="es-ES" sz="1600" spc="-1" strike="noStrike">
                <a:solidFill>
                  <a:srgbClr val="000000"/>
                </a:solidFill>
                <a:latin typeface="Franklin Gothic Book"/>
              </a:rPr>
              <a:t>sistema de cintas transportadoras</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Turbina de limpiado</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Lavadora</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Martillos trituradores (molturación)</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Batidora</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Maquina de decantación</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Maquina de filtración</a:t>
            </a:r>
            <a:endParaRPr b="0" lang="es-ES" sz="1600" spc="-1" strike="noStrike">
              <a:solidFill>
                <a:srgbClr val="4e3b30"/>
              </a:solidFill>
              <a:latin typeface="Franklin Gothic Book"/>
            </a:endParaRPr>
          </a:p>
          <a:p>
            <a:pPr lvl="1" marL="761040" indent="-326160">
              <a:lnSpc>
                <a:spcPct val="100000"/>
              </a:lnSpc>
              <a:spcBef>
                <a:spcPts val="320"/>
              </a:spcBef>
              <a:buClr>
                <a:srgbClr val="f0a22e"/>
              </a:buClr>
              <a:buSzPct val="70000"/>
              <a:buFont typeface="Franklin Gothic Medium"/>
              <a:buAutoNum type="arabicPeriod"/>
              <a:tabLst>
                <a:tab algn="l" pos="0"/>
              </a:tabLst>
            </a:pPr>
            <a:r>
              <a:rPr b="0" lang="es-ES" sz="1600" spc="-1" strike="noStrike">
                <a:solidFill>
                  <a:srgbClr val="000000"/>
                </a:solidFill>
                <a:latin typeface="Franklin Gothic Book"/>
              </a:rPr>
              <a:t>Bodegas</a:t>
            </a:r>
            <a:endParaRPr b="0" lang="es-ES" sz="1600" spc="-1" strike="noStrike">
              <a:solidFill>
                <a:srgbClr val="4e3b30"/>
              </a:solidFill>
              <a:latin typeface="Franklin Gothic Book"/>
            </a:endParaRPr>
          </a:p>
          <a:p>
            <a:pPr indent="0">
              <a:spcBef>
                <a:spcPts val="1417"/>
              </a:spcBef>
              <a:buNone/>
              <a:tabLst>
                <a:tab algn="l" pos="0"/>
              </a:tabLst>
            </a:pPr>
            <a:endParaRPr b="0" lang="es-ES" sz="16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327" name="PlaceHolder 2"/>
          <p:cNvSpPr>
            <a:spLocks noGrp="1"/>
          </p:cNvSpPr>
          <p:nvPr>
            <p:ph type="title"/>
          </p:nvPr>
        </p:nvSpPr>
        <p:spPr>
          <a:xfrm>
            <a:off x="142920" y="357120"/>
            <a:ext cx="8757720" cy="642600"/>
          </a:xfrm>
          <a:prstGeom prst="rect">
            <a:avLst/>
          </a:prstGeom>
          <a:noFill/>
          <a:ln w="0">
            <a:noFill/>
          </a:ln>
        </p:spPr>
        <p:txBody>
          <a:bodyPr lIns="90000" rIns="90000" tIns="45000" bIns="45000" anchor="t">
            <a:normAutofit/>
          </a:bodyPr>
          <a:p>
            <a:pPr indent="0" algn="r">
              <a:lnSpc>
                <a:spcPct val="100000"/>
              </a:lnSpc>
              <a:buNone/>
            </a:pPr>
            <a:r>
              <a:rPr b="0" lang="es-ES" sz="3600" spc="-1" strike="noStrike" cap="all">
                <a:solidFill>
                  <a:srgbClr val="4e3b30"/>
                </a:solidFill>
                <a:latin typeface="Franklin Gothic Medium"/>
              </a:rPr>
              <a:t>Análisis de la tecnología</a:t>
            </a:r>
            <a:endParaRPr b="0" lang="es-ES" sz="3600" spc="-1" strike="noStrike">
              <a:solidFill>
                <a:srgbClr val="000000"/>
              </a:solidFill>
              <a:latin typeface="Franklin Gothic Book"/>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r">
              <a:lnSpc>
                <a:spcPct val="100000"/>
              </a:lnSpc>
              <a:buNone/>
            </a:pPr>
            <a:r>
              <a:rPr b="0" lang="es-ES" sz="3600" spc="-1" strike="noStrike" cap="all">
                <a:solidFill>
                  <a:srgbClr val="4e3b30"/>
                </a:solidFill>
                <a:latin typeface="Franklin Gothic Medium"/>
              </a:rPr>
              <a:t>Análisis de la tecnología</a:t>
            </a:r>
            <a:endParaRPr b="0" lang="es-ES" sz="3600" spc="-1" strike="noStrike">
              <a:solidFill>
                <a:srgbClr val="000000"/>
              </a:solidFill>
              <a:latin typeface="Franklin Gothic Book"/>
            </a:endParaRPr>
          </a:p>
        </p:txBody>
      </p:sp>
      <p:sp>
        <p:nvSpPr>
          <p:cNvPr id="329" name="5 CuadroTexto"/>
          <p:cNvSpPr/>
          <p:nvPr/>
        </p:nvSpPr>
        <p:spPr>
          <a:xfrm>
            <a:off x="285840" y="1643040"/>
            <a:ext cx="8643600" cy="5903640"/>
          </a:xfrm>
          <a:prstGeom prst="rect">
            <a:avLst/>
          </a:prstGeom>
          <a:noFill/>
          <a:ln w="0">
            <a:noFill/>
          </a:ln>
        </p:spPr>
        <p:style>
          <a:lnRef idx="0"/>
          <a:fillRef idx="0"/>
          <a:effectRef idx="0"/>
          <a:fontRef idx="minor"/>
        </p:style>
        <p:txBody>
          <a:bodyPr lIns="90000" rIns="90000" tIns="45000" bIns="45000" anchor="t">
            <a:spAutoFit/>
          </a:bodyPr>
          <a:p>
            <a:pPr marL="800280" indent="-343080">
              <a:lnSpc>
                <a:spcPct val="100000"/>
              </a:lnSpc>
              <a:tabLst>
                <a:tab algn="l" pos="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0"/>
              </a:tabLst>
            </a:pPr>
            <a:r>
              <a:rPr b="0" lang="es-ES" sz="1600" spc="-1" strike="noStrike" u="sng">
                <a:solidFill>
                  <a:srgbClr val="000000"/>
                </a:solidFill>
                <a:uFillTx/>
                <a:latin typeface="Franklin Gothic Book"/>
              </a:rPr>
              <a:t>Envasado del aceite:</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Embotelladora</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Taponadora </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Etiquetadora</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Maquina de encajado</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Maquina de paletizado</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Retractiladora</a:t>
            </a: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lvl="1" marL="800280" indent="-343080">
              <a:lnSpc>
                <a:spcPct val="100000"/>
              </a:lnSpc>
              <a:buClr>
                <a:srgbClr val="000000"/>
              </a:buClr>
              <a:buFont typeface="Wingdings" charset="2"/>
              <a:buChar char=""/>
              <a:tabLst>
                <a:tab algn="l" pos="0"/>
              </a:tabLst>
            </a:pPr>
            <a:r>
              <a:rPr b="0" lang="es-ES" sz="1600" spc="-1" strike="noStrike" u="sng">
                <a:solidFill>
                  <a:srgbClr val="000000"/>
                </a:solidFill>
                <a:uFillTx/>
                <a:latin typeface="Franklin Gothic Book"/>
              </a:rPr>
              <a:t>Reciclado del aceite de orujo:</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Maquina limpiadora</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Paneles de secado</a:t>
            </a:r>
            <a:endParaRPr b="0" lang="en-US" sz="1600" spc="-1" strike="noStrike">
              <a:solidFill>
                <a:srgbClr val="000000"/>
              </a:solidFill>
              <a:latin typeface="Arial"/>
            </a:endParaRPr>
          </a:p>
          <a:p>
            <a:pPr lvl="1" marL="800280" indent="-343080">
              <a:lnSpc>
                <a:spcPct val="100000"/>
              </a:lnSpc>
              <a:buClr>
                <a:srgbClr val="000000"/>
              </a:buClr>
              <a:buFont typeface="Franklin Gothic Medium"/>
              <a:buAutoNum type="arabicPeriod"/>
              <a:tabLst>
                <a:tab algn="l" pos="0"/>
              </a:tabLst>
            </a:pPr>
            <a:r>
              <a:rPr b="0" lang="es-ES" sz="1600" spc="-1" strike="noStrike">
                <a:solidFill>
                  <a:srgbClr val="000000"/>
                </a:solidFill>
                <a:latin typeface="Franklin Gothic Book"/>
              </a:rPr>
              <a:t>Instrumentos de laboratorio.</a:t>
            </a: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marL="800280" indent="-343080">
              <a:lnSpc>
                <a:spcPct val="100000"/>
              </a:lnSpc>
              <a:tabLst>
                <a:tab algn="l" pos="0"/>
              </a:tabLst>
            </a:pPr>
            <a:endParaRPr b="0" lang="en-US" sz="1800" spc="-1" strike="noStrike">
              <a:solidFill>
                <a:srgbClr val="000000"/>
              </a:solidFill>
              <a:latin typeface="Arial"/>
            </a:endParaRPr>
          </a:p>
          <a:p>
            <a:pPr marL="800280" indent="-343080">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marL="800280" indent="-343080">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80880" y="1676520"/>
            <a:ext cx="8457840" cy="1218960"/>
          </a:xfrm>
          <a:prstGeom prst="rect">
            <a:avLst/>
          </a:prstGeom>
          <a:noFill/>
          <a:ln w="0">
            <a:noFill/>
          </a:ln>
        </p:spPr>
        <p:txBody>
          <a:bodyPr lIns="90000" rIns="90000" tIns="45000" bIns="45000" anchor="b">
            <a:noAutofit/>
          </a:bodyPr>
          <a:p>
            <a:pPr indent="0">
              <a:spcBef>
                <a:spcPts val="1417"/>
              </a:spcBef>
              <a:buNone/>
            </a:pPr>
            <a:endParaRPr b="0" lang="es-ES" sz="2000" spc="-1" strike="noStrike">
              <a:solidFill>
                <a:srgbClr val="44342a"/>
              </a:solidFill>
              <a:latin typeface="Franklin Gothic Book"/>
            </a:endParaRPr>
          </a:p>
        </p:txBody>
      </p:sp>
      <p:sp>
        <p:nvSpPr>
          <p:cNvPr id="331" name="PlaceHolder 2"/>
          <p:cNvSpPr>
            <a:spLocks noGrp="1"/>
          </p:cNvSpPr>
          <p:nvPr>
            <p:ph type="title"/>
          </p:nvPr>
        </p:nvSpPr>
        <p:spPr>
          <a:xfrm>
            <a:off x="180360" y="2946960"/>
            <a:ext cx="8686440" cy="1184400"/>
          </a:xfrm>
          <a:prstGeom prst="rect">
            <a:avLst/>
          </a:prstGeom>
          <a:noFill/>
          <a:ln w="0">
            <a:noFill/>
          </a:ln>
        </p:spPr>
        <p:txBody>
          <a:bodyPr lIns="90000" rIns="90000" tIns="45000" bIns="45000" anchor="t">
            <a:normAutofit fontScale="99000"/>
          </a:bodyPr>
          <a:p>
            <a:pPr indent="0" algn="r">
              <a:lnSpc>
                <a:spcPct val="100000"/>
              </a:lnSpc>
              <a:buNone/>
            </a:pPr>
            <a:r>
              <a:rPr b="0" lang="es-ES" sz="3600" spc="-1" strike="noStrike" cap="all">
                <a:solidFill>
                  <a:srgbClr val="4e3b30"/>
                </a:solidFill>
                <a:latin typeface="Franklin Gothic Medium"/>
              </a:rPr>
              <a:t>Análisis del tipo de configuración organizativa</a:t>
            </a:r>
            <a:endParaRPr b="0" lang="es-ES" sz="3600" spc="-1" strike="noStrike">
              <a:solidFill>
                <a:srgbClr val="000000"/>
              </a:solidFill>
              <a:latin typeface="Franklin Gothic Book"/>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r">
              <a:lnSpc>
                <a:spcPct val="100000"/>
              </a:lnSpc>
              <a:buNone/>
            </a:pPr>
            <a:r>
              <a:rPr b="0" lang="es-ES" sz="3800" spc="-1" strike="noStrike" cap="all">
                <a:solidFill>
                  <a:srgbClr val="4e3b30"/>
                </a:solidFill>
                <a:latin typeface="Franklin Gothic Medium"/>
              </a:rPr>
              <a:t>Historia </a:t>
            </a:r>
            <a:endParaRPr b="0" lang="es-ES" sz="3800" spc="-1" strike="noStrike">
              <a:solidFill>
                <a:srgbClr val="000000"/>
              </a:solidFill>
              <a:latin typeface="Franklin Gothic Book"/>
            </a:endParaRPr>
          </a:p>
        </p:txBody>
      </p:sp>
      <p:sp>
        <p:nvSpPr>
          <p:cNvPr id="186"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1000"/>
          </a:bodyPr>
          <a:p>
            <a:pPr marL="300240" indent="-30024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1971: Manuel Montes Marín empieza su actividad empresarial en una empresa de compraventa de aceite, con la temprana edad de 10 años, posteriormente se une en sociedad con su jefe y acaba comprándola toda a la edad de 17 años.</a:t>
            </a:r>
            <a:endParaRPr b="0" lang="es-ES" sz="2000" spc="-1" strike="noStrike">
              <a:solidFill>
                <a:srgbClr val="4e3b30"/>
              </a:solidFill>
              <a:latin typeface="Franklin Gothic Book"/>
            </a:endParaRPr>
          </a:p>
          <a:p>
            <a:pPr marL="300240" indent="-30024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1994: Amplia su negocio con la adaptación de un molino de aceite  y la compra de fincas de olivar. Comienza aquí su actividad molinera, este año fabrico  500.000 kilos de aceite ( 2.500.000 kilos de aceitunas) y contaba con 116 cosecheros. Un año después, en 1995, creo sus propias marcas de aceite, PORTICO DE LA VILLA y FUENTE LA MADERA</a:t>
            </a:r>
            <a:endParaRPr b="0" lang="es-ES" sz="2000" spc="-1" strike="noStrike">
              <a:solidFill>
                <a:srgbClr val="4e3b30"/>
              </a:solidFill>
              <a:latin typeface="Franklin Gothic Book"/>
            </a:endParaRPr>
          </a:p>
          <a:p>
            <a:pPr marL="300240" indent="-30024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2002: La empresa apuesta por una nueva estructura de calidad del aceite, contando con nuevas técnicas para que dicha calidad sea reconocía. A raíz de esta iniciativa, el aceite de Manuel Montes obtiene unos 10 o 12 premios oficiales al año, siendo su aceite reconocido mundialmente.</a:t>
            </a:r>
            <a:endParaRPr b="0" lang="es-ES" sz="2000" spc="-1" strike="noStrike">
              <a:solidFill>
                <a:srgbClr val="4e3b30"/>
              </a:solidFill>
              <a:latin typeface="Franklin Gothic Book"/>
            </a:endParaRPr>
          </a:p>
          <a:p>
            <a:pPr marL="300240" indent="-300240">
              <a:lnSpc>
                <a:spcPct val="100000"/>
              </a:lnSpc>
              <a:spcBef>
                <a:spcPts val="400"/>
              </a:spcBef>
              <a:buClr>
                <a:srgbClr val="f0a22e"/>
              </a:buClr>
              <a:buSzPct val="70000"/>
              <a:buFont typeface="Wingdings 2" charset="2"/>
              <a:buChar char=""/>
            </a:pPr>
            <a:r>
              <a:rPr b="0" lang="es-ES" sz="2000" spc="-1" strike="noStrike">
                <a:solidFill>
                  <a:srgbClr val="4e3b30"/>
                </a:solidFill>
                <a:latin typeface="Franklin Gothic Book"/>
              </a:rPr>
              <a:t>2008: A raíz de los cambios de 2002 la empresa consigue aumentar su producción alrededor de un 20% al año, siendo los datos de 2008 de 3.500.000 kilos de aceite ( 16.000.000 kilos de aceitunas) y 1200 cosecheros</a:t>
            </a:r>
            <a:endParaRPr b="0" lang="es-ES" sz="2000" spc="-1" strike="noStrike">
              <a:solidFill>
                <a:srgbClr val="4e3b30"/>
              </a:solidFill>
              <a:latin typeface="Franklin Gothic Book"/>
            </a:endParaRPr>
          </a:p>
          <a:p>
            <a:pPr marL="300240" indent="0">
              <a:lnSpc>
                <a:spcPct val="100000"/>
              </a:lnSpc>
              <a:spcBef>
                <a:spcPts val="400"/>
              </a:spcBef>
              <a:buNone/>
              <a:tabLst>
                <a:tab algn="l" pos="0"/>
              </a:tabLst>
            </a:pPr>
            <a:r>
              <a:rPr b="0" lang="es-ES" sz="2000" spc="-1" strike="noStrike">
                <a:solidFill>
                  <a:srgbClr val="4e3b30"/>
                </a:solidFill>
                <a:latin typeface="Franklin Gothic Book"/>
              </a:rPr>
              <a:t>	</a:t>
            </a:r>
            <a:endParaRPr b="0" lang="es-ES" sz="2000" spc="-1" strike="noStrike">
              <a:solidFill>
                <a:srgbClr val="4e3b30"/>
              </a:solidFill>
              <a:latin typeface="Franklin Gothic Book"/>
            </a:endParaRPr>
          </a:p>
          <a:p>
            <a:pPr marL="300240" indent="0">
              <a:lnSpc>
                <a:spcPct val="100000"/>
              </a:lnSpc>
              <a:spcBef>
                <a:spcPts val="400"/>
              </a:spcBef>
              <a:buNone/>
              <a:tabLst>
                <a:tab algn="l" pos="0"/>
              </a:tabLst>
            </a:pPr>
            <a:r>
              <a:rPr b="0" lang="es-ES" sz="2000" spc="-1" strike="noStrike">
                <a:solidFill>
                  <a:srgbClr val="4e3b30"/>
                </a:solidFill>
                <a:latin typeface="Franklin Gothic Book"/>
              </a:rPr>
              <a:t>	</a:t>
            </a:r>
            <a:endParaRPr b="0" lang="es-ES" sz="2000" spc="-1" strike="noStrike">
              <a:solidFill>
                <a:srgbClr val="4e3b30"/>
              </a:solidFill>
              <a:latin typeface="Franklin Gothic Book"/>
            </a:endParaRPr>
          </a:p>
          <a:p>
            <a:pPr marL="300240" indent="0">
              <a:lnSpc>
                <a:spcPct val="100000"/>
              </a:lnSpc>
              <a:spcBef>
                <a:spcPts val="400"/>
              </a:spcBef>
              <a:buNone/>
              <a:tabLst>
                <a:tab algn="l" pos="0"/>
              </a:tabLst>
            </a:pPr>
            <a:endParaRPr b="0" lang="es-ES" sz="2000" spc="-1" strike="noStrike">
              <a:solidFill>
                <a:srgbClr val="4e3b30"/>
              </a:solidFill>
              <a:latin typeface="Franklin Gothic Book"/>
            </a:endParaRPr>
          </a:p>
          <a:p>
            <a:pPr indent="0">
              <a:lnSpc>
                <a:spcPct val="100000"/>
              </a:lnSpc>
              <a:spcBef>
                <a:spcPts val="400"/>
              </a:spcBef>
              <a:buNone/>
              <a:tabLst>
                <a:tab algn="l" pos="0"/>
              </a:tabLst>
            </a:pPr>
            <a:endParaRPr b="0" lang="es-ES" sz="2000" spc="-1" strike="noStrike">
              <a:solidFill>
                <a:srgbClr val="4e3b30"/>
              </a:solidFill>
              <a:latin typeface="Franklin Gothic Book"/>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07040" y="1351800"/>
            <a:ext cx="8151120" cy="5291640"/>
          </a:xfrm>
          <a:prstGeom prst="rect">
            <a:avLst/>
          </a:prstGeom>
          <a:noFill/>
          <a:ln w="0">
            <a:noFill/>
          </a:ln>
        </p:spPr>
        <p:txBody>
          <a:bodyPr lIns="90000" rIns="90000" tIns="45000" bIns="45000" anchor="b">
            <a:noAutofit/>
          </a:bodyPr>
          <a:p>
            <a:pPr indent="0">
              <a:lnSpc>
                <a:spcPct val="100000"/>
              </a:lnSpc>
              <a:spcBef>
                <a:spcPts val="400"/>
              </a:spcBef>
              <a:buNone/>
              <a:tabLst>
                <a:tab algn="l" pos="0"/>
              </a:tabLst>
            </a:pPr>
            <a:r>
              <a:rPr b="0" lang="es-ES" sz="2000" spc="-1" strike="noStrike">
                <a:solidFill>
                  <a:srgbClr val="44342a"/>
                </a:solidFill>
                <a:latin typeface="Franklin Gothic Book"/>
              </a:rPr>
              <a:t>Se trata de una organización </a:t>
            </a:r>
            <a:r>
              <a:rPr b="0" i="1" lang="es-ES" sz="2000" spc="-1" strike="noStrike">
                <a:solidFill>
                  <a:srgbClr val="44342a"/>
                </a:solidFill>
                <a:latin typeface="Franklin Gothic Book"/>
              </a:rPr>
              <a:t>emprendedora simple.</a:t>
            </a:r>
            <a:endParaRPr b="0" lang="es-ES" sz="2000" spc="-1" strike="noStrike">
              <a:solidFill>
                <a:srgbClr val="4e3b30"/>
              </a:solidFill>
              <a:latin typeface="Franklin Gothic Book"/>
            </a:endParaRPr>
          </a:p>
          <a:p>
            <a:pPr indent="0">
              <a:lnSpc>
                <a:spcPct val="100000"/>
              </a:lnSpc>
              <a:spcBef>
                <a:spcPts val="400"/>
              </a:spcBef>
              <a:buNone/>
              <a:tabLst>
                <a:tab algn="l" pos="0"/>
              </a:tabLst>
            </a:pP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i="1" lang="es-ES" sz="2000" spc="-1" strike="noStrike">
                <a:solidFill>
                  <a:srgbClr val="44342a"/>
                </a:solidFill>
                <a:latin typeface="Franklin Gothic Book"/>
              </a:rPr>
              <a:t> </a:t>
            </a:r>
            <a:r>
              <a:rPr b="0" i="1" lang="es-ES" sz="2000" spc="-1" strike="noStrike" u="sng">
                <a:solidFill>
                  <a:srgbClr val="009900"/>
                </a:solidFill>
                <a:uFillTx/>
                <a:latin typeface="Franklin Gothic Book"/>
              </a:rPr>
              <a:t>SUBSISTEMA ESTRUCTURAL</a:t>
            </a:r>
            <a:r>
              <a:rPr b="0" i="1" lang="es-ES" sz="2000" spc="-1" strike="noStrike" u="sng">
                <a:solidFill>
                  <a:srgbClr val="44342a"/>
                </a:solidFill>
                <a:uFillTx/>
                <a:latin typeface="Franklin Gothic Book"/>
              </a:rPr>
              <a:t>:</a:t>
            </a:r>
            <a:r>
              <a:rPr b="0" lang="es-ES" sz="2000" spc="-1" strike="noStrike">
                <a:solidFill>
                  <a:srgbClr val="44342a"/>
                </a:solidFill>
                <a:latin typeface="Franklin Gothic Book"/>
              </a:rPr>
              <a:t> Las tareas son simples y concretas</a:t>
            </a:r>
            <a:endParaRPr b="0" lang="es-ES" sz="20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No existe gran planificación estructurada</a:t>
            </a:r>
            <a:endParaRPr b="0" lang="es-ES" sz="18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El sistema de control esta centralizado</a:t>
            </a:r>
            <a:endParaRPr b="0" lang="es-ES" sz="18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El número de niveles jerárquicos es reducido</a:t>
            </a:r>
            <a:endParaRPr b="0" lang="es-ES" sz="18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El control esta jerarquizado por el jefe</a:t>
            </a:r>
            <a:endParaRPr b="0" lang="es-ES" sz="1800" spc="-1" strike="noStrike">
              <a:solidFill>
                <a:srgbClr val="4e3b30"/>
              </a:solidFill>
              <a:latin typeface="Franklin Gothic Book"/>
            </a:endParaRPr>
          </a:p>
          <a:p>
            <a:pPr marL="743040" indent="0">
              <a:lnSpc>
                <a:spcPct val="100000"/>
              </a:lnSpc>
              <a:spcBef>
                <a:spcPts val="400"/>
              </a:spcBef>
              <a:buNone/>
              <a:tabLst>
                <a:tab algn="l" pos="0"/>
              </a:tabLst>
            </a:pPr>
            <a:endParaRPr b="0" lang="es-ES" sz="2000" spc="-1" strike="noStrike">
              <a:solidFill>
                <a:srgbClr val="4e3b30"/>
              </a:solidFill>
              <a:latin typeface="Franklin Gothic Book"/>
            </a:endParaRPr>
          </a:p>
          <a:p>
            <a:pPr>
              <a:lnSpc>
                <a:spcPct val="100000"/>
              </a:lnSpc>
              <a:spcBef>
                <a:spcPts val="439"/>
              </a:spcBef>
              <a:buClr>
                <a:srgbClr val="f0a22e"/>
              </a:buClr>
              <a:buSzPct val="70000"/>
              <a:buFont typeface="Wingdings" charset="2"/>
              <a:buChar char=""/>
              <a:tabLst>
                <a:tab algn="l" pos="0"/>
              </a:tabLst>
            </a:pPr>
            <a:r>
              <a:rPr b="0" i="1" lang="es-ES" sz="2000" spc="-1" strike="noStrike" u="sng">
                <a:solidFill>
                  <a:srgbClr val="009900"/>
                </a:solidFill>
                <a:uFillTx/>
                <a:latin typeface="Franklin Gothic Book"/>
              </a:rPr>
              <a:t>SISTEMA DE RECURSOS</a:t>
            </a:r>
            <a:r>
              <a:rPr b="0" i="1" lang="es-ES" sz="2200" spc="-1" strike="noStrike" u="sng">
                <a:solidFill>
                  <a:srgbClr val="009900"/>
                </a:solidFill>
                <a:uFillTx/>
                <a:latin typeface="Franklin Gothic Book"/>
              </a:rPr>
              <a:t>: </a:t>
            </a:r>
            <a:r>
              <a:rPr b="0" lang="es-ES" sz="2200" spc="-1" strike="noStrike">
                <a:solidFill>
                  <a:srgbClr val="009900"/>
                </a:solidFill>
                <a:latin typeface="Franklin Gothic Book"/>
              </a:rPr>
              <a:t> </a:t>
            </a:r>
            <a:r>
              <a:rPr b="0" lang="es-ES" sz="2000" spc="-1" strike="noStrike">
                <a:solidFill>
                  <a:srgbClr val="44342a"/>
                </a:solidFill>
                <a:latin typeface="Franklin Gothic Book"/>
              </a:rPr>
              <a:t>Los empleados están poco cualificados en la base y su formación va aumentando progresivamente a medida que la organización va desarrollándose.</a:t>
            </a:r>
            <a:endParaRPr b="0" lang="es-ES" sz="2000" spc="-1" strike="noStrike">
              <a:solidFill>
                <a:srgbClr val="4e3b30"/>
              </a:solidFill>
              <a:latin typeface="Franklin Gothic Book"/>
            </a:endParaRPr>
          </a:p>
          <a:p>
            <a:pPr lvl="1" marL="743040" indent="-285840">
              <a:lnSpc>
                <a:spcPct val="100000"/>
              </a:lnSpc>
              <a:spcBef>
                <a:spcPts val="360"/>
              </a:spcBef>
              <a:buClr>
                <a:srgbClr val="f0a22e"/>
              </a:buClr>
              <a:buSzPct val="70000"/>
              <a:buFont typeface="Wingdings" charset="2"/>
              <a:buChar char=""/>
              <a:tabLst>
                <a:tab algn="l" pos="0"/>
              </a:tabLst>
            </a:pPr>
            <a:r>
              <a:rPr b="0" lang="es-ES" sz="1800" spc="-1" strike="noStrike">
                <a:solidFill>
                  <a:srgbClr val="8b8b8b"/>
                </a:solidFill>
                <a:latin typeface="Franklin Gothic Book"/>
              </a:rPr>
              <a:t>La selección de personal no es un factor discriminante</a:t>
            </a:r>
            <a:endParaRPr b="0" lang="es-ES" sz="1800" spc="-1" strike="noStrike">
              <a:solidFill>
                <a:srgbClr val="4e3b30"/>
              </a:solidFill>
              <a:latin typeface="Franklin Gothic Book"/>
            </a:endParaRPr>
          </a:p>
          <a:p>
            <a:pPr indent="0" algn="r">
              <a:lnSpc>
                <a:spcPct val="100000"/>
              </a:lnSpc>
              <a:spcBef>
                <a:spcPts val="439"/>
              </a:spcBef>
              <a:buNone/>
              <a:tabLst>
                <a:tab algn="l" pos="0"/>
              </a:tabLst>
            </a:pPr>
            <a:endParaRPr b="0" lang="es-ES" sz="2200" spc="-1" strike="noStrike">
              <a:solidFill>
                <a:srgbClr val="4e3b30"/>
              </a:solidFill>
              <a:latin typeface="Franklin Gothic Book"/>
            </a:endParaRPr>
          </a:p>
        </p:txBody>
      </p:sp>
      <p:sp>
        <p:nvSpPr>
          <p:cNvPr id="333" name="PlaceHolder 2"/>
          <p:cNvSpPr>
            <a:spLocks noGrp="1"/>
          </p:cNvSpPr>
          <p:nvPr>
            <p:ph type="title"/>
          </p:nvPr>
        </p:nvSpPr>
        <p:spPr>
          <a:xfrm>
            <a:off x="180360" y="571320"/>
            <a:ext cx="8686440" cy="999720"/>
          </a:xfrm>
          <a:prstGeom prst="rect">
            <a:avLst/>
          </a:prstGeom>
          <a:noFill/>
          <a:ln w="0">
            <a:noFill/>
          </a:ln>
        </p:spPr>
        <p:txBody>
          <a:bodyPr lIns="90000" rIns="90000" tIns="45000" bIns="45000" anchor="t">
            <a:normAutofit fontScale="83000"/>
          </a:bodyPr>
          <a:p>
            <a:pPr indent="0" algn="r">
              <a:lnSpc>
                <a:spcPct val="100000"/>
              </a:lnSpc>
              <a:buNone/>
            </a:pPr>
            <a:r>
              <a:rPr b="0" lang="es-ES" sz="3600" spc="-1" strike="noStrike" cap="all">
                <a:solidFill>
                  <a:srgbClr val="4e3b30"/>
                </a:solidFill>
                <a:latin typeface="Franklin Gothic Medium"/>
              </a:rPr>
              <a:t>Configuración organizativa   1/2</a:t>
            </a:r>
            <a:br>
              <a:rPr sz="3600"/>
            </a:br>
            <a:endParaRPr b="0" lang="es-ES" sz="3600" spc="-1" strike="noStrike">
              <a:solidFill>
                <a:srgbClr val="000000"/>
              </a:solidFill>
              <a:latin typeface="Franklin Gothic Book"/>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642960" y="1643040"/>
            <a:ext cx="8143560" cy="4857480"/>
          </a:xfrm>
          <a:prstGeom prst="rect">
            <a:avLst/>
          </a:prstGeom>
          <a:noFill/>
          <a:ln w="0">
            <a:noFill/>
          </a:ln>
        </p:spPr>
        <p:txBody>
          <a:bodyPr lIns="90000" rIns="90000" tIns="45000" bIns="45000" anchor="b">
            <a:normAutofit fontScale="97000"/>
          </a:bodyPr>
          <a:p>
            <a:pPr indent="0">
              <a:lnSpc>
                <a:spcPct val="100000"/>
              </a:lnSpc>
              <a:spcBef>
                <a:spcPts val="400"/>
              </a:spcBef>
              <a:buNone/>
              <a:tabLst>
                <a:tab algn="l" pos="0"/>
              </a:tabLst>
            </a:pP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i="1" lang="es-ES" sz="2000" spc="-1" strike="noStrike" u="sng">
                <a:solidFill>
                  <a:srgbClr val="009900"/>
                </a:solidFill>
                <a:uFillTx/>
                <a:latin typeface="Franklin Gothic Book"/>
              </a:rPr>
              <a:t> </a:t>
            </a:r>
            <a:r>
              <a:rPr b="0" i="1" lang="es-ES" sz="2000" spc="-1" strike="noStrike" u="sng">
                <a:solidFill>
                  <a:srgbClr val="009900"/>
                </a:solidFill>
                <a:uFillTx/>
                <a:latin typeface="Franklin Gothic Book"/>
              </a:rPr>
              <a:t>SISTEMA CULTURAL:</a:t>
            </a:r>
            <a:r>
              <a:rPr b="0" lang="es-ES" sz="2000" spc="-1" strike="noStrike">
                <a:solidFill>
                  <a:srgbClr val="009900"/>
                </a:solidFill>
                <a:latin typeface="Franklin Gothic Book"/>
              </a:rPr>
              <a:t> </a:t>
            </a:r>
            <a:r>
              <a:rPr b="0" lang="es-ES" sz="2000" spc="-1" strike="noStrike">
                <a:solidFill>
                  <a:srgbClr val="000000"/>
                </a:solidFill>
                <a:latin typeface="Franklin Gothic Book"/>
              </a:rPr>
              <a:t>Como ya hemos mencionado en el análisis de la cultura, esta organización presenta una cultura de tipo </a:t>
            </a:r>
            <a:r>
              <a:rPr b="0" i="1" lang="es-ES" sz="2000" spc="-1" strike="noStrike">
                <a:solidFill>
                  <a:srgbClr val="000000"/>
                </a:solidFill>
                <a:latin typeface="Franklin Gothic Book"/>
              </a:rPr>
              <a:t>feudos.</a:t>
            </a:r>
            <a:endParaRPr b="0" lang="es-ES" sz="2000" spc="-1" strike="noStrike">
              <a:solidFill>
                <a:srgbClr val="4e3b30"/>
              </a:solidFill>
              <a:latin typeface="Franklin Gothic Book"/>
            </a:endParaRPr>
          </a:p>
          <a:p>
            <a:pPr>
              <a:lnSpc>
                <a:spcPct val="100000"/>
              </a:lnSpc>
              <a:spcBef>
                <a:spcPts val="400"/>
              </a:spcBef>
              <a:buClr>
                <a:srgbClr val="f0a22e"/>
              </a:buClr>
              <a:buSzPct val="70000"/>
              <a:buFont typeface="Wingdings" charset="2"/>
              <a:buChar char=""/>
              <a:tabLst>
                <a:tab algn="l" pos="0"/>
              </a:tabLst>
            </a:pPr>
            <a:r>
              <a:rPr b="0" i="1" lang="es-ES" sz="2000" spc="-1" strike="noStrike" u="sng">
                <a:solidFill>
                  <a:srgbClr val="009900"/>
                </a:solidFill>
                <a:uFillTx/>
                <a:latin typeface="Franklin Gothic Book"/>
              </a:rPr>
              <a:t>CONTEXTO: </a:t>
            </a:r>
            <a:endParaRPr b="0" lang="es-ES" sz="2000" spc="-1" strike="noStrike">
              <a:solidFill>
                <a:srgbClr val="4e3b30"/>
              </a:solidFill>
              <a:latin typeface="Franklin Gothic Book"/>
            </a:endParaRPr>
          </a:p>
          <a:p>
            <a:pPr lvl="1" marL="720720" indent="-277200">
              <a:lnSpc>
                <a:spcPct val="100000"/>
              </a:lnSpc>
              <a:spcBef>
                <a:spcPts val="360"/>
              </a:spcBef>
              <a:buClr>
                <a:srgbClr val="f0a22e"/>
              </a:buClr>
              <a:buSzPct val="70000"/>
              <a:buFont typeface="Wingdings" charset="2"/>
              <a:buChar char=""/>
              <a:tabLst>
                <a:tab algn="l" pos="0"/>
              </a:tabLst>
            </a:pPr>
            <a:r>
              <a:rPr b="0" lang="es-ES" sz="1800" spc="-1" strike="noStrike">
                <a:solidFill>
                  <a:srgbClr val="000000"/>
                </a:solidFill>
                <a:latin typeface="Franklin Gothic Book"/>
              </a:rPr>
              <a:t>La empresa tiene un tamaño pequeño- mediano</a:t>
            </a:r>
            <a:endParaRPr b="0" lang="es-ES" sz="1800" spc="-1" strike="noStrike">
              <a:solidFill>
                <a:srgbClr val="4e3b30"/>
              </a:solidFill>
              <a:latin typeface="Franklin Gothic Book"/>
            </a:endParaRPr>
          </a:p>
          <a:p>
            <a:pPr lvl="1" marL="720720" indent="-277200">
              <a:lnSpc>
                <a:spcPct val="100000"/>
              </a:lnSpc>
              <a:spcBef>
                <a:spcPts val="360"/>
              </a:spcBef>
              <a:buClr>
                <a:srgbClr val="f0a22e"/>
              </a:buClr>
              <a:buSzPct val="70000"/>
              <a:buFont typeface="Wingdings" charset="2"/>
              <a:buChar char=""/>
              <a:tabLst>
                <a:tab algn="l" pos="0"/>
              </a:tabLst>
            </a:pPr>
            <a:r>
              <a:rPr b="0" lang="es-ES" sz="1800" spc="-1" strike="noStrike">
                <a:solidFill>
                  <a:srgbClr val="000000"/>
                </a:solidFill>
                <a:latin typeface="Franklin Gothic Book"/>
              </a:rPr>
              <a:t>La ambigüedad de la empresa es normalmente escasa</a:t>
            </a:r>
            <a:endParaRPr b="0" lang="es-ES" sz="1800" spc="-1" strike="noStrike">
              <a:solidFill>
                <a:srgbClr val="4e3b30"/>
              </a:solidFill>
              <a:latin typeface="Franklin Gothic Book"/>
            </a:endParaRPr>
          </a:p>
          <a:p>
            <a:pPr lvl="1" marL="720720" indent="-277200">
              <a:lnSpc>
                <a:spcPct val="100000"/>
              </a:lnSpc>
              <a:spcBef>
                <a:spcPts val="360"/>
              </a:spcBef>
              <a:buClr>
                <a:srgbClr val="f0a22e"/>
              </a:buClr>
              <a:buSzPct val="70000"/>
              <a:buFont typeface="Wingdings" charset="2"/>
              <a:buChar char=""/>
              <a:tabLst>
                <a:tab algn="l" pos="0"/>
              </a:tabLst>
            </a:pPr>
            <a:r>
              <a:rPr b="0" lang="es-ES" sz="1800" spc="-1" strike="noStrike">
                <a:solidFill>
                  <a:srgbClr val="000000"/>
                </a:solidFill>
                <a:latin typeface="Franklin Gothic Book"/>
              </a:rPr>
              <a:t>El entorno es simple y dinámico (concreto pero incierto)</a:t>
            </a:r>
            <a:endParaRPr b="0" lang="es-ES" sz="1800" spc="-1" strike="noStrike">
              <a:solidFill>
                <a:srgbClr val="4e3b30"/>
              </a:solidFill>
              <a:latin typeface="Franklin Gothic Book"/>
            </a:endParaRPr>
          </a:p>
          <a:p>
            <a:pPr indent="0">
              <a:lnSpc>
                <a:spcPct val="100000"/>
              </a:lnSpc>
              <a:spcBef>
                <a:spcPts val="400"/>
              </a:spcBef>
              <a:buNone/>
              <a:tabLst>
                <a:tab algn="l" pos="0"/>
              </a:tabLst>
            </a:pPr>
            <a:r>
              <a:rPr b="0" lang="es-ES" sz="2000" spc="-1" strike="noStrike">
                <a:solidFill>
                  <a:srgbClr val="000000"/>
                </a:solidFill>
                <a:latin typeface="Franklin Gothic Book"/>
              </a:rPr>
              <a:t>También se puede relacionar con una organización </a:t>
            </a:r>
            <a:r>
              <a:rPr b="0" i="1" lang="es-ES" sz="2000" spc="-1" strike="noStrike">
                <a:solidFill>
                  <a:srgbClr val="000000"/>
                </a:solidFill>
                <a:latin typeface="Franklin Gothic Book"/>
              </a:rPr>
              <a:t>burocrática- funcional:</a:t>
            </a:r>
            <a:endParaRPr b="0" lang="es-ES" sz="2000" spc="-1" strike="noStrike">
              <a:solidFill>
                <a:srgbClr val="4e3b30"/>
              </a:solidFill>
              <a:latin typeface="Franklin Gothic Book"/>
            </a:endParaRPr>
          </a:p>
          <a:p>
            <a:pPr>
              <a:lnSpc>
                <a:spcPct val="100000"/>
              </a:lnSpc>
              <a:spcBef>
                <a:spcPts val="360"/>
              </a:spcBef>
              <a:buClr>
                <a:srgbClr val="f0a22e"/>
              </a:buClr>
              <a:buSzPct val="70000"/>
              <a:buFont typeface="Wingdings" charset="2"/>
              <a:buChar char=""/>
              <a:tabLst>
                <a:tab algn="l" pos="0"/>
              </a:tabLst>
            </a:pPr>
            <a:r>
              <a:rPr b="0" lang="es-ES_tradnl" sz="1800" spc="-1" strike="noStrike">
                <a:solidFill>
                  <a:srgbClr val="000000"/>
                </a:solidFill>
                <a:latin typeface="Franklin Gothic Book"/>
              </a:rPr>
              <a:t>Las tareas que se realizan en un puesto de trabajo del personal operativo son simples y concretas, por lo que el nivel de formación que se requiere es bajo.</a:t>
            </a:r>
            <a:endParaRPr b="0" lang="es-ES" sz="1800" spc="-1" strike="noStrike">
              <a:solidFill>
                <a:srgbClr val="4e3b30"/>
              </a:solidFill>
              <a:latin typeface="Franklin Gothic Book"/>
            </a:endParaRPr>
          </a:p>
          <a:p>
            <a:pPr>
              <a:lnSpc>
                <a:spcPct val="100000"/>
              </a:lnSpc>
              <a:spcBef>
                <a:spcPts val="360"/>
              </a:spcBef>
              <a:buClr>
                <a:srgbClr val="f0a22e"/>
              </a:buClr>
              <a:buSzPct val="70000"/>
              <a:buFont typeface="Wingdings" charset="2"/>
              <a:buChar char=""/>
              <a:tabLst>
                <a:tab algn="l" pos="0"/>
              </a:tabLst>
            </a:pPr>
            <a:r>
              <a:rPr b="0" lang="es-ES_tradnl" sz="1800" spc="-1" strike="noStrike">
                <a:solidFill>
                  <a:srgbClr val="000000"/>
                </a:solidFill>
                <a:latin typeface="Franklin Gothic Book"/>
              </a:rPr>
              <a:t>Existe cierto grado de formalización para la coordinación de las actividades</a:t>
            </a:r>
            <a:endParaRPr b="0" lang="es-ES" sz="1800" spc="-1" strike="noStrike">
              <a:solidFill>
                <a:srgbClr val="4e3b30"/>
              </a:solidFill>
              <a:latin typeface="Franklin Gothic Book"/>
            </a:endParaRPr>
          </a:p>
          <a:p>
            <a:pPr>
              <a:lnSpc>
                <a:spcPct val="100000"/>
              </a:lnSpc>
              <a:spcBef>
                <a:spcPts val="360"/>
              </a:spcBef>
              <a:buClr>
                <a:srgbClr val="f0a22e"/>
              </a:buClr>
              <a:buSzPct val="70000"/>
              <a:buFont typeface="Wingdings" charset="2"/>
              <a:buChar char=""/>
              <a:tabLst>
                <a:tab algn="l" pos="0"/>
              </a:tabLst>
            </a:pPr>
            <a:r>
              <a:rPr b="0" lang="es-ES_tradnl" sz="1800" spc="-1" strike="noStrike">
                <a:solidFill>
                  <a:srgbClr val="000000"/>
                </a:solidFill>
                <a:latin typeface="Franklin Gothic Book"/>
              </a:rPr>
              <a:t>Utiliza un sistema presupuestario por  centros de responsabilidad de minimización de costes.</a:t>
            </a:r>
            <a:endParaRPr b="0" lang="es-ES" sz="1800" spc="-1" strike="noStrike">
              <a:solidFill>
                <a:srgbClr val="4e3b30"/>
              </a:solidFill>
              <a:latin typeface="Franklin Gothic Book"/>
            </a:endParaRPr>
          </a:p>
          <a:p>
            <a:pPr indent="0">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335" name="PlaceHolder 2"/>
          <p:cNvSpPr>
            <a:spLocks noGrp="1"/>
          </p:cNvSpPr>
          <p:nvPr>
            <p:ph type="title"/>
          </p:nvPr>
        </p:nvSpPr>
        <p:spPr>
          <a:xfrm>
            <a:off x="180360" y="571320"/>
            <a:ext cx="8686440" cy="78552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Configuración organizativa   2/2</a:t>
            </a:r>
            <a:endParaRPr b="0" lang="es-ES" sz="3600" spc="-1" strike="noStrike">
              <a:solidFill>
                <a:srgbClr val="000000"/>
              </a:solidFill>
              <a:latin typeface="Franklin Gothic Book"/>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71320" y="1357200"/>
            <a:ext cx="4571640" cy="5143320"/>
          </a:xfrm>
          <a:prstGeom prst="rect">
            <a:avLst/>
          </a:prstGeom>
          <a:noFill/>
          <a:ln w="0">
            <a:noFill/>
          </a:ln>
        </p:spPr>
        <p:txBody>
          <a:bodyPr lIns="90000" rIns="90000" tIns="45000" bIns="45000" anchor="b">
            <a:noAutofit/>
          </a:bodyPr>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algn="r">
              <a:lnSpc>
                <a:spcPct val="100000"/>
              </a:lnSpc>
              <a:spcBef>
                <a:spcPts val="479"/>
              </a:spcBef>
              <a:buClr>
                <a:srgbClr val="f0a22e"/>
              </a:buClr>
              <a:buSzPct val="70000"/>
              <a:buFont typeface="Wingdings" charset="2"/>
              <a:buChar char=""/>
              <a:tabLst>
                <a:tab algn="l" pos="0"/>
              </a:tabLst>
            </a:pPr>
            <a:r>
              <a:rPr b="0" lang="es-ES" sz="2000" spc="-1" strike="noStrike">
                <a:solidFill>
                  <a:srgbClr val="009900"/>
                </a:solidFill>
                <a:latin typeface="Franklin Gothic Book"/>
              </a:rPr>
              <a:t> </a:t>
            </a:r>
            <a:r>
              <a:rPr b="1" lang="es-ES" sz="2000" spc="-1" strike="noStrike" u="sng">
                <a:solidFill>
                  <a:srgbClr val="009900"/>
                </a:solidFill>
                <a:uFillTx/>
                <a:latin typeface="Franklin Gothic Book"/>
              </a:rPr>
              <a:t> </a:t>
            </a:r>
            <a:r>
              <a:rPr b="1" lang="es-ES" sz="2400" spc="-1" strike="noStrike" u="sng">
                <a:solidFill>
                  <a:srgbClr val="009900"/>
                </a:solidFill>
                <a:uFillTx/>
                <a:latin typeface="Franklin Gothic Book"/>
              </a:rPr>
              <a:t>COMPRA, RECOLECTA Y ALMACENAMIENTO DE ACEITUNA</a:t>
            </a:r>
            <a:r>
              <a:rPr b="1" lang="es-ES" sz="2400" spc="-1" strike="noStrike" u="sng">
                <a:solidFill>
                  <a:srgbClr val="000000"/>
                </a:solidFill>
                <a:uFillTx/>
                <a:latin typeface="Franklin Gothic Book"/>
              </a:rPr>
              <a:t>:</a:t>
            </a:r>
            <a:endParaRPr b="0" lang="es-ES" sz="2400" spc="-1" strike="noStrike">
              <a:solidFill>
                <a:srgbClr val="4e3b30"/>
              </a:solidFill>
              <a:latin typeface="Franklin Gothic Book"/>
            </a:endParaRPr>
          </a:p>
          <a:p>
            <a:pPr indent="0" algn="just">
              <a:lnSpc>
                <a:spcPct val="100000"/>
              </a:lnSpc>
              <a:spcBef>
                <a:spcPts val="400"/>
              </a:spcBef>
              <a:buNone/>
              <a:tabLst>
                <a:tab algn="l" pos="0"/>
              </a:tabLst>
            </a:pPr>
            <a:endParaRPr b="0" lang="es-ES" sz="2000" spc="-1" strike="noStrike">
              <a:solidFill>
                <a:srgbClr val="4e3b30"/>
              </a:solidFill>
              <a:latin typeface="Franklin Gothic Book"/>
            </a:endParaRPr>
          </a:p>
          <a:p>
            <a:pPr indent="0" algn="just">
              <a:lnSpc>
                <a:spcPct val="100000"/>
              </a:lnSpc>
              <a:spcBef>
                <a:spcPts val="400"/>
              </a:spcBef>
              <a:buNone/>
              <a:tabLst>
                <a:tab algn="l" pos="0"/>
              </a:tabLst>
            </a:pPr>
            <a:r>
              <a:rPr b="0" lang="es-ES" sz="2000" spc="-1" strike="noStrike">
                <a:solidFill>
                  <a:srgbClr val="000000"/>
                </a:solidFill>
                <a:latin typeface="Franklin Gothic Book"/>
              </a:rPr>
              <a:t>La empresa cuenta con terrenos de olivar donde cultivan su propia aceituna y además con tres puntos de compra donde los agricultores de la zona llevan sus cosechas para venderlas.</a:t>
            </a:r>
            <a:endParaRPr b="0" lang="es-ES" sz="2000" spc="-1" strike="noStrike">
              <a:solidFill>
                <a:srgbClr val="4e3b30"/>
              </a:solidFill>
              <a:latin typeface="Franklin Gothic Book"/>
            </a:endParaRPr>
          </a:p>
          <a:p>
            <a:pPr indent="0" algn="just">
              <a:lnSpc>
                <a:spcPct val="100000"/>
              </a:lnSpc>
              <a:spcBef>
                <a:spcPts val="400"/>
              </a:spcBef>
              <a:buNone/>
              <a:tabLst>
                <a:tab algn="l" pos="0"/>
              </a:tabLst>
            </a:pPr>
            <a:r>
              <a:rPr b="0" lang="es-ES" sz="2000" spc="-1" strike="noStrike">
                <a:solidFill>
                  <a:srgbClr val="000000"/>
                </a:solidFill>
                <a:latin typeface="Franklin Gothic Book"/>
              </a:rPr>
              <a:t>Posteriormente la aceituna es limpiada, llevada al molino y almacenada.</a:t>
            </a: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188" name="PlaceHolder 2"/>
          <p:cNvSpPr>
            <a:spLocks noGrp="1"/>
          </p:cNvSpPr>
          <p:nvPr>
            <p:ph type="title"/>
          </p:nvPr>
        </p:nvSpPr>
        <p:spPr>
          <a:xfrm>
            <a:off x="357120" y="428760"/>
            <a:ext cx="8509680" cy="99972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Actividades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1/4</a:t>
            </a:r>
            <a:endParaRPr b="0" lang="es-ES" sz="3600" spc="-1" strike="noStrike">
              <a:solidFill>
                <a:srgbClr val="000000"/>
              </a:solidFill>
              <a:latin typeface="Franklin Gothic Book"/>
            </a:endParaRPr>
          </a:p>
        </p:txBody>
      </p:sp>
      <p:pic>
        <p:nvPicPr>
          <p:cNvPr id="189" name="5 Imagen" descr="cosecha-de-aceitunas[1].jpg"/>
          <p:cNvPicPr/>
          <p:nvPr/>
        </p:nvPicPr>
        <p:blipFill>
          <a:blip r:embed="rId1"/>
          <a:stretch/>
        </p:blipFill>
        <p:spPr>
          <a:xfrm>
            <a:off x="5286240" y="1928880"/>
            <a:ext cx="3642840" cy="407160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707040" y="1143000"/>
            <a:ext cx="4436280" cy="5500440"/>
          </a:xfrm>
          <a:prstGeom prst="rect">
            <a:avLst/>
          </a:prstGeom>
          <a:noFill/>
          <a:ln w="0">
            <a:noFill/>
          </a:ln>
        </p:spPr>
        <p:txBody>
          <a:bodyPr lIns="90000" rIns="90000" tIns="45000" bIns="45000" anchor="b">
            <a:normAutofit/>
          </a:bodyPr>
          <a:p>
            <a:pPr algn="r">
              <a:lnSpc>
                <a:spcPct val="100000"/>
              </a:lnSpc>
              <a:spcBef>
                <a:spcPts val="479"/>
              </a:spcBef>
              <a:buClr>
                <a:srgbClr val="f0a22e"/>
              </a:buClr>
              <a:buSzPct val="70000"/>
              <a:buFont typeface="Wingdings" charset="2"/>
              <a:buChar char=""/>
            </a:pPr>
            <a:r>
              <a:rPr b="0" lang="es-ES" sz="2400" spc="-1" strike="noStrike">
                <a:solidFill>
                  <a:srgbClr val="009900"/>
                </a:solidFill>
                <a:latin typeface="Franklin Gothic Book"/>
              </a:rPr>
              <a:t> </a:t>
            </a:r>
            <a:r>
              <a:rPr b="1" lang="es-ES" sz="2400" spc="-1" strike="noStrike" u="sng">
                <a:solidFill>
                  <a:srgbClr val="009900"/>
                </a:solidFill>
                <a:uFillTx/>
                <a:latin typeface="Franklin Gothic Book"/>
              </a:rPr>
              <a:t>FABRICACIÓN DEL ACEITE Y ENVASADO:</a:t>
            </a:r>
            <a:endParaRPr b="0" lang="es-ES" sz="2400" spc="-1" strike="noStrike">
              <a:solidFill>
                <a:srgbClr val="4e3b30"/>
              </a:solidFill>
              <a:latin typeface="Franklin Gothic Book"/>
            </a:endParaRPr>
          </a:p>
          <a:p>
            <a:pPr indent="0" algn="r">
              <a:lnSpc>
                <a:spcPct val="100000"/>
              </a:lnSpc>
              <a:spcBef>
                <a:spcPts val="479"/>
              </a:spcBef>
              <a:buNone/>
              <a:tabLst>
                <a:tab algn="l" pos="0"/>
              </a:tabLst>
            </a:pPr>
            <a:endParaRPr b="0" lang="es-ES" sz="2400" spc="-1" strike="noStrike">
              <a:solidFill>
                <a:srgbClr val="4e3b30"/>
              </a:solidFill>
              <a:latin typeface="Franklin Gothic Book"/>
            </a:endParaRPr>
          </a:p>
          <a:p>
            <a:pPr indent="0" algn="r">
              <a:lnSpc>
                <a:spcPct val="100000"/>
              </a:lnSpc>
              <a:spcBef>
                <a:spcPts val="360"/>
              </a:spcBef>
              <a:buNone/>
              <a:tabLst>
                <a:tab algn="l" pos="0"/>
              </a:tabLst>
            </a:pPr>
            <a:r>
              <a:rPr b="0" lang="es-ES" sz="1800" spc="-1" strike="noStrike">
                <a:solidFill>
                  <a:srgbClr val="44342a"/>
                </a:solidFill>
                <a:latin typeface="Franklin Gothic Book"/>
              </a:rPr>
              <a:t>Es la actividad mas representativa  de la empresa, abarca un largo proceso en que se analiza la acidez de la aceituna, posteriormente se pasa a la molturación de dicho fruto y después se separa el aceite mediante centrifugación a tres fases, a baja temperatura, no mas de 30º.</a:t>
            </a:r>
            <a:endParaRPr b="0" lang="es-ES" sz="1800" spc="-1" strike="noStrike">
              <a:solidFill>
                <a:srgbClr val="4e3b30"/>
              </a:solidFill>
              <a:latin typeface="Franklin Gothic Book"/>
            </a:endParaRPr>
          </a:p>
          <a:p>
            <a:pPr indent="0" algn="r">
              <a:lnSpc>
                <a:spcPct val="100000"/>
              </a:lnSpc>
              <a:spcBef>
                <a:spcPts val="360"/>
              </a:spcBef>
              <a:buNone/>
              <a:tabLst>
                <a:tab algn="l" pos="0"/>
              </a:tabLst>
            </a:pPr>
            <a:r>
              <a:rPr b="0" lang="es-ES" sz="1800" spc="-1" strike="noStrike">
                <a:solidFill>
                  <a:srgbClr val="44342a"/>
                </a:solidFill>
                <a:latin typeface="Franklin Gothic Book"/>
              </a:rPr>
              <a:t>El aceite es almacenado en una bodega hasta  que se analiza la calidad de este y finalmente se envasa en sus diferentes formatos.</a:t>
            </a:r>
            <a:endParaRPr b="0" lang="es-ES" sz="1800" spc="-1" strike="noStrike">
              <a:solidFill>
                <a:srgbClr val="4e3b30"/>
              </a:solidFill>
              <a:latin typeface="Franklin Gothic Book"/>
            </a:endParaRPr>
          </a:p>
          <a:p>
            <a:pPr indent="0" algn="r">
              <a:lnSpc>
                <a:spcPct val="100000"/>
              </a:lnSpc>
              <a:spcBef>
                <a:spcPts val="360"/>
              </a:spcBef>
              <a:buNone/>
              <a:tabLst>
                <a:tab algn="l" pos="0"/>
              </a:tabLst>
            </a:pPr>
            <a:endParaRPr b="0" lang="es-ES" sz="1800" spc="-1" strike="noStrike">
              <a:solidFill>
                <a:srgbClr val="4e3b30"/>
              </a:solidFill>
              <a:latin typeface="Franklin Gothic Book"/>
            </a:endParaRPr>
          </a:p>
          <a:p>
            <a:pPr indent="0">
              <a:lnSpc>
                <a:spcPct val="100000"/>
              </a:lnSpc>
              <a:spcBef>
                <a:spcPts val="360"/>
              </a:spcBef>
              <a:buNone/>
              <a:tabLst>
                <a:tab algn="l" pos="0"/>
              </a:tabLst>
            </a:pPr>
            <a:r>
              <a:rPr b="0" i="1" lang="es-ES" sz="1800" spc="-1" strike="noStrike">
                <a:solidFill>
                  <a:srgbClr val="7030a0"/>
                </a:solidFill>
                <a:latin typeface="Franklin Gothic Book"/>
              </a:rPr>
              <a:t>tecnología empleada </a:t>
            </a:r>
            <a:r>
              <a:rPr b="0" i="1" lang="es-ES" sz="1800" spc="-1" strike="noStrike">
                <a:solidFill>
                  <a:srgbClr val="44342a"/>
                </a:solidFill>
                <a:latin typeface="Franklin Gothic Book"/>
              </a:rPr>
              <a:t>   </a:t>
            </a:r>
            <a:endParaRPr b="0" lang="es-ES" sz="18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191" name="PlaceHolder 2"/>
          <p:cNvSpPr>
            <a:spLocks noGrp="1"/>
          </p:cNvSpPr>
          <p:nvPr>
            <p:ph type="title"/>
          </p:nvPr>
        </p:nvSpPr>
        <p:spPr>
          <a:xfrm>
            <a:off x="180360" y="357120"/>
            <a:ext cx="8606160" cy="999720"/>
          </a:xfrm>
          <a:prstGeom prst="rect">
            <a:avLst/>
          </a:prstGeom>
          <a:noFill/>
          <a:ln w="0">
            <a:noFill/>
          </a:ln>
        </p:spPr>
        <p:txBody>
          <a:bodyPr lIns="90000" rIns="90000" tIns="45000" bIns="45000" anchor="t">
            <a:normAutofit fontScale="83000"/>
          </a:bodyPr>
          <a:p>
            <a:pPr indent="0" algn="r">
              <a:lnSpc>
                <a:spcPct val="100000"/>
              </a:lnSpc>
              <a:buNone/>
            </a:pPr>
            <a:r>
              <a:rPr b="0" lang="es-ES" sz="3600" spc="-1" strike="noStrike" cap="all">
                <a:solidFill>
                  <a:srgbClr val="4e3b30"/>
                </a:solidFill>
                <a:latin typeface="Franklin Gothic Medium"/>
              </a:rPr>
              <a:t>Actividades</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2/4</a:t>
            </a:r>
            <a:br>
              <a:rPr sz="3600"/>
            </a:br>
            <a:endParaRPr b="0" lang="es-ES" sz="3600" spc="-1" strike="noStrike">
              <a:solidFill>
                <a:srgbClr val="000000"/>
              </a:solidFill>
              <a:latin typeface="Franklin Gothic Book"/>
            </a:endParaRPr>
          </a:p>
        </p:txBody>
      </p:sp>
      <p:pic>
        <p:nvPicPr>
          <p:cNvPr id="192" name="3 Imagen" descr="6[1].png"/>
          <p:cNvPicPr/>
          <p:nvPr/>
        </p:nvPicPr>
        <p:blipFill>
          <a:blip r:embed="rId1"/>
          <a:stretch/>
        </p:blipFill>
        <p:spPr>
          <a:xfrm>
            <a:off x="5572080" y="1928880"/>
            <a:ext cx="3285720" cy="4428720"/>
          </a:xfrm>
          <a:prstGeom prst="rect">
            <a:avLst/>
          </a:prstGeom>
          <a:ln w="0">
            <a:noFill/>
          </a:ln>
        </p:spPr>
      </p:pic>
      <p:sp>
        <p:nvSpPr>
          <p:cNvPr id="193" name="4 Flecha derecha">
            <a:hlinkClick r:id="rId2" action="ppaction://hlinksldjump"/>
          </p:cNvPr>
          <p:cNvSpPr/>
          <p:nvPr/>
        </p:nvSpPr>
        <p:spPr>
          <a:xfrm>
            <a:off x="3286080" y="5857920"/>
            <a:ext cx="978120" cy="484200"/>
          </a:xfrm>
          <a:prstGeom prst="rightArrow">
            <a:avLst>
              <a:gd name="adj1" fmla="val 50000"/>
              <a:gd name="adj2" fmla="val 50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07040" y="1143000"/>
            <a:ext cx="4222080" cy="1928520"/>
          </a:xfrm>
          <a:prstGeom prst="rect">
            <a:avLst/>
          </a:prstGeom>
          <a:noFill/>
          <a:ln w="0">
            <a:noFill/>
          </a:ln>
        </p:spPr>
        <p:txBody>
          <a:bodyPr lIns="90000" rIns="90000" tIns="45000" bIns="45000" anchor="b">
            <a:normAutofit/>
          </a:bodyPr>
          <a:p>
            <a:pPr algn="r">
              <a:lnSpc>
                <a:spcPct val="100000"/>
              </a:lnSpc>
              <a:spcBef>
                <a:spcPts val="479"/>
              </a:spcBef>
              <a:buClr>
                <a:srgbClr val="f0a22e"/>
              </a:buClr>
              <a:buSzPct val="70000"/>
              <a:buFont typeface="Wingdings" charset="2"/>
              <a:buChar char=""/>
            </a:pPr>
            <a:r>
              <a:rPr b="1" lang="es-ES" sz="2400" spc="-1" strike="noStrike" u="sng">
                <a:solidFill>
                  <a:srgbClr val="009900"/>
                </a:solidFill>
                <a:uFillTx/>
                <a:latin typeface="Franklin Gothic Book"/>
              </a:rPr>
              <a:t> </a:t>
            </a:r>
            <a:r>
              <a:rPr b="1" lang="es-ES" sz="2400" spc="-1" strike="noStrike" u="sng">
                <a:solidFill>
                  <a:srgbClr val="009900"/>
                </a:solidFill>
                <a:uFillTx/>
                <a:latin typeface="Franklin Gothic Book"/>
              </a:rPr>
              <a:t>RECICLADO DEL HUESO Y FABRICACION DE BIOCOMBUSTIBLES </a:t>
            </a:r>
            <a:endParaRPr b="0" lang="es-ES" sz="2400" spc="-1" strike="noStrike">
              <a:solidFill>
                <a:srgbClr val="4e3b30"/>
              </a:solidFill>
              <a:latin typeface="Franklin Gothic Book"/>
            </a:endParaRPr>
          </a:p>
          <a:p>
            <a:pPr indent="0" algn="r">
              <a:lnSpc>
                <a:spcPct val="100000"/>
              </a:lnSpc>
              <a:spcBef>
                <a:spcPts val="479"/>
              </a:spcBef>
              <a:buNone/>
            </a:pPr>
            <a:endParaRPr b="0" lang="es-ES" sz="2400" spc="-1" strike="noStrike">
              <a:solidFill>
                <a:srgbClr val="4e3b30"/>
              </a:solidFill>
              <a:latin typeface="Franklin Gothic Book"/>
            </a:endParaRPr>
          </a:p>
        </p:txBody>
      </p:sp>
      <p:sp>
        <p:nvSpPr>
          <p:cNvPr id="195" name="PlaceHolder 2"/>
          <p:cNvSpPr>
            <a:spLocks noGrp="1"/>
          </p:cNvSpPr>
          <p:nvPr>
            <p:ph type="title"/>
          </p:nvPr>
        </p:nvSpPr>
        <p:spPr>
          <a:xfrm>
            <a:off x="180360" y="428760"/>
            <a:ext cx="8606160" cy="928440"/>
          </a:xfrm>
          <a:prstGeom prst="rect">
            <a:avLst/>
          </a:prstGeom>
          <a:noFill/>
          <a:ln w="0">
            <a:noFill/>
          </a:ln>
        </p:spPr>
        <p:txBody>
          <a:bodyPr lIns="90000" rIns="90000" tIns="45000" bIns="45000" anchor="t">
            <a:normAutofit fontScale="76000"/>
          </a:bodyPr>
          <a:p>
            <a:pPr indent="0" algn="r">
              <a:lnSpc>
                <a:spcPct val="100000"/>
              </a:lnSpc>
              <a:buNone/>
            </a:pPr>
            <a:r>
              <a:rPr b="0" lang="es-ES" sz="3600" spc="-1" strike="noStrike" cap="all">
                <a:solidFill>
                  <a:srgbClr val="4e3b30"/>
                </a:solidFill>
                <a:latin typeface="Franklin Gothic Medium"/>
              </a:rPr>
              <a:t>Actividades</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3/4</a:t>
            </a:r>
            <a:br>
              <a:rPr sz="3600"/>
            </a:br>
            <a:endParaRPr b="0" lang="es-ES" sz="3600" spc="-1" strike="noStrike">
              <a:solidFill>
                <a:srgbClr val="000000"/>
              </a:solidFill>
              <a:latin typeface="Franklin Gothic Book"/>
            </a:endParaRPr>
          </a:p>
        </p:txBody>
      </p:sp>
      <p:sp>
        <p:nvSpPr>
          <p:cNvPr id="196" name="4 CuadroTexto"/>
          <p:cNvSpPr/>
          <p:nvPr/>
        </p:nvSpPr>
        <p:spPr>
          <a:xfrm>
            <a:off x="857160" y="2786040"/>
            <a:ext cx="4571640" cy="475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ES" sz="1800" spc="-1" strike="noStrike">
                <a:solidFill>
                  <a:srgbClr val="000000"/>
                </a:solidFill>
                <a:latin typeface="Franklin Gothic Book"/>
              </a:rPr>
              <a:t>Una vez separado el aceite de los demás componentes de la aceituna, hay partes que se pueden reciclar.</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Del orujo se separa un tipo de aceite, no comestible, que se seca y se utiliza para realizar biocombustibles.</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Del mismo, la empresa también extrae el hueso y lo utiliza también para la bioenergía.</a:t>
            </a:r>
            <a:endParaRPr b="0" lang="en-US" sz="1800" spc="-1" strike="noStrike">
              <a:solidFill>
                <a:srgbClr val="000000"/>
              </a:solidFill>
              <a:latin typeface="Arial"/>
            </a:endParaRPr>
          </a:p>
          <a:p>
            <a:pPr>
              <a:lnSpc>
                <a:spcPct val="100000"/>
              </a:lnSpc>
            </a:pPr>
            <a:r>
              <a:rPr b="0" lang="es-ES" sz="1800" spc="-1" strike="noStrike">
                <a:solidFill>
                  <a:srgbClr val="000000"/>
                </a:solidFill>
                <a:latin typeface="Franklin Gothic Book"/>
              </a:rPr>
              <a:t>Con esta actividad el desecho se hace mínimo y la contaminación al medio ambiente mediante el vertido de desechos tambié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i="1" lang="es-ES" sz="1800" spc="-1" strike="noStrike">
                <a:solidFill>
                  <a:srgbClr val="7030a0"/>
                </a:solidFill>
                <a:latin typeface="Franklin Gothic Book"/>
              </a:rPr>
              <a:t>Tecnología empleada</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197" name="Picture 2" descr="C:\Users\La Oportunidad\Pictures\organizciom\319814_2[1].jpg"/>
          <p:cNvPicPr/>
          <p:nvPr/>
        </p:nvPicPr>
        <p:blipFill>
          <a:blip r:embed="rId1"/>
          <a:stretch/>
        </p:blipFill>
        <p:spPr>
          <a:xfrm>
            <a:off x="5429160" y="1785960"/>
            <a:ext cx="3285720" cy="4142880"/>
          </a:xfrm>
          <a:prstGeom prst="rect">
            <a:avLst/>
          </a:prstGeom>
          <a:ln w="0">
            <a:noFill/>
          </a:ln>
        </p:spPr>
      </p:pic>
      <p:sp>
        <p:nvSpPr>
          <p:cNvPr id="198" name="5 Flecha derecha">
            <a:hlinkClick r:id="rId2" action="ppaction://hlinksldjump"/>
          </p:cNvPr>
          <p:cNvSpPr/>
          <p:nvPr/>
        </p:nvSpPr>
        <p:spPr>
          <a:xfrm>
            <a:off x="3500280" y="6215040"/>
            <a:ext cx="978120" cy="484200"/>
          </a:xfrm>
          <a:prstGeom prst="rightArrow">
            <a:avLst>
              <a:gd name="adj1" fmla="val 50000"/>
              <a:gd name="adj2" fmla="val 50000"/>
            </a:avLst>
          </a:prstGeom>
          <a:solidFill>
            <a:srgbClr val="f0a22e"/>
          </a:solidFill>
          <a:ln>
            <a:solidFill>
              <a:srgbClr val="b1772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Franklin Gothic Book"/>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707040" y="1428840"/>
            <a:ext cx="4936320" cy="5143320"/>
          </a:xfrm>
          <a:prstGeom prst="rect">
            <a:avLst/>
          </a:prstGeom>
          <a:noFill/>
          <a:ln w="0">
            <a:noFill/>
          </a:ln>
        </p:spPr>
        <p:txBody>
          <a:bodyPr lIns="90000" rIns="90000" tIns="45000" bIns="45000" anchor="b">
            <a:normAutofit fontScale="97000"/>
          </a:bodyPr>
          <a:p>
            <a:pPr algn="r">
              <a:lnSpc>
                <a:spcPct val="100000"/>
              </a:lnSpc>
              <a:spcBef>
                <a:spcPts val="479"/>
              </a:spcBef>
              <a:buClr>
                <a:srgbClr val="f0a22e"/>
              </a:buClr>
              <a:buSzPct val="70000"/>
              <a:buFont typeface="Wingdings" charset="2"/>
              <a:buChar char=""/>
            </a:pPr>
            <a:r>
              <a:rPr b="1" lang="es-ES" sz="2400" spc="-1" strike="noStrike" u="sng">
                <a:solidFill>
                  <a:srgbClr val="009900"/>
                </a:solidFill>
                <a:uFillTx/>
                <a:latin typeface="Franklin Gothic Book"/>
              </a:rPr>
              <a:t> </a:t>
            </a:r>
            <a:r>
              <a:rPr b="1" lang="es-ES" sz="2400" spc="-1" strike="noStrike" u="sng">
                <a:solidFill>
                  <a:srgbClr val="009900"/>
                </a:solidFill>
                <a:uFillTx/>
                <a:latin typeface="Franklin Gothic Book"/>
              </a:rPr>
              <a:t>VENTA DE ACEITE  Y EXPOTACION</a:t>
            </a:r>
            <a:endParaRPr b="0" lang="es-ES" sz="2400" spc="-1" strike="noStrike">
              <a:solidFill>
                <a:srgbClr val="4e3b30"/>
              </a:solidFill>
              <a:latin typeface="Franklin Gothic Book"/>
            </a:endParaRPr>
          </a:p>
          <a:p>
            <a:pPr indent="0" algn="r">
              <a:lnSpc>
                <a:spcPct val="100000"/>
              </a:lnSpc>
              <a:spcBef>
                <a:spcPts val="400"/>
              </a:spcBef>
              <a:buNone/>
              <a:tabLst>
                <a:tab algn="l" pos="0"/>
              </a:tabLst>
            </a:pPr>
            <a:r>
              <a:rPr b="0" lang="es-ES" sz="2000" spc="-1" strike="noStrike">
                <a:solidFill>
                  <a:srgbClr val="44342a"/>
                </a:solidFill>
                <a:latin typeface="Franklin Gothic Book"/>
              </a:rPr>
              <a:t>Es el final del proceso y por el que la empresa obtiene sus beneficios.</a:t>
            </a:r>
            <a:endParaRPr b="0" lang="es-ES" sz="2000" spc="-1" strike="noStrike">
              <a:solidFill>
                <a:srgbClr val="4e3b30"/>
              </a:solidFill>
              <a:latin typeface="Franklin Gothic Book"/>
            </a:endParaRPr>
          </a:p>
          <a:p>
            <a:pPr indent="0" algn="r">
              <a:lnSpc>
                <a:spcPct val="100000"/>
              </a:lnSpc>
              <a:spcBef>
                <a:spcPts val="400"/>
              </a:spcBef>
              <a:buNone/>
              <a:tabLst>
                <a:tab algn="l" pos="0"/>
              </a:tabLst>
            </a:pPr>
            <a:r>
              <a:rPr b="0" lang="es-ES" sz="2000" spc="-1" strike="noStrike">
                <a:solidFill>
                  <a:srgbClr val="44342a"/>
                </a:solidFill>
                <a:latin typeface="Franklin Gothic Book"/>
              </a:rPr>
              <a:t>El aceite es vendido directamente en el molino, principalmente a los agricultores que anteriormente llevaron su aceituna a los puntos de compra o distribuido por  los comercios de toda España.</a:t>
            </a: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r>
              <a:rPr b="0" lang="es-ES" sz="2000" spc="-1" strike="noStrike">
                <a:solidFill>
                  <a:srgbClr val="44342a"/>
                </a:solidFill>
                <a:latin typeface="Franklin Gothic Book"/>
              </a:rPr>
              <a:t>Además, no todo el aceite se vende en España, si no que una parte se exporta al extranjero sobre todo a países como Francia, Alemania, Italia, China, Japón y Suiza.</a:t>
            </a: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p:txBody>
      </p:sp>
      <p:sp>
        <p:nvSpPr>
          <p:cNvPr id="200" name="PlaceHolder 2"/>
          <p:cNvSpPr>
            <a:spLocks noGrp="1"/>
          </p:cNvSpPr>
          <p:nvPr>
            <p:ph type="title"/>
          </p:nvPr>
        </p:nvSpPr>
        <p:spPr>
          <a:xfrm>
            <a:off x="180360" y="214200"/>
            <a:ext cx="8606160" cy="928440"/>
          </a:xfrm>
          <a:prstGeom prst="rect">
            <a:avLst/>
          </a:prstGeom>
          <a:noFill/>
          <a:ln w="0">
            <a:noFill/>
          </a:ln>
        </p:spPr>
        <p:txBody>
          <a:bodyPr lIns="90000" rIns="90000" tIns="45000" bIns="45000" anchor="t">
            <a:noAutofit/>
          </a:bodyPr>
          <a:p>
            <a:pPr indent="0" algn="r">
              <a:lnSpc>
                <a:spcPct val="100000"/>
              </a:lnSpc>
              <a:buNone/>
            </a:pPr>
            <a:r>
              <a:rPr b="0" lang="es-ES" sz="3600" spc="-1" strike="noStrike" cap="all">
                <a:solidFill>
                  <a:srgbClr val="4e3b30"/>
                </a:solidFill>
                <a:latin typeface="Franklin Gothic Medium"/>
              </a:rPr>
              <a:t>Actividades</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	</a:t>
            </a:r>
            <a:r>
              <a:rPr b="0" lang="es-ES" sz="3600" spc="-1" strike="noStrike" cap="all">
                <a:solidFill>
                  <a:srgbClr val="4e3b30"/>
                </a:solidFill>
                <a:latin typeface="Franklin Gothic Medium"/>
              </a:rPr>
              <a:t>4/4</a:t>
            </a:r>
            <a:endParaRPr b="0" lang="es-ES" sz="3600" spc="-1" strike="noStrike">
              <a:solidFill>
                <a:srgbClr val="000000"/>
              </a:solidFill>
              <a:latin typeface="Franklin Gothic Book"/>
            </a:endParaRPr>
          </a:p>
        </p:txBody>
      </p:sp>
      <p:pic>
        <p:nvPicPr>
          <p:cNvPr id="201" name="3 Imagen" descr="RecuperarImatges[1].jpg"/>
          <p:cNvPicPr/>
          <p:nvPr/>
        </p:nvPicPr>
        <p:blipFill>
          <a:blip r:embed="rId1"/>
          <a:stretch/>
        </p:blipFill>
        <p:spPr>
          <a:xfrm>
            <a:off x="6000840" y="1523880"/>
            <a:ext cx="2999880" cy="440496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071360" y="1571760"/>
            <a:ext cx="7143480" cy="4928760"/>
          </a:xfrm>
          <a:prstGeom prst="rect">
            <a:avLst/>
          </a:prstGeom>
          <a:noFill/>
          <a:ln w="0">
            <a:noFill/>
          </a:ln>
        </p:spPr>
        <p:txBody>
          <a:bodyPr lIns="90000" rIns="90000" tIns="45000" bIns="45000" anchor="b">
            <a:normAutofit fontScale="79000"/>
          </a:bodyPr>
          <a:p>
            <a:pPr indent="0" algn="just">
              <a:lnSpc>
                <a:spcPct val="100000"/>
              </a:lnSpc>
              <a:spcBef>
                <a:spcPts val="621"/>
              </a:spcBef>
              <a:buNone/>
              <a:tabLst>
                <a:tab algn="l" pos="0"/>
              </a:tabLst>
            </a:pPr>
            <a:r>
              <a:rPr b="0" lang="es-ES" sz="2600" spc="-1" strike="noStrike">
                <a:solidFill>
                  <a:srgbClr val="44342a"/>
                </a:solidFill>
                <a:latin typeface="Franklin Gothic Book"/>
              </a:rPr>
              <a:t>Esta empresa que en sus inicios se dedicaba simplemente a la compraventa de aceite y residuos, abarca en la actualidad todo el proceso de fabricación del aceite</a:t>
            </a:r>
            <a:r>
              <a:rPr b="0" lang="es-ES" sz="3100" spc="-1" strike="noStrike">
                <a:solidFill>
                  <a:srgbClr val="44342a"/>
                </a:solidFill>
                <a:latin typeface="Franklin Gothic Book"/>
              </a:rPr>
              <a:t>, </a:t>
            </a:r>
            <a:r>
              <a:rPr b="0" lang="es-ES" sz="2600" spc="-1" strike="noStrike">
                <a:solidFill>
                  <a:srgbClr val="44342a"/>
                </a:solidFill>
                <a:latin typeface="Franklin Gothic Book"/>
              </a:rPr>
              <a:t>siendo una de las empresas mas significativas de su entorno, creando gran numero de puestos de empleo y ayudando a desarrollar la economía de la zona.</a:t>
            </a:r>
            <a:endParaRPr b="0" lang="es-ES" sz="2600" spc="-1" strike="noStrike">
              <a:solidFill>
                <a:srgbClr val="4e3b30"/>
              </a:solidFill>
              <a:latin typeface="Franklin Gothic Book"/>
            </a:endParaRPr>
          </a:p>
          <a:p>
            <a:pPr indent="0" algn="just">
              <a:lnSpc>
                <a:spcPct val="100000"/>
              </a:lnSpc>
              <a:spcBef>
                <a:spcPts val="519"/>
              </a:spcBef>
              <a:buNone/>
              <a:tabLst>
                <a:tab algn="l" pos="0"/>
              </a:tabLst>
            </a:pPr>
            <a:endParaRPr b="0" lang="es-ES" sz="2600" spc="-1" strike="noStrike">
              <a:solidFill>
                <a:srgbClr val="4e3b30"/>
              </a:solidFill>
              <a:latin typeface="Franklin Gothic Book"/>
            </a:endParaRPr>
          </a:p>
          <a:p>
            <a:pPr indent="0" algn="just">
              <a:lnSpc>
                <a:spcPct val="100000"/>
              </a:lnSpc>
              <a:spcBef>
                <a:spcPts val="519"/>
              </a:spcBef>
              <a:buNone/>
              <a:tabLst>
                <a:tab algn="l" pos="0"/>
              </a:tabLst>
            </a:pPr>
            <a:r>
              <a:rPr b="0" lang="es-ES" sz="2600" spc="-1" strike="noStrike">
                <a:solidFill>
                  <a:srgbClr val="44342a"/>
                </a:solidFill>
                <a:latin typeface="Franklin Gothic Book"/>
              </a:rPr>
              <a:t>Esta empresa, que es considerablemente nueva, ya que su actividad molinera comenzó en 1994, hace especial hincapié en la innovación y la investigación y se preocupa principalmente por la calidad de su producto, obteniendo con ello un reconocimiento considerable y que a nadie deja indiferente.</a:t>
            </a:r>
            <a:endParaRPr b="0" lang="es-ES" sz="2600" spc="-1" strike="noStrike">
              <a:solidFill>
                <a:srgbClr val="4e3b30"/>
              </a:solidFill>
              <a:latin typeface="Franklin Gothic Book"/>
            </a:endParaRPr>
          </a:p>
          <a:p>
            <a:pPr indent="0" algn="r">
              <a:lnSpc>
                <a:spcPct val="100000"/>
              </a:lnSpc>
              <a:spcBef>
                <a:spcPts val="400"/>
              </a:spcBef>
              <a:buNone/>
              <a:tabLst>
                <a:tab algn="l" pos="0"/>
              </a:tabLst>
            </a:pPr>
            <a:endParaRPr b="0" lang="es-ES" sz="2000" spc="-1" strike="noStrike">
              <a:solidFill>
                <a:srgbClr val="4e3b30"/>
              </a:solidFill>
              <a:latin typeface="Franklin Gothic Book"/>
            </a:endParaRPr>
          </a:p>
          <a:p>
            <a:pPr indent="0" algn="r">
              <a:lnSpc>
                <a:spcPct val="100000"/>
              </a:lnSpc>
              <a:spcBef>
                <a:spcPts val="400"/>
              </a:spcBef>
              <a:buNone/>
              <a:tabLst>
                <a:tab algn="l" pos="0"/>
              </a:tabLst>
            </a:pPr>
            <a:r>
              <a:rPr b="0" lang="es-ES" sz="2000" spc="-1" strike="noStrike">
                <a:solidFill>
                  <a:srgbClr val="44342a"/>
                </a:solidFill>
                <a:latin typeface="Franklin Gothic Book"/>
              </a:rPr>
              <a:t>	</a:t>
            </a:r>
            <a:r>
              <a:rPr b="0" lang="es-ES" sz="2000" spc="-1" strike="noStrike">
                <a:solidFill>
                  <a:srgbClr val="44342a"/>
                </a:solidFill>
                <a:latin typeface="Franklin Gothic Book"/>
              </a:rPr>
              <a:t>	</a:t>
            </a:r>
            <a:r>
              <a:rPr b="0" lang="es-ES" sz="2000" spc="-1" strike="noStrike">
                <a:solidFill>
                  <a:srgbClr val="44342a"/>
                </a:solidFill>
                <a:latin typeface="Franklin Gothic Book"/>
              </a:rPr>
              <a:t>	</a:t>
            </a:r>
            <a:r>
              <a:rPr b="0" lang="es-ES" sz="2000" spc="-1" strike="noStrike">
                <a:solidFill>
                  <a:srgbClr val="44342a"/>
                </a:solidFill>
                <a:latin typeface="Franklin Gothic Book"/>
              </a:rPr>
              <a:t>	</a:t>
            </a:r>
            <a:r>
              <a:rPr b="0" lang="es-ES" sz="2000" spc="-1" strike="noStrike">
                <a:solidFill>
                  <a:srgbClr val="44342a"/>
                </a:solidFill>
                <a:latin typeface="Franklin Gothic Book"/>
              </a:rPr>
              <a:t>	</a:t>
            </a:r>
            <a:r>
              <a:rPr b="0" lang="es-ES" sz="2000" spc="-1" strike="noStrike">
                <a:solidFill>
                  <a:srgbClr val="44342a"/>
                </a:solidFill>
                <a:latin typeface="Franklin Gothic Book"/>
              </a:rPr>
              <a:t>	</a:t>
            </a:r>
            <a:endParaRPr b="0" lang="es-ES" sz="2000" spc="-1" strike="noStrike">
              <a:solidFill>
                <a:srgbClr val="4e3b30"/>
              </a:solidFill>
              <a:latin typeface="Franklin Gothic Book"/>
            </a:endParaRPr>
          </a:p>
        </p:txBody>
      </p:sp>
      <p:sp>
        <p:nvSpPr>
          <p:cNvPr id="203" name="PlaceHolder 2"/>
          <p:cNvSpPr>
            <a:spLocks noGrp="1"/>
          </p:cNvSpPr>
          <p:nvPr>
            <p:ph type="title"/>
          </p:nvPr>
        </p:nvSpPr>
        <p:spPr>
          <a:xfrm>
            <a:off x="180360" y="357120"/>
            <a:ext cx="8677440" cy="1213920"/>
          </a:xfrm>
          <a:prstGeom prst="rect">
            <a:avLst/>
          </a:prstGeom>
          <a:noFill/>
          <a:ln w="0">
            <a:noFill/>
          </a:ln>
        </p:spPr>
        <p:txBody>
          <a:bodyPr lIns="90000" rIns="90000" tIns="45000" bIns="45000" anchor="t">
            <a:normAutofit/>
          </a:bodyPr>
          <a:p>
            <a:pPr indent="0" algn="r">
              <a:lnSpc>
                <a:spcPct val="100000"/>
              </a:lnSpc>
              <a:buNone/>
            </a:pPr>
            <a:r>
              <a:rPr b="0" lang="es-ES" sz="3600" spc="-1" strike="noStrike" cap="all">
                <a:solidFill>
                  <a:srgbClr val="4e3b30"/>
                </a:solidFill>
                <a:latin typeface="Franklin Gothic Medium"/>
              </a:rPr>
              <a:t>Características </a:t>
            </a:r>
            <a:br>
              <a:rPr sz="3600"/>
            </a:br>
            <a:endParaRPr b="0" lang="es-ES" sz="3600" spc="-1" strike="noStrike">
              <a:solidFill>
                <a:srgbClr val="000000"/>
              </a:solidFill>
              <a:latin typeface="Franklin Gothic Book"/>
            </a:endParaRPr>
          </a:p>
        </p:txBody>
      </p:sp>
      <p:sp>
        <p:nvSpPr>
          <p:cNvPr id="204" name="5 CuadroTexto"/>
          <p:cNvSpPr/>
          <p:nvPr/>
        </p:nvSpPr>
        <p:spPr>
          <a:xfrm>
            <a:off x="6286680" y="6072120"/>
            <a:ext cx="1714320" cy="400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ES" sz="1800" spc="-1" strike="noStrike" u="sng">
                <a:solidFill>
                  <a:srgbClr val="ad1f1f"/>
                </a:solidFill>
                <a:uFillTx/>
                <a:latin typeface="Franklin Gothic Book"/>
                <a:hlinkClick r:id="rId1" action="ppaction://hlinksldjump"/>
              </a:rPr>
              <a:t>VOLVER</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Viajes">
  <a:themeElements>
    <a:clrScheme name="Viaje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Viajes">
  <a:themeElements>
    <a:clrScheme name="Viaje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Viajes">
  <a:themeElements>
    <a:clrScheme name="Viaje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Viajes">
  <a:themeElements>
    <a:clrScheme name="Viajes">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990</TotalTime>
  <Application>LibreOffice/7.4.7.2$Linux_X86_64 LibreOffice_project/40$Build-2</Application>
  <AppVersion>15.0000</AppVersion>
  <Words>3552</Words>
  <Paragraphs>414</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2:38:45Z</dcterms:created>
  <dc:creator>silvia</dc:creator>
  <dc:description/>
  <dc:language>en-US</dc:language>
  <cp:lastModifiedBy>La Oportunidad</cp:lastModifiedBy>
  <dcterms:modified xsi:type="dcterms:W3CDTF">2009-06-01T10:07:27Z</dcterms:modified>
  <cp:revision>106</cp:revision>
  <dc:subject/>
  <dc:title>Aceites fuente la madera   (manuel montes mari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sentación en pantalla (4:3)</vt:lpwstr>
  </property>
  <property fmtid="{D5CDD505-2E9C-101B-9397-08002B2CF9AE}" pid="3" name="Slides">
    <vt:r8>41</vt:r8>
  </property>
</Properties>
</file>